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417D-B822-448D-9FF6-CD5D7FC2C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33C4-FAEB-49E3-A293-76D5471DE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AD21-C1A5-45B2-803D-938DD195F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C79B-278A-4607-93B5-3CEB99D85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50BE-C23B-493E-A6E0-3A769177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7896B-2AB1-44F7-827E-AA879664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7292C-ED8F-48D7-9596-CF0133B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84051-004D-487B-91C1-C2130718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09182-959D-423F-8DC6-16BFE362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E91D2-7447-4913-BE31-CA846590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72A9F-115C-4FF2-AB08-11230458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6950-2DA4-4B4C-99E3-81A57FCC5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75579-4101-4FAE-B147-B51511A9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D3ACB-B30B-439A-98DD-73474BDF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B0744-642D-40BB-929A-AD99E2D6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0BA45-444C-4643-9BF3-FFC25BD1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ABB44-8FF7-4A6E-A59A-9B42314E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15F7-F40B-4C1B-AA06-0477E58A1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C39A-9C05-4F5E-AC9F-08D2199C1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6B8A-E404-4F4E-855C-2DDB55CF2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17AC-DC3A-4DBF-8AF5-9F4F5299E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E704-CC2C-4126-9B5C-6B2BC41C3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3BB5-3176-4EE2-8C19-4745D1F89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191E-F363-49CB-92BD-E66E7B53D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97C6-96FC-4898-886D-7FC5E4FE64FF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603B-EE9D-465A-9CC2-5C1AB4D6174E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Texturing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ipmapp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terpolate between those bilinear valu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Gives trilinear interpol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057400" y="3962520"/>
            <a:ext cx="685800" cy="761760"/>
            <a:chOff x="2057400" y="3962520"/>
            <a:chExt cx="685800" cy="761760"/>
          </a:xfrm>
        </p:grpSpPr>
        <p:sp>
          <p:nvSpPr>
            <p:cNvPr id="175" name=""/>
            <p:cNvSpPr/>
            <p:nvPr/>
          </p:nvSpPr>
          <p:spPr>
            <a:xfrm flipV="1">
              <a:off x="2057400" y="3962520"/>
              <a:ext cx="685800" cy="761760"/>
            </a:xfrm>
            <a:prstGeom prst="line">
              <a:avLst/>
            </a:prstGeom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33720" y="4495680"/>
              <a:ext cx="152280" cy="152640"/>
            </a:xfrm>
            <a:prstGeom prst="ellipse">
              <a:avLst/>
            </a:prstGeom>
            <a:solidFill>
              <a:srgbClr val="fff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057400" y="2666520"/>
            <a:ext cx="685800" cy="762120"/>
            <a:chOff x="2057400" y="2666520"/>
            <a:chExt cx="685800" cy="762120"/>
          </a:xfrm>
        </p:grpSpPr>
        <p:sp>
          <p:nvSpPr>
            <p:cNvPr id="178" name=""/>
            <p:cNvSpPr/>
            <p:nvPr/>
          </p:nvSpPr>
          <p:spPr>
            <a:xfrm flipV="1">
              <a:off x="2057400" y="2666520"/>
              <a:ext cx="685800" cy="762120"/>
            </a:xfrm>
            <a:prstGeom prst="line">
              <a:avLst/>
            </a:prstGeom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33720" y="3200400"/>
              <a:ext cx="152280" cy="152280"/>
            </a:xfrm>
            <a:prstGeom prst="ellipse">
              <a:avLst/>
            </a:prstGeom>
            <a:solidFill>
              <a:srgbClr val="fff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209680" y="3276720"/>
            <a:ext cx="0" cy="1295280"/>
          </a:xfrm>
          <a:prstGeom prst="line">
            <a:avLst/>
          </a:prstGeom>
          <a:ln w="284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49528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nstant time filtering: 8 texel accesse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ow to compute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d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1000" y="2403360"/>
            <a:ext cx="4964040" cy="2399760"/>
            <a:chOff x="351000" y="2403360"/>
            <a:chExt cx="4964040" cy="2399760"/>
          </a:xfrm>
        </p:grpSpPr>
        <p:grpSp>
          <p:nvGrpSpPr>
            <p:cNvPr id="183" name=""/>
            <p:cNvGrpSpPr/>
            <p:nvPr/>
          </p:nvGrpSpPr>
          <p:grpSpPr>
            <a:xfrm>
              <a:off x="351000" y="2666520"/>
              <a:ext cx="3535200" cy="2136600"/>
              <a:chOff x="351000" y="2666520"/>
              <a:chExt cx="3535200" cy="213660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76520" y="2666520"/>
                <a:ext cx="2209680" cy="2057760"/>
                <a:chOff x="1676520" y="2666520"/>
                <a:chExt cx="2209680" cy="205776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1676520" y="2666880"/>
                  <a:ext cx="2209320" cy="762120"/>
                  <a:chOff x="1676520" y="2666880"/>
                  <a:chExt cx="2209320" cy="7621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>
                    <a:off x="1676520" y="2666880"/>
                    <a:ext cx="761760" cy="762120"/>
                  </a:xfrm>
                  <a:prstGeom prst="line">
                    <a:avLst/>
                  </a:prstGeom>
                  <a:ln w="19080">
                    <a:solidFill>
                      <a:srgbClr val="ffffe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3124080" y="2666880"/>
                    <a:ext cx="761760" cy="762120"/>
                  </a:xfrm>
                  <a:prstGeom prst="line">
                    <a:avLst/>
                  </a:prstGeom>
                  <a:ln w="19080">
                    <a:solidFill>
                      <a:srgbClr val="ffffe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676520" y="3429000"/>
                    <a:ext cx="144756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438280" y="2666880"/>
                    <a:ext cx="144756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H="1">
                  <a:off x="1676520" y="3962520"/>
                  <a:ext cx="761760" cy="761760"/>
                </a:xfrm>
                <a:prstGeom prst="line">
                  <a:avLst/>
                </a:prstGeom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3123720" y="3962520"/>
                  <a:ext cx="762120" cy="761760"/>
                </a:xfrm>
                <a:prstGeom prst="line">
                  <a:avLst/>
                </a:prstGeom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676520" y="4724280"/>
                  <a:ext cx="14475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200400" y="3962520"/>
                  <a:ext cx="6858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676520" y="3429000"/>
                  <a:ext cx="0" cy="12952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3124080" y="3429000"/>
                  <a:ext cx="0" cy="12952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3886200" y="2666520"/>
                  <a:ext cx="0" cy="12956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2438280" y="3505320"/>
                  <a:ext cx="0" cy="457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2438280" y="2666520"/>
                  <a:ext cx="0" cy="68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438280" y="39625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351000" y="3657600"/>
                <a:ext cx="1095120" cy="1145520"/>
                <a:chOff x="351000" y="3657600"/>
                <a:chExt cx="1095120" cy="11455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33520" y="4648320"/>
                  <a:ext cx="609480" cy="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533520" y="4038480"/>
                  <a:ext cx="0" cy="6098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33520" y="4266720"/>
                  <a:ext cx="304560" cy="3812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63200" y="388620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sv-SE" sz="2400" spc="-1" strike="noStrike">
                      <a:solidFill>
                        <a:srgbClr val="ffff0b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13120" y="4343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sv-SE" sz="2400" spc="-1" strike="noStrike">
                      <a:solidFill>
                        <a:srgbClr val="ffff0b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1000" y="3657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sv-SE" sz="2400" spc="-1" strike="noStrike">
                      <a:solidFill>
                        <a:srgbClr val="ffff0b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3886200" y="240336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Level n+1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6560" y="365760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Level n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72440" y="3048120"/>
            <a:ext cx="2113560" cy="838080"/>
            <a:chOff x="172440" y="3048120"/>
            <a:chExt cx="2113560" cy="838080"/>
          </a:xfrm>
        </p:grpSpPr>
        <p:sp>
          <p:nvSpPr>
            <p:cNvPr id="210" name=""/>
            <p:cNvSpPr/>
            <p:nvPr/>
          </p:nvSpPr>
          <p:spPr>
            <a:xfrm>
              <a:off x="2133720" y="3733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440" y="3048120"/>
              <a:ext cx="12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(</a:t>
              </a:r>
              <a:r>
                <a:rPr b="0" i="1" lang="sv-SE" sz="2400" spc="-1" strike="noStrike">
                  <a:solidFill>
                    <a:srgbClr val="ffffeb"/>
                  </a:solidFill>
                  <a:latin typeface="Times New Roman"/>
                </a:rPr>
                <a:t>u</a:t>
              </a:r>
              <a:r>
                <a:rPr b="0" i="1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0</a:t>
              </a: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,</a:t>
              </a:r>
              <a:r>
                <a:rPr b="0" i="1" lang="sv-SE" sz="2400" spc="-1" strike="noStrike">
                  <a:solidFill>
                    <a:srgbClr val="ffffeb"/>
                  </a:solidFill>
                  <a:latin typeface="Times New Roman"/>
                </a:rPr>
                <a:t>v</a:t>
              </a:r>
              <a:r>
                <a:rPr b="0" i="1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0</a:t>
              </a: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,</a:t>
              </a:r>
              <a:r>
                <a:rPr b="0" i="1" lang="sv-SE" sz="2400" spc="-1" strike="noStrike">
                  <a:solidFill>
                    <a:srgbClr val="ffffeb"/>
                  </a:solidFill>
                  <a:latin typeface="Times New Roman"/>
                </a:rPr>
                <a:t>d</a:t>
              </a:r>
              <a:r>
                <a:rPr b="0" i="1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0</a:t>
              </a: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43000" y="3429000"/>
              <a:ext cx="990720" cy="304920"/>
            </a:xfrm>
            <a:prstGeom prst="line">
              <a:avLst/>
            </a:prstGeom>
            <a:ln w="9360">
              <a:solidFill>
                <a:srgbClr val="fe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omputing </a:t>
            </a:r>
            <a:r>
              <a:rPr b="1" i="1" lang="sv-SE" sz="3600" spc="-1" strike="noStrike">
                <a:solidFill>
                  <a:srgbClr val="ffff9b"/>
                </a:solidFill>
                <a:latin typeface="Times New Roman"/>
              </a:rPr>
              <a:t>d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for mipmapp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34286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pproximate quad with squar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Gives overblur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ven better: anisotropic texture filtering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pproximate quad with several smaller mipmap sampl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001960" y="1413000"/>
            <a:ext cx="4401000" cy="1492920"/>
            <a:chOff x="2001960" y="1413000"/>
            <a:chExt cx="4401000" cy="1492920"/>
          </a:xfrm>
        </p:grpSpPr>
        <p:sp>
          <p:nvSpPr>
            <p:cNvPr id="216" name=""/>
            <p:cNvSpPr/>
            <p:nvPr/>
          </p:nvSpPr>
          <p:spPr>
            <a:xfrm rot="14569200">
              <a:off x="2131920" y="1675800"/>
              <a:ext cx="1143000" cy="990720"/>
            </a:xfrm>
            <a:custGeom>
              <a:avLst/>
              <a:gdLst>
                <a:gd name="textAreaLeft" fmla="*/ 251280 w 1143000"/>
                <a:gd name="textAreaRight" fmla="*/ 891720 w 1143000"/>
                <a:gd name="textAreaTop" fmla="*/ 217800 h 990720"/>
                <a:gd name="textAreaBottom" fmla="*/ 77292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4a4a4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04880" y="141300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pixel projected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to texture spac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048120" y="1981080"/>
              <a:ext cx="1218960" cy="763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3080" y="1413000"/>
            <a:ext cx="3889440" cy="1635120"/>
            <a:chOff x="73080" y="1413000"/>
            <a:chExt cx="3889440" cy="1635120"/>
          </a:xfrm>
        </p:grpSpPr>
        <p:grpSp>
          <p:nvGrpSpPr>
            <p:cNvPr id="220" name=""/>
            <p:cNvGrpSpPr/>
            <p:nvPr/>
          </p:nvGrpSpPr>
          <p:grpSpPr>
            <a:xfrm>
              <a:off x="1295280" y="1447920"/>
              <a:ext cx="2667240" cy="1600200"/>
              <a:chOff x="1295280" y="1447920"/>
              <a:chExt cx="2667240" cy="1600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286000" y="1447920"/>
                <a:ext cx="0" cy="16002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590920" y="1447920"/>
                <a:ext cx="0" cy="16002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95480" y="1447920"/>
                <a:ext cx="0" cy="16002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00400" y="1447920"/>
                <a:ext cx="0" cy="16002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05320" y="1447920"/>
                <a:ext cx="0" cy="16002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9880" y="1447920"/>
                <a:ext cx="0" cy="16002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371600" y="1447920"/>
                <a:ext cx="0" cy="16002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76520" y="1447920"/>
                <a:ext cx="0" cy="16002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1080" y="1447920"/>
                <a:ext cx="0" cy="16002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5280" y="1523880"/>
                <a:ext cx="2667240" cy="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5280" y="1828800"/>
                <a:ext cx="2667240" cy="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5280" y="2133720"/>
                <a:ext cx="2667240" cy="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5280" y="2438280"/>
                <a:ext cx="2667240" cy="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5280" y="2743200"/>
                <a:ext cx="2667240" cy="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5280" y="3048120"/>
                <a:ext cx="2667240" cy="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73080" y="141300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texel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20" y="1676520"/>
              <a:ext cx="68580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419720" y="2209680"/>
                <a:ext cx="44193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pproximative area of quadrilateral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2057400" y="1676520"/>
            <a:ext cx="1143000" cy="1143000"/>
          </a:xfrm>
          <a:prstGeom prst="rect">
            <a:avLst/>
          </a:prstGeom>
          <a:noFill/>
          <a:ln w="38160">
            <a:solidFill>
              <a:srgbClr val="f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-305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isotropic texture filter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42" name="anisotropic_samp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6553080" cy="3101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724280" y="1143000"/>
            <a:ext cx="1981440" cy="1981080"/>
          </a:xfrm>
          <a:prstGeom prst="rect">
            <a:avLst/>
          </a:prstGeom>
          <a:noFill/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057400"/>
            <a:ext cx="1066680" cy="1066680"/>
          </a:xfrm>
          <a:prstGeom prst="rect">
            <a:avLst/>
          </a:prstGeom>
          <a:noFill/>
          <a:ln w="19080">
            <a:solidFill>
              <a:srgbClr val="f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1143000"/>
            <a:ext cx="1143000" cy="1143000"/>
          </a:xfrm>
          <a:prstGeom prst="rect">
            <a:avLst/>
          </a:prstGeom>
          <a:noFill/>
          <a:ln w="19080">
            <a:solidFill>
              <a:srgbClr val="f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2666880"/>
            <a:ext cx="9144000" cy="4191120"/>
            <a:chOff x="0" y="2666880"/>
            <a:chExt cx="9144000" cy="4191120"/>
          </a:xfrm>
        </p:grpSpPr>
        <p:pic>
          <p:nvPicPr>
            <p:cNvPr id="247" name="anisotropic" descr=""/>
            <p:cNvPicPr/>
            <p:nvPr/>
          </p:nvPicPr>
          <p:blipFill>
            <a:blip r:embed="rId2"/>
            <a:stretch/>
          </p:blipFill>
          <p:spPr>
            <a:xfrm>
              <a:off x="0" y="3662280"/>
              <a:ext cx="9144000" cy="31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7391520" y="266688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16 samples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8153280" y="3048120"/>
              <a:ext cx="152640" cy="609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ipmapping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emory requirement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t twice the number of bytes…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66680" y="2057400"/>
            <a:ext cx="4114800" cy="4114800"/>
            <a:chOff x="1066680" y="2057400"/>
            <a:chExt cx="4114800" cy="4114800"/>
          </a:xfrm>
        </p:grpSpPr>
        <p:sp>
          <p:nvSpPr>
            <p:cNvPr id="253" name=""/>
            <p:cNvSpPr/>
            <p:nvPr/>
          </p:nvSpPr>
          <p:spPr>
            <a:xfrm>
              <a:off x="1066680" y="4114800"/>
              <a:ext cx="2057400" cy="205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66680" y="2057400"/>
              <a:ext cx="2057400" cy="2057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4114800"/>
              <a:ext cx="2057400" cy="2057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124080" y="2057400"/>
            <a:ext cx="2057040" cy="2057040"/>
            <a:chOff x="3124080" y="2057400"/>
            <a:chExt cx="2057040" cy="2057040"/>
          </a:xfrm>
        </p:grpSpPr>
        <p:sp>
          <p:nvSpPr>
            <p:cNvPr id="257" name=""/>
            <p:cNvSpPr/>
            <p:nvPr/>
          </p:nvSpPr>
          <p:spPr>
            <a:xfrm>
              <a:off x="3124080" y="3085920"/>
              <a:ext cx="1028520" cy="1028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24080" y="2057400"/>
              <a:ext cx="1028520" cy="1028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52600" y="3085920"/>
              <a:ext cx="1028520" cy="1028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114800" y="2057400"/>
            <a:ext cx="1066320" cy="1066320"/>
            <a:chOff x="4114800" y="2057400"/>
            <a:chExt cx="1066320" cy="1066320"/>
          </a:xfrm>
        </p:grpSpPr>
        <p:sp>
          <p:nvSpPr>
            <p:cNvPr id="261" name=""/>
            <p:cNvSpPr/>
            <p:nvPr/>
          </p:nvSpPr>
          <p:spPr>
            <a:xfrm>
              <a:off x="4114800" y="2590560"/>
              <a:ext cx="533160" cy="533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14800" y="2057400"/>
              <a:ext cx="533160" cy="533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47960" y="2590560"/>
              <a:ext cx="533160" cy="533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62120" y="61722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ather 33% more – not that much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iscellaneou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ow to apply texturing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Modulate (multiply texture with lighting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eplace (just use texture color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dd, sub, etc (on newer hardware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More in the book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Environment mapp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35049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ssumes the environment is infinitely far awa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phere mapping treated in other cours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Or see book.  [Note: available on old computers…]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ube mapping is the norm nowaday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dvantages: no singularities as in sphere map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uch less distortio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Gives better result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ot dependent on a view positio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69" name="envmap" descr=""/>
          <p:cNvPicPr/>
          <p:nvPr/>
        </p:nvPicPr>
        <p:blipFill>
          <a:blip r:embed="rId1"/>
          <a:stretch/>
        </p:blipFill>
        <p:spPr>
          <a:xfrm>
            <a:off x="1155600" y="1392120"/>
            <a:ext cx="471168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771120" y="1447920"/>
            <a:ext cx="5401080" cy="2743200"/>
            <a:chOff x="771120" y="1447920"/>
            <a:chExt cx="5401080" cy="2743200"/>
          </a:xfrm>
        </p:grpSpPr>
        <p:grpSp>
          <p:nvGrpSpPr>
            <p:cNvPr id="271" name=""/>
            <p:cNvGrpSpPr/>
            <p:nvPr/>
          </p:nvGrpSpPr>
          <p:grpSpPr>
            <a:xfrm>
              <a:off x="2819160" y="1447920"/>
              <a:ext cx="3353040" cy="2743200"/>
              <a:chOff x="2819160" y="1447920"/>
              <a:chExt cx="3353040" cy="2743200"/>
            </a:xfrm>
          </p:grpSpPr>
          <p:pic>
            <p:nvPicPr>
              <p:cNvPr id="272" name="nvlobby_negz" descr=""/>
              <p:cNvPicPr/>
              <p:nvPr/>
            </p:nvPicPr>
            <p:blipFill>
              <a:blip r:embed="rId1"/>
              <a:stretch/>
            </p:blipFill>
            <p:spPr>
              <a:xfrm>
                <a:off x="4953240" y="1447920"/>
                <a:ext cx="1143000" cy="269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4953240" y="3508200"/>
                <a:ext cx="1218960" cy="682920"/>
              </a:xfrm>
              <a:prstGeom prst="rtTriangl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4876200" y="1447920"/>
                <a:ext cx="1219320" cy="682560"/>
              </a:xfrm>
              <a:prstGeom prst="rtTriangl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3240" y="1523880"/>
                <a:ext cx="0" cy="1981440"/>
              </a:xfrm>
              <a:prstGeom prst="line">
                <a:avLst/>
              </a:prstGeom>
              <a:ln w="1260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96240" y="2133720"/>
                <a:ext cx="0" cy="198108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953240" y="3505320"/>
                <a:ext cx="1143000" cy="60948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53240" y="1523880"/>
                <a:ext cx="1143000" cy="60984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3962160" y="2133720"/>
                <a:ext cx="2133720" cy="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962160" y="4114800"/>
                <a:ext cx="2133720" cy="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819160" y="3505320"/>
                <a:ext cx="2133720" cy="0"/>
              </a:xfrm>
              <a:prstGeom prst="line">
                <a:avLst/>
              </a:prstGeom>
              <a:ln w="1260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819160" y="1523880"/>
                <a:ext cx="2133720" cy="0"/>
              </a:xfrm>
              <a:prstGeom prst="line">
                <a:avLst/>
              </a:prstGeom>
              <a:ln w="1260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71120" y="2057400"/>
              <a:ext cx="1148040" cy="1374120"/>
              <a:chOff x="771120" y="2057400"/>
              <a:chExt cx="1148040" cy="1374120"/>
            </a:xfrm>
          </p:grpSpPr>
          <p:sp>
            <p:nvSpPr>
              <p:cNvPr id="284" name=""/>
              <p:cNvSpPr/>
              <p:nvPr/>
            </p:nvSpPr>
            <p:spPr>
              <a:xfrm>
                <a:off x="1295280" y="2971800"/>
                <a:ext cx="381240" cy="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1295280" y="2438280"/>
                <a:ext cx="0" cy="53352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990720" y="2971800"/>
                <a:ext cx="304560" cy="2286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86160" y="270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44800" y="205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1120" y="29718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ube mapp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41911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Simple math: compute reflection vector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Largest abs-value of component, determines which cube face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111240" indent="-42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Example: </a:t>
            </a:r>
            <a:r>
              <a:rPr b="1" lang="sv-SE" sz="2000" spc="-1" strike="noStrike">
                <a:solidFill>
                  <a:srgbClr val="ffffeb"/>
                </a:solidFill>
                <a:latin typeface="Times New Roman"/>
              </a:rPr>
              <a:t>r</a:t>
            </a: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=(5,-1,2)</a:t>
            </a: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 gives POS_X face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Divide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r</a:t>
            </a: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 by 5 gives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24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,</a:t>
            </a:r>
            <a:r>
              <a:rPr b="0" i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)=(-1/5,2/5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If your hardware has this feature, then it does all the work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5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248520" y="0"/>
            <a:ext cx="2895120" cy="2162160"/>
            <a:chOff x="6248520" y="0"/>
            <a:chExt cx="2895120" cy="2162160"/>
          </a:xfrm>
        </p:grpSpPr>
        <p:pic>
          <p:nvPicPr>
            <p:cNvPr id="293" name="cube1" descr=""/>
            <p:cNvPicPr/>
            <p:nvPr/>
          </p:nvPicPr>
          <p:blipFill>
            <a:blip r:embed="rId2"/>
            <a:stretch/>
          </p:blipFill>
          <p:spPr>
            <a:xfrm>
              <a:off x="6248520" y="720720"/>
              <a:ext cx="732600" cy="73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cube2" descr=""/>
            <p:cNvPicPr/>
            <p:nvPr/>
          </p:nvPicPr>
          <p:blipFill>
            <a:blip r:embed="rId3"/>
            <a:stretch/>
          </p:blipFill>
          <p:spPr>
            <a:xfrm>
              <a:off x="6981120" y="72072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ube3" descr=""/>
            <p:cNvPicPr/>
            <p:nvPr/>
          </p:nvPicPr>
          <p:blipFill>
            <a:blip r:embed="rId4"/>
            <a:stretch/>
          </p:blipFill>
          <p:spPr>
            <a:xfrm>
              <a:off x="7702200" y="72072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cube4" descr=""/>
            <p:cNvPicPr/>
            <p:nvPr/>
          </p:nvPicPr>
          <p:blipFill>
            <a:blip r:embed="rId5"/>
            <a:stretch/>
          </p:blipFill>
          <p:spPr>
            <a:xfrm>
              <a:off x="8422920" y="72072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cube5" descr=""/>
            <p:cNvPicPr/>
            <p:nvPr/>
          </p:nvPicPr>
          <p:blipFill>
            <a:blip r:embed="rId6"/>
            <a:stretch/>
          </p:blipFill>
          <p:spPr>
            <a:xfrm>
              <a:off x="6981120" y="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cube6" descr=""/>
            <p:cNvPicPr/>
            <p:nvPr/>
          </p:nvPicPr>
          <p:blipFill>
            <a:blip r:embed="rId7"/>
            <a:stretch/>
          </p:blipFill>
          <p:spPr>
            <a:xfrm>
              <a:off x="6981120" y="1441440"/>
              <a:ext cx="72072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9" name="envmap_teapot" descr=""/>
          <p:cNvPicPr/>
          <p:nvPr/>
        </p:nvPicPr>
        <p:blipFill>
          <a:blip r:embed="rId8"/>
          <a:stretch/>
        </p:blipFill>
        <p:spPr>
          <a:xfrm>
            <a:off x="3162240" y="2268360"/>
            <a:ext cx="1714680" cy="16178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flipV="1">
            <a:off x="4343400" y="2286000"/>
            <a:ext cx="1143000" cy="533520"/>
          </a:xfrm>
          <a:prstGeom prst="line">
            <a:avLst/>
          </a:prstGeom>
          <a:ln w="9360">
            <a:solidFill>
              <a:srgbClr val="ffff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016880" y="1488960"/>
            <a:ext cx="402840" cy="1330560"/>
            <a:chOff x="4016880" y="1488960"/>
            <a:chExt cx="402840" cy="1330560"/>
          </a:xfrm>
        </p:grpSpPr>
        <p:sp>
          <p:nvSpPr>
            <p:cNvPr id="302" name=""/>
            <p:cNvSpPr/>
            <p:nvPr/>
          </p:nvSpPr>
          <p:spPr>
            <a:xfrm flipV="1">
              <a:off x="4343400" y="1752480"/>
              <a:ext cx="76320" cy="106704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16880" y="1488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942120" y="1295280"/>
            <a:ext cx="3401280" cy="1524240"/>
            <a:chOff x="942120" y="1295280"/>
            <a:chExt cx="3401280" cy="1524240"/>
          </a:xfrm>
        </p:grpSpPr>
        <p:sp>
          <p:nvSpPr>
            <p:cNvPr id="305" name=""/>
            <p:cNvSpPr/>
            <p:nvPr/>
          </p:nvSpPr>
          <p:spPr>
            <a:xfrm flipH="1" flipV="1">
              <a:off x="990360" y="1752120"/>
              <a:ext cx="533160" cy="228600"/>
            </a:xfrm>
            <a:prstGeom prst="line">
              <a:avLst/>
            </a:prstGeom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90720" y="1752480"/>
              <a:ext cx="609480" cy="0"/>
            </a:xfrm>
            <a:prstGeom prst="line">
              <a:avLst/>
            </a:prstGeom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19320" y="1752480"/>
              <a:ext cx="152280" cy="152640"/>
            </a:xfrm>
            <a:prstGeom prst="ellipse">
              <a:avLst/>
            </a:prstGeom>
            <a:solidFill>
              <a:srgbClr val="fff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1600" y="1828800"/>
              <a:ext cx="2971800" cy="99072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42120" y="12952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ey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ump mapp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y Blinn in 197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expensive way of simulating wrinkles and bumps on geometr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oo expensive to model these geometrically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stead let a texture modify the normal at each pixel, and then use this normal to compute light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2280" y="5943600"/>
            <a:ext cx="1981080" cy="459720"/>
            <a:chOff x="152280" y="5943600"/>
            <a:chExt cx="1981080" cy="459720"/>
          </a:xfrm>
        </p:grpSpPr>
        <p:grpSp>
          <p:nvGrpSpPr>
            <p:cNvPr id="313" name=""/>
            <p:cNvGrpSpPr/>
            <p:nvPr/>
          </p:nvGrpSpPr>
          <p:grpSpPr>
            <a:xfrm>
              <a:off x="152280" y="5943600"/>
              <a:ext cx="1981080" cy="152280"/>
              <a:chOff x="152280" y="5943600"/>
              <a:chExt cx="1981080" cy="152280"/>
            </a:xfrm>
          </p:grpSpPr>
          <p:sp>
            <p:nvSpPr>
              <p:cNvPr id="314" name=""/>
              <p:cNvSpPr/>
              <p:nvPr/>
            </p:nvSpPr>
            <p:spPr>
              <a:xfrm>
                <a:off x="228600" y="6019920"/>
                <a:ext cx="1828800" cy="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2280" y="5943600"/>
                <a:ext cx="152280" cy="152280"/>
              </a:xfrm>
              <a:prstGeom prst="ellipse">
                <a:avLst/>
              </a:prstGeom>
              <a:solidFill>
                <a:srgbClr val="fff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981080" y="5943600"/>
                <a:ext cx="152280" cy="152280"/>
              </a:xfrm>
              <a:prstGeom prst="ellipse">
                <a:avLst/>
              </a:prstGeom>
              <a:solidFill>
                <a:srgbClr val="fff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495000" y="594360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geometry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788840" y="5105520"/>
            <a:ext cx="4388400" cy="1663560"/>
            <a:chOff x="1788840" y="5105520"/>
            <a:chExt cx="4388400" cy="1663560"/>
          </a:xfrm>
        </p:grpSpPr>
        <p:grpSp>
          <p:nvGrpSpPr>
            <p:cNvPr id="319" name=""/>
            <p:cNvGrpSpPr/>
            <p:nvPr/>
          </p:nvGrpSpPr>
          <p:grpSpPr>
            <a:xfrm>
              <a:off x="1788840" y="5105520"/>
              <a:ext cx="4388400" cy="1663560"/>
              <a:chOff x="1788840" y="5105520"/>
              <a:chExt cx="4388400" cy="16635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2729880" y="5105520"/>
                <a:ext cx="2362680" cy="914400"/>
                <a:chOff x="2729880" y="5105520"/>
                <a:chExt cx="2362680" cy="9144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035160" y="6019920"/>
                  <a:ext cx="1828800" cy="0"/>
                </a:xfrm>
                <a:prstGeom prst="line">
                  <a:avLst/>
                </a:prstGeom>
                <a:ln w="12600">
                  <a:solidFill>
                    <a:srgbClr val="ffff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035160" y="5435640"/>
                  <a:ext cx="1828800" cy="584280"/>
                </a:xfrm>
                <a:custGeom>
                  <a:avLst/>
                  <a:gdLst/>
                  <a:ahLst/>
                  <a:rect l="l" t="t" r="r" b="b"/>
                  <a:pathLst>
                    <a:path w="1152" h="368">
                      <a:moveTo>
                        <a:pt x="0" y="368"/>
                      </a:moveTo>
                      <a:cubicBezTo>
                        <a:pt x="36" y="312"/>
                        <a:pt x="72" y="256"/>
                        <a:pt x="144" y="224"/>
                      </a:cubicBezTo>
                      <a:cubicBezTo>
                        <a:pt x="216" y="192"/>
                        <a:pt x="344" y="208"/>
                        <a:pt x="432" y="176"/>
                      </a:cubicBezTo>
                      <a:cubicBezTo>
                        <a:pt x="520" y="144"/>
                        <a:pt x="552" y="0"/>
                        <a:pt x="672" y="32"/>
                      </a:cubicBezTo>
                      <a:cubicBezTo>
                        <a:pt x="792" y="64"/>
                        <a:pt x="1072" y="312"/>
                        <a:pt x="1152" y="368"/>
                      </a:cubicBezTo>
                    </a:path>
                  </a:pathLst>
                </a:custGeom>
                <a:noFill/>
                <a:ln w="28440">
                  <a:solidFill>
                    <a:srgbClr val="ffff0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flipV="1">
                  <a:off x="3111120" y="548604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>
                  <a:off x="3568680" y="5333760"/>
                  <a:ext cx="304560" cy="22860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4025880" y="510552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4559040" y="5409720"/>
                  <a:ext cx="228600" cy="3812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4863960" y="5638320"/>
                  <a:ext cx="228600" cy="3812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3492360" y="5409720"/>
                  <a:ext cx="0" cy="3812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flipV="1">
                  <a:off x="2729880" y="5867280"/>
                  <a:ext cx="304920" cy="1526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4254480" y="5181120"/>
                  <a:ext cx="228600" cy="3812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1788840" y="5943600"/>
                <a:ext cx="438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Times New Roman"/>
                  </a:rPr>
                  <a:t>Bump map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Times New Roman"/>
                  </a:rPr>
                  <a:t>Stores heights: can derive normals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185920" y="568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437080" y="5638320"/>
            <a:ext cx="3778920" cy="765000"/>
            <a:chOff x="5437080" y="5638320"/>
            <a:chExt cx="3778920" cy="765000"/>
          </a:xfrm>
        </p:grpSpPr>
        <p:grpSp>
          <p:nvGrpSpPr>
            <p:cNvPr id="334" name=""/>
            <p:cNvGrpSpPr/>
            <p:nvPr/>
          </p:nvGrpSpPr>
          <p:grpSpPr>
            <a:xfrm>
              <a:off x="6017760" y="5638320"/>
              <a:ext cx="3198240" cy="765000"/>
              <a:chOff x="6017760" y="5638320"/>
              <a:chExt cx="3198240" cy="76500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372360" y="5638320"/>
                <a:ext cx="2361600" cy="457560"/>
                <a:chOff x="6372360" y="5638320"/>
                <a:chExt cx="2361600" cy="45756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600600" y="5943600"/>
                  <a:ext cx="1981080" cy="152280"/>
                  <a:chOff x="6600600" y="5943600"/>
                  <a:chExt cx="1981080" cy="1522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676920" y="6019920"/>
                    <a:ext cx="1828800" cy="0"/>
                  </a:xfrm>
                  <a:prstGeom prst="line">
                    <a:avLst/>
                  </a:prstGeom>
                  <a:ln w="28440">
                    <a:solidFill>
                      <a:srgbClr val="ffff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600600" y="5943600"/>
                    <a:ext cx="152280" cy="152280"/>
                  </a:xfrm>
                  <a:prstGeom prst="ellipse">
                    <a:avLst/>
                  </a:prstGeom>
                  <a:solidFill>
                    <a:srgbClr val="ffff0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429400" y="5943600"/>
                    <a:ext cx="152280" cy="152280"/>
                  </a:xfrm>
                  <a:prstGeom prst="ellipse">
                    <a:avLst/>
                  </a:prstGeom>
                  <a:solidFill>
                    <a:srgbClr val="ffff0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 flipH="1" flipV="1">
                  <a:off x="6753240" y="5714640"/>
                  <a:ext cx="151920" cy="30492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flipV="1">
                  <a:off x="7210080" y="5790960"/>
                  <a:ext cx="304200" cy="22860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7667640" y="5638320"/>
                  <a:ext cx="0" cy="3812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8200800" y="5638320"/>
                  <a:ext cx="228240" cy="3812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8505720" y="5638320"/>
                  <a:ext cx="228240" cy="3812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7134120" y="5638320"/>
                  <a:ext cx="0" cy="3812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6372360" y="5867280"/>
                  <a:ext cx="304560" cy="1526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7896240" y="5638320"/>
                  <a:ext cx="228240" cy="381240"/>
                </a:xfrm>
                <a:prstGeom prst="line">
                  <a:avLst/>
                </a:prstGeom>
                <a:ln w="9360">
                  <a:solidFill>
                    <a:srgbClr val="ffff0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6017760" y="5943600"/>
                <a:ext cx="31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Times New Roman"/>
                  </a:rPr>
                  <a:t>Bump mapped geometry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37080" y="5715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pic>
        <p:nvPicPr>
          <p:cNvPr id="350" name="bumps" descr=""/>
          <p:cNvPicPr/>
          <p:nvPr/>
        </p:nvPicPr>
        <p:blipFill>
          <a:blip r:embed="rId1"/>
          <a:stretch/>
        </p:blipFill>
        <p:spPr>
          <a:xfrm>
            <a:off x="4700520" y="0"/>
            <a:ext cx="4443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ump mapping light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Diffuse:  </a:t>
            </a:r>
            <a:r>
              <a:rPr b="1" lang="sv-SE" sz="28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1" lang="sv-SE" sz="2800" spc="-1" strike="noStrike" baseline="22000">
                <a:solidFill>
                  <a:srgbClr val="ffffeb"/>
                </a:solidFill>
                <a:latin typeface="Times New Roman"/>
              </a:rPr>
              <a:t>.</a:t>
            </a:r>
            <a:r>
              <a:rPr b="1" lang="sv-SE" sz="2800" spc="-1" strike="noStrike">
                <a:solidFill>
                  <a:srgbClr val="ffffeb"/>
                </a:solidFill>
                <a:latin typeface="Times New Roman"/>
              </a:rPr>
              <a:t>l</a:t>
            </a:r>
            <a:r>
              <a:rPr b="0" lang="sv-SE" sz="2800" spc="-1" strike="noStrike">
                <a:solidFill>
                  <a:srgbClr val="ffffeb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       Specular:</a:t>
            </a:r>
            <a:r>
              <a:rPr b="0" lang="sv-SE" sz="28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1" lang="sv-SE" sz="28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1" lang="sv-SE" sz="2800" spc="-1" strike="noStrike" baseline="22000">
                <a:solidFill>
                  <a:srgbClr val="ffffeb"/>
                </a:solidFill>
                <a:latin typeface="Times New Roman"/>
              </a:rPr>
              <a:t>.</a:t>
            </a:r>
            <a:r>
              <a:rPr b="1" lang="sv-SE" sz="2800" spc="-1" strike="noStrike">
                <a:solidFill>
                  <a:srgbClr val="ffffeb"/>
                </a:solidFill>
                <a:latin typeface="Times New Roman"/>
              </a:rPr>
              <a:t>h</a:t>
            </a:r>
            <a:r>
              <a:rPr b="0" lang="sv-SE" sz="28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2800" spc="-1" strike="noStrike" baseline="30000">
                <a:solidFill>
                  <a:srgbClr val="ffffeb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ssume directional light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Diffuse: fetch per pixel normal from bumpmap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Then compute per-pixel dot product with lightvector (constant)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pecular: h is (assumed) constant for dir. light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compute per-pixel dot product with normal from bumpmap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Gives </a:t>
            </a:r>
            <a:r>
              <a:rPr b="0" lang="sv-SE" sz="2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1" lang="sv-SE" sz="2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1" lang="sv-SE" sz="2200" spc="-1" strike="noStrike" baseline="22000">
                <a:solidFill>
                  <a:srgbClr val="ffffeb"/>
                </a:solidFill>
                <a:latin typeface="Times New Roman"/>
              </a:rPr>
              <a:t>.</a:t>
            </a:r>
            <a:r>
              <a:rPr b="1" lang="sv-SE" sz="2200" spc="-1" strike="noStrike">
                <a:solidFill>
                  <a:srgbClr val="ffffeb"/>
                </a:solidFill>
                <a:latin typeface="Times New Roman"/>
              </a:rPr>
              <a:t>h</a:t>
            </a:r>
            <a:r>
              <a:rPr b="0" lang="sv-SE" sz="2200" spc="-1" strike="noStrike">
                <a:solidFill>
                  <a:srgbClr val="ffffeb"/>
                </a:solidFill>
                <a:latin typeface="Times New Roman"/>
              </a:rPr>
              <a:t>), </a:t>
            </a: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then </a:t>
            </a:r>
            <a:r>
              <a:rPr b="0" lang="sv-SE" sz="2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1" lang="sv-SE" sz="2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1" lang="sv-SE" sz="2200" spc="-1" strike="noStrike" baseline="22000">
                <a:solidFill>
                  <a:srgbClr val="ffffeb"/>
                </a:solidFill>
                <a:latin typeface="Times New Roman"/>
              </a:rPr>
              <a:t>.</a:t>
            </a:r>
            <a:r>
              <a:rPr b="1" lang="sv-SE" sz="2200" spc="-1" strike="noStrike">
                <a:solidFill>
                  <a:srgbClr val="ffffeb"/>
                </a:solidFill>
                <a:latin typeface="Times New Roman"/>
              </a:rPr>
              <a:t>h</a:t>
            </a:r>
            <a:r>
              <a:rPr b="0" lang="sv-SE" sz="22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2200" spc="-1" strike="noStrike" baseline="30000">
                <a:solidFill>
                  <a:srgbClr val="ffffeb"/>
                </a:solidFill>
                <a:latin typeface="Times New Roman"/>
              </a:rPr>
              <a:t>2</a:t>
            </a:r>
            <a:r>
              <a:rPr b="0" lang="sv-SE" sz="2200" spc="-1" strike="noStrike">
                <a:solidFill>
                  <a:srgbClr val="ffffeb"/>
                </a:solidFill>
                <a:latin typeface="Times New Roman"/>
              </a:rPr>
              <a:t>, (</a:t>
            </a:r>
            <a:r>
              <a:rPr b="1" lang="sv-SE" sz="2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1" lang="sv-SE" sz="2200" spc="-1" strike="noStrike" baseline="22000">
                <a:solidFill>
                  <a:srgbClr val="ffffeb"/>
                </a:solidFill>
                <a:latin typeface="Times New Roman"/>
              </a:rPr>
              <a:t>.</a:t>
            </a:r>
            <a:r>
              <a:rPr b="1" lang="sv-SE" sz="2200" spc="-1" strike="noStrike">
                <a:solidFill>
                  <a:srgbClr val="ffffeb"/>
                </a:solidFill>
                <a:latin typeface="Times New Roman"/>
              </a:rPr>
              <a:t>h</a:t>
            </a:r>
            <a:r>
              <a:rPr b="0" lang="sv-SE" sz="22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2200" spc="-1" strike="noStrike" baseline="30000">
                <a:solidFill>
                  <a:srgbClr val="ffffeb"/>
                </a:solidFill>
                <a:latin typeface="Times New Roman"/>
              </a:rPr>
              <a:t>4</a:t>
            </a:r>
            <a:r>
              <a:rPr b="0" lang="sv-SE" sz="2200" spc="-1" strike="noStrike">
                <a:solidFill>
                  <a:srgbClr val="ffffeb"/>
                </a:solidFill>
                <a:latin typeface="Times New Roman"/>
              </a:rPr>
              <a:t>, (</a:t>
            </a:r>
            <a:r>
              <a:rPr b="1" lang="sv-SE" sz="2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1" lang="sv-SE" sz="2200" spc="-1" strike="noStrike" baseline="22000">
                <a:solidFill>
                  <a:srgbClr val="ffffeb"/>
                </a:solidFill>
                <a:latin typeface="Times New Roman"/>
              </a:rPr>
              <a:t>.</a:t>
            </a:r>
            <a:r>
              <a:rPr b="1" lang="sv-SE" sz="2200" spc="-1" strike="noStrike">
                <a:solidFill>
                  <a:srgbClr val="ffffeb"/>
                </a:solidFill>
                <a:latin typeface="Times New Roman"/>
              </a:rPr>
              <a:t>h</a:t>
            </a:r>
            <a:r>
              <a:rPr b="0" lang="sv-SE" sz="22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2200" spc="-1" strike="noStrike" baseline="30000">
                <a:solidFill>
                  <a:srgbClr val="ffffeb"/>
                </a:solidFill>
                <a:latin typeface="Times New Roman"/>
              </a:rPr>
              <a:t>8</a:t>
            </a:r>
            <a:r>
              <a:rPr b="0" lang="sv-SE" sz="2200" spc="-1" strike="noStrike">
                <a:solidFill>
                  <a:srgbClr val="ffffeb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How store normals in texture (bump map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lang="sv-SE" sz="2800" spc="-1" strike="noStrike">
                <a:solidFill>
                  <a:srgbClr val="ffffeb"/>
                </a:solidFill>
                <a:latin typeface="Times New Roman"/>
              </a:rPr>
              <a:t>=(</a:t>
            </a:r>
            <a:r>
              <a:rPr b="0" i="1" lang="sv-SE" sz="28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lang="sv-SE" sz="2800" spc="-1" strike="noStrike" baseline="-25000">
                <a:solidFill>
                  <a:srgbClr val="ffffeb"/>
                </a:solidFill>
                <a:latin typeface="Times New Roman"/>
              </a:rPr>
              <a:t>x </a:t>
            </a:r>
            <a:r>
              <a:rPr b="0" lang="sv-SE" sz="2800" spc="-1" strike="noStrike">
                <a:solidFill>
                  <a:srgbClr val="ffffeb"/>
                </a:solidFill>
                <a:latin typeface="Times New Roman"/>
              </a:rPr>
              <a:t>,</a:t>
            </a:r>
            <a:r>
              <a:rPr b="0" lang="sv-SE" sz="2800" spc="-1" strike="noStrike" baseline="-25000">
                <a:solidFill>
                  <a:srgbClr val="ffffeb"/>
                </a:solidFill>
                <a:latin typeface="Times New Roman"/>
              </a:rPr>
              <a:t> </a:t>
            </a:r>
            <a:r>
              <a:rPr b="0" i="1" lang="sv-SE" sz="28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lang="sv-SE" sz="2800" spc="-1" strike="noStrike" baseline="-25000">
                <a:solidFill>
                  <a:srgbClr val="ffffeb"/>
                </a:solidFill>
                <a:latin typeface="Times New Roman"/>
              </a:rPr>
              <a:t>y </a:t>
            </a:r>
            <a:r>
              <a:rPr b="0" lang="sv-SE" sz="2800" spc="-1" strike="noStrike">
                <a:solidFill>
                  <a:srgbClr val="ffffeb"/>
                </a:solidFill>
                <a:latin typeface="Times New Roman"/>
              </a:rPr>
              <a:t>, </a:t>
            </a:r>
            <a:r>
              <a:rPr b="0" i="1" lang="sv-SE" sz="28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lang="sv-SE" sz="2800" spc="-1" strike="noStrike" baseline="-25000">
                <a:solidFill>
                  <a:srgbClr val="ffffeb"/>
                </a:solidFill>
                <a:latin typeface="Times New Roman"/>
              </a:rPr>
              <a:t>z</a:t>
            </a:r>
            <a:r>
              <a:rPr b="0" lang="sv-SE" sz="28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 are in [-1,1]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dd 1, mult 0.5: in [0,1]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ult by 255 (8 bit per color                                   component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an be stored in texture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353" name="normalmap_coding" descr=""/>
          <p:cNvPicPr/>
          <p:nvPr/>
        </p:nvPicPr>
        <p:blipFill>
          <a:blip r:embed="rId1"/>
          <a:stretch/>
        </p:blipFill>
        <p:spPr>
          <a:xfrm>
            <a:off x="6019920" y="4576680"/>
            <a:ext cx="31114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ump mapping: examp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Other ways to do bump mapping o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hese are less expensive, and feasible on cheaper hardwa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ee book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356" name="chameleon_bump" descr=""/>
          <p:cNvPicPr/>
          <p:nvPr/>
        </p:nvPicPr>
        <p:blipFill>
          <a:blip r:embed="rId1"/>
          <a:stretch/>
        </p:blipFill>
        <p:spPr>
          <a:xfrm>
            <a:off x="20520" y="819000"/>
            <a:ext cx="3881520" cy="3981600"/>
          </a:xfrm>
          <a:prstGeom prst="rect">
            <a:avLst/>
          </a:prstGeom>
          <a:ln w="0">
            <a:noFill/>
          </a:ln>
        </p:spPr>
      </p:pic>
      <p:pic>
        <p:nvPicPr>
          <p:cNvPr id="357" name="chameleon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51814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exturing: Glue n-dimensional images onto geometrical object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Purpose: more realism, and this is a cheap way to do i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Bump mapp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Plus, we can do environment mapp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nd other thing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54100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e use triangles in real-time rendering, why?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nterpolation is rotation-invariant!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ot so for quadrilaterals.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76520" y="2819520"/>
            <a:ext cx="4676760" cy="2660400"/>
            <a:chOff x="1676520" y="2819520"/>
            <a:chExt cx="4676760" cy="2660400"/>
          </a:xfrm>
        </p:grpSpPr>
        <p:pic>
          <p:nvPicPr>
            <p:cNvPr id="95" name="checker" descr=""/>
            <p:cNvPicPr/>
            <p:nvPr/>
          </p:nvPicPr>
          <p:blipFill>
            <a:blip r:embed="rId1"/>
            <a:stretch/>
          </p:blipFill>
          <p:spPr>
            <a:xfrm>
              <a:off x="1676520" y="3429000"/>
              <a:ext cx="144756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3d" descr=""/>
            <p:cNvPicPr/>
            <p:nvPr/>
          </p:nvPicPr>
          <p:blipFill>
            <a:blip r:embed="rId2"/>
            <a:stretch/>
          </p:blipFill>
          <p:spPr>
            <a:xfrm>
              <a:off x="1905120" y="41911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texture_no" descr=""/>
            <p:cNvPicPr/>
            <p:nvPr/>
          </p:nvPicPr>
          <p:blipFill>
            <a:blip r:embed="rId3"/>
            <a:stretch/>
          </p:blipFill>
          <p:spPr>
            <a:xfrm>
              <a:off x="4038480" y="2819520"/>
              <a:ext cx="2314800" cy="26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338280" y="3807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4000" spc="-1" strike="noStrike">
                  <a:solidFill>
                    <a:srgbClr val="ffffeb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310080" y="2819520"/>
            <a:ext cx="2791080" cy="2666880"/>
            <a:chOff x="6310080" y="2819520"/>
            <a:chExt cx="2791080" cy="2666880"/>
          </a:xfrm>
        </p:grpSpPr>
        <p:pic>
          <p:nvPicPr>
            <p:cNvPr id="100" name="texture_with" descr=""/>
            <p:cNvPicPr/>
            <p:nvPr/>
          </p:nvPicPr>
          <p:blipFill>
            <a:blip r:embed="rId4"/>
            <a:stretch/>
          </p:blipFill>
          <p:spPr>
            <a:xfrm>
              <a:off x="6781680" y="2819520"/>
              <a:ext cx="23194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310080" y="38098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4000" spc="-1" strike="noStrike">
                  <a:solidFill>
                    <a:srgbClr val="ffffeb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Other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3D texture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Feasible on modern hardware as wel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exture filtering is no longer trilinear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ather quadlinear (linear interpolation 4 times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Enables new possibiliti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Can store light in a room, for example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eb"/>
                </a:solidFill>
                <a:latin typeface="Arial"/>
              </a:rPr>
              <a:t>Multitextur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eb"/>
                </a:solidFill>
                <a:latin typeface="Arial"/>
              </a:rPr>
              <a:t>More than one set of texture coords per vertex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eb"/>
                </a:solidFill>
                <a:latin typeface="Arial"/>
              </a:rPr>
              <a:t>The output from the first texture stage is input to the nex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eb"/>
                </a:solidFill>
                <a:latin typeface="Arial"/>
              </a:rPr>
              <a:t>Opens up for many possibiliti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4788000" y="282960"/>
            <a:ext cx="3990240" cy="3917520"/>
            <a:chOff x="4788000" y="282960"/>
            <a:chExt cx="3990240" cy="3917520"/>
          </a:xfrm>
        </p:grpSpPr>
        <p:pic>
          <p:nvPicPr>
            <p:cNvPr id="103" name="cube2" descr=""/>
            <p:cNvPicPr/>
            <p:nvPr/>
          </p:nvPicPr>
          <p:blipFill>
            <a:blip r:embed="rId1"/>
            <a:stretch/>
          </p:blipFill>
          <p:spPr>
            <a:xfrm>
              <a:off x="5176080" y="820800"/>
              <a:ext cx="2890080" cy="28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533800">
              <a:off x="6770160" y="1568520"/>
              <a:ext cx="1121400" cy="1346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145600">
              <a:off x="5294880" y="-15120"/>
              <a:ext cx="2511360" cy="334836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47400">
              <a:off x="7119360" y="1269360"/>
              <a:ext cx="1641240" cy="254268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851600">
              <a:off x="5391000" y="1418040"/>
              <a:ext cx="1641240" cy="254340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76080" y="2615760"/>
              <a:ext cx="1195560" cy="11962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72000" y="3213720"/>
              <a:ext cx="896760" cy="5983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74880" y="820800"/>
              <a:ext cx="2691000" cy="74736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exture coordinat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3657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hat if (u,v) &gt;1.0 or &lt;0.0 ?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o repeat textures, use just the fractional par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Example: 5.3 -&gt; 0.3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epeat, mirror, clamp, border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13" name="cube2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1473120" cy="1473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680400" y="1219320"/>
            <a:ext cx="2829960" cy="2059920"/>
            <a:chOff x="680400" y="1219320"/>
            <a:chExt cx="2829960" cy="2059920"/>
          </a:xfrm>
        </p:grpSpPr>
        <p:sp>
          <p:nvSpPr>
            <p:cNvPr id="115" name=""/>
            <p:cNvSpPr/>
            <p:nvPr/>
          </p:nvSpPr>
          <p:spPr>
            <a:xfrm>
              <a:off x="680400" y="28195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(0,0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37800" y="28195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(1,0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4280" y="12193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(1,1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6880" y="12193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(0,1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295280" y="31240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u,v) in [0,1]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533800">
            <a:off x="4657320" y="1603080"/>
            <a:ext cx="1079640" cy="1295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462120" y="1295280"/>
            <a:ext cx="2829240" cy="2186640"/>
            <a:chOff x="3462120" y="1295280"/>
            <a:chExt cx="2829240" cy="2186640"/>
          </a:xfrm>
        </p:grpSpPr>
        <p:sp>
          <p:nvSpPr>
            <p:cNvPr id="122" name=""/>
            <p:cNvSpPr/>
            <p:nvPr/>
          </p:nvSpPr>
          <p:spPr>
            <a:xfrm>
              <a:off x="4662360" y="2971800"/>
              <a:ext cx="94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(u</a:t>
              </a:r>
              <a:r>
                <a:rPr b="0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0</a:t>
              </a: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,v</a:t>
              </a:r>
              <a:r>
                <a:rPr b="0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0</a:t>
              </a: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48160" y="1295280"/>
              <a:ext cx="94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(u</a:t>
              </a:r>
              <a:r>
                <a:rPr b="0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1</a:t>
              </a: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,v</a:t>
              </a:r>
              <a:r>
                <a:rPr b="0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1</a:t>
              </a: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62120" y="2133720"/>
              <a:ext cx="94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(u</a:t>
              </a:r>
              <a:r>
                <a:rPr b="0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2</a:t>
              </a: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,v</a:t>
              </a:r>
              <a:r>
                <a:rPr b="0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2</a:t>
              </a: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2533800">
            <a:off x="2133360" y="1905120"/>
            <a:ext cx="571320" cy="6858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841400" y="1409760"/>
            <a:ext cx="3797280" cy="1714320"/>
            <a:chOff x="1841400" y="1409760"/>
            <a:chExt cx="3797280" cy="1714320"/>
          </a:xfrm>
        </p:grpSpPr>
        <p:sp>
          <p:nvSpPr>
            <p:cNvPr id="127" name=""/>
            <p:cNvSpPr/>
            <p:nvPr/>
          </p:nvSpPr>
          <p:spPr>
            <a:xfrm>
              <a:off x="2438280" y="2590920"/>
              <a:ext cx="2743200" cy="533160"/>
            </a:xfrm>
            <a:custGeom>
              <a:avLst/>
              <a:gdLst/>
              <a:ahLst/>
              <a:rect l="l" t="t" r="r" b="b"/>
              <a:pathLst>
                <a:path w="1680" h="336">
                  <a:moveTo>
                    <a:pt x="1680" y="336"/>
                  </a:moveTo>
                  <a:cubicBezTo>
                    <a:pt x="1460" y="216"/>
                    <a:pt x="1240" y="96"/>
                    <a:pt x="960" y="48"/>
                  </a:cubicBezTo>
                  <a:cubicBezTo>
                    <a:pt x="680" y="0"/>
                    <a:pt x="160" y="48"/>
                    <a:pt x="0" y="48"/>
                  </a:cubicBezTo>
                </a:path>
              </a:pathLst>
            </a:custGeom>
            <a:noFill/>
            <a:ln w="12600">
              <a:solidFill>
                <a:srgbClr val="ffff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1409760"/>
              <a:ext cx="2971800" cy="660240"/>
            </a:xfrm>
            <a:custGeom>
              <a:avLst/>
              <a:gdLst/>
              <a:ahLst/>
              <a:rect l="l" t="t" r="r" b="b"/>
              <a:pathLst>
                <a:path w="1872" h="416">
                  <a:moveTo>
                    <a:pt x="1872" y="216"/>
                  </a:moveTo>
                  <a:cubicBezTo>
                    <a:pt x="1700" y="108"/>
                    <a:pt x="1528" y="0"/>
                    <a:pt x="1296" y="24"/>
                  </a:cubicBezTo>
                  <a:cubicBezTo>
                    <a:pt x="1064" y="48"/>
                    <a:pt x="696" y="304"/>
                    <a:pt x="480" y="360"/>
                  </a:cubicBezTo>
                  <a:cubicBezTo>
                    <a:pt x="264" y="416"/>
                    <a:pt x="80" y="360"/>
                    <a:pt x="0" y="360"/>
                  </a:cubicBezTo>
                </a:path>
              </a:pathLst>
            </a:custGeom>
            <a:noFill/>
            <a:ln w="12600">
              <a:solidFill>
                <a:srgbClr val="ffff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1400" y="1663560"/>
              <a:ext cx="2578320" cy="698760"/>
            </a:xfrm>
            <a:custGeom>
              <a:avLst/>
              <a:gdLst/>
              <a:ahLst/>
              <a:rect l="l" t="t" r="r" b="b"/>
              <a:pathLst>
                <a:path w="1624" h="440">
                  <a:moveTo>
                    <a:pt x="1624" y="440"/>
                  </a:moveTo>
                  <a:cubicBezTo>
                    <a:pt x="1564" y="332"/>
                    <a:pt x="1504" y="224"/>
                    <a:pt x="1384" y="152"/>
                  </a:cubicBezTo>
                  <a:cubicBezTo>
                    <a:pt x="1264" y="80"/>
                    <a:pt x="1112" y="16"/>
                    <a:pt x="904" y="8"/>
                  </a:cubicBezTo>
                  <a:cubicBezTo>
                    <a:pt x="696" y="0"/>
                    <a:pt x="272" y="40"/>
                    <a:pt x="136" y="104"/>
                  </a:cubicBezTo>
                  <a:cubicBezTo>
                    <a:pt x="0" y="168"/>
                    <a:pt x="96" y="344"/>
                    <a:pt x="88" y="392"/>
                  </a:cubicBezTo>
                </a:path>
              </a:pathLst>
            </a:custGeom>
            <a:noFill/>
            <a:ln w="12600">
              <a:solidFill>
                <a:srgbClr val="ffff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362320" y="2222640"/>
            <a:ext cx="4876560" cy="1587240"/>
            <a:chOff x="2362320" y="2222640"/>
            <a:chExt cx="4876560" cy="1587240"/>
          </a:xfrm>
        </p:grpSpPr>
        <p:sp>
          <p:nvSpPr>
            <p:cNvPr id="131" name=""/>
            <p:cNvSpPr/>
            <p:nvPr/>
          </p:nvSpPr>
          <p:spPr>
            <a:xfrm>
              <a:off x="7162920" y="2438280"/>
              <a:ext cx="75960" cy="7632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2320" y="2222640"/>
              <a:ext cx="4800600" cy="1587240"/>
            </a:xfrm>
            <a:custGeom>
              <a:avLst/>
              <a:gdLst/>
              <a:ahLst/>
              <a:rect l="l" t="t" r="r" b="b"/>
              <a:pathLst>
                <a:path w="3024" h="1000">
                  <a:moveTo>
                    <a:pt x="3024" y="184"/>
                  </a:moveTo>
                  <a:cubicBezTo>
                    <a:pt x="2952" y="388"/>
                    <a:pt x="2880" y="592"/>
                    <a:pt x="2688" y="712"/>
                  </a:cubicBezTo>
                  <a:cubicBezTo>
                    <a:pt x="2496" y="832"/>
                    <a:pt x="2216" y="1000"/>
                    <a:pt x="1872" y="904"/>
                  </a:cubicBezTo>
                  <a:cubicBezTo>
                    <a:pt x="1528" y="808"/>
                    <a:pt x="936" y="272"/>
                    <a:pt x="624" y="136"/>
                  </a:cubicBezTo>
                  <a:cubicBezTo>
                    <a:pt x="312" y="0"/>
                    <a:pt x="104" y="96"/>
                    <a:pt x="0" y="88"/>
                  </a:cubicBezTo>
                </a:path>
              </a:pathLst>
            </a:custGeom>
            <a:noFill/>
            <a:ln w="9360">
              <a:solidFill>
                <a:srgbClr val="ffff0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pic>
        <p:nvPicPr>
          <p:cNvPr id="133" name="repeat" descr=""/>
          <p:cNvPicPr/>
          <p:nvPr/>
        </p:nvPicPr>
        <p:blipFill>
          <a:blip r:embed="rId3"/>
          <a:stretch/>
        </p:blipFill>
        <p:spPr>
          <a:xfrm>
            <a:off x="1523880" y="5410080"/>
            <a:ext cx="6286680" cy="143208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29120" y="6442200"/>
            <a:ext cx="1171080" cy="459720"/>
            <a:chOff x="429120" y="6442200"/>
            <a:chExt cx="1171080" cy="459720"/>
          </a:xfrm>
        </p:grpSpPr>
        <p:sp>
          <p:nvSpPr>
            <p:cNvPr id="135" name=""/>
            <p:cNvSpPr/>
            <p:nvPr/>
          </p:nvSpPr>
          <p:spPr>
            <a:xfrm>
              <a:off x="429120" y="644220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(-1,-1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19320" y="6705720"/>
              <a:ext cx="38088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3360" y="5486400"/>
            <a:ext cx="2742120" cy="688320"/>
            <a:chOff x="153360" y="5486400"/>
            <a:chExt cx="2742120" cy="688320"/>
          </a:xfrm>
        </p:grpSpPr>
        <p:sp>
          <p:nvSpPr>
            <p:cNvPr id="138" name=""/>
            <p:cNvSpPr/>
            <p:nvPr/>
          </p:nvSpPr>
          <p:spPr>
            <a:xfrm>
              <a:off x="153360" y="57150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(2,2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080" y="5486400"/>
              <a:ext cx="2057400" cy="495360"/>
            </a:xfrm>
            <a:custGeom>
              <a:avLst/>
              <a:gdLst/>
              <a:ahLst/>
              <a:rect l="l" t="t" r="r" b="b"/>
              <a:pathLst>
                <a:path w="1296" h="312">
                  <a:moveTo>
                    <a:pt x="0" y="288"/>
                  </a:moveTo>
                  <a:cubicBezTo>
                    <a:pt x="52" y="216"/>
                    <a:pt x="104" y="144"/>
                    <a:pt x="240" y="144"/>
                  </a:cubicBezTo>
                  <a:cubicBezTo>
                    <a:pt x="376" y="144"/>
                    <a:pt x="640" y="312"/>
                    <a:pt x="816" y="288"/>
                  </a:cubicBezTo>
                  <a:cubicBezTo>
                    <a:pt x="992" y="264"/>
                    <a:pt x="1216" y="48"/>
                    <a:pt x="1296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exture magnific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hat does the                                   theory say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42" name="magn_resample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2438280" cy="1920600"/>
          </a:xfrm>
          <a:prstGeom prst="rect">
            <a:avLst/>
          </a:prstGeom>
          <a:ln w="0">
            <a:noFill/>
          </a:ln>
        </p:spPr>
      </p:pic>
      <p:pic>
        <p:nvPicPr>
          <p:cNvPr id="143" name="magn_signal" descr=""/>
          <p:cNvPicPr/>
          <p:nvPr/>
        </p:nvPicPr>
        <p:blipFill>
          <a:blip r:embed="rId2"/>
          <a:stretch/>
        </p:blipFill>
        <p:spPr>
          <a:xfrm>
            <a:off x="4038480" y="1219320"/>
            <a:ext cx="2514600" cy="1957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14400" y="320040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sinc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x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s not feasible in real time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ox filter (nearest-neighbor) i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oor quality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45" name="texture_nearest" descr=""/>
          <p:cNvPicPr/>
          <p:nvPr/>
        </p:nvPicPr>
        <p:blipFill>
          <a:blip r:embed="rId3"/>
          <a:stretch/>
        </p:blipFill>
        <p:spPr>
          <a:xfrm>
            <a:off x="3733920" y="4343400"/>
            <a:ext cx="31240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exture magnific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ent filter is                                      feasible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inear                                          interpola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48" name="recon_tri" descr=""/>
          <p:cNvPicPr/>
          <p:nvPr/>
        </p:nvPicPr>
        <p:blipFill>
          <a:blip r:embed="rId1"/>
          <a:stretch/>
        </p:blipFill>
        <p:spPr>
          <a:xfrm>
            <a:off x="3657600" y="1335240"/>
            <a:ext cx="5486400" cy="2398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14400" y="37339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ooks better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imple in 1D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(1-t)*color0+t*color1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ow about 2D?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50" name="texture_bilinear" descr=""/>
          <p:cNvPicPr/>
          <p:nvPr/>
        </p:nvPicPr>
        <p:blipFill>
          <a:blip r:embed="rId2"/>
          <a:stretch/>
        </p:blipFill>
        <p:spPr>
          <a:xfrm>
            <a:off x="6337440" y="3809880"/>
            <a:ext cx="28065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ilinear interpol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exture coordinates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u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,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n [0,1]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exture images size: n*m texel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earest neighbor would access:                ( floor(n*u), floor(m*v) 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terpolate 1D in x &amp; 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53" name="billinear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2971800" cy="2225880"/>
          </a:xfrm>
          <a:prstGeom prst="rect">
            <a:avLst/>
          </a:prstGeom>
          <a:ln w="0">
            <a:noFill/>
          </a:ln>
        </p:spPr>
      </p:pic>
      <p:pic>
        <p:nvPicPr>
          <p:cNvPr id="154" name="billinear2" descr=""/>
          <p:cNvPicPr/>
          <p:nvPr/>
        </p:nvPicPr>
        <p:blipFill>
          <a:blip r:embed="rId2"/>
          <a:stretch/>
        </p:blipFill>
        <p:spPr>
          <a:xfrm>
            <a:off x="3984480" y="4495680"/>
            <a:ext cx="2187720" cy="2210040"/>
          </a:xfrm>
          <a:prstGeom prst="rect">
            <a:avLst/>
          </a:prstGeom>
          <a:ln w="0">
            <a:noFill/>
          </a:ln>
        </p:spPr>
      </p:pic>
      <p:pic>
        <p:nvPicPr>
          <p:cNvPr id="155" name="billinear3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22482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ilinear interpol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heck out this formula at hom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,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ccesses the texture map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b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,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 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filtered tex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58" name="billinear_formula" descr=""/>
          <p:cNvPicPr/>
          <p:nvPr/>
        </p:nvPicPr>
        <p:blipFill>
          <a:blip r:embed="rId1"/>
          <a:stretch/>
        </p:blipFill>
        <p:spPr>
          <a:xfrm>
            <a:off x="0" y="3948120"/>
            <a:ext cx="9144000" cy="1157400"/>
          </a:xfrm>
          <a:prstGeom prst="rect">
            <a:avLst/>
          </a:prstGeom>
          <a:ln w="0">
            <a:noFill/>
          </a:ln>
        </p:spPr>
      </p:pic>
      <p:pic>
        <p:nvPicPr>
          <p:cNvPr id="159" name="billinear_params" descr=""/>
          <p:cNvPicPr/>
          <p:nvPr/>
        </p:nvPicPr>
        <p:blipFill>
          <a:blip r:embed="rId2"/>
          <a:stretch/>
        </p:blipFill>
        <p:spPr>
          <a:xfrm>
            <a:off x="838080" y="3222720"/>
            <a:ext cx="59436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exture minification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at does a pixel ”see”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35809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ory (sinc) is too expensiv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heaper: average of texel inside a pix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till too expensive, actuall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ipmaps – another level of approximatio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Prefilter texture maps as shown on next slid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62" name="minification" descr=""/>
          <p:cNvPicPr/>
          <p:nvPr/>
        </p:nvPicPr>
        <p:blipFill>
          <a:blip r:embed="rId1"/>
          <a:stretch/>
        </p:blipFill>
        <p:spPr>
          <a:xfrm>
            <a:off x="1828800" y="1455840"/>
            <a:ext cx="59436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ipmapp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mage pyrami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alf width and  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   height when going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        upward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verage over 4 ”parent texels” to form ”child texel”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epending on amount of minification, determine which image to fetch fro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mpute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d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first, gives two imag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Bilinear interpolation in each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65" name="mip_pyramid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08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V="1">
            <a:off x="5410080" y="2895120"/>
            <a:ext cx="13716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3048120"/>
            <a:ext cx="76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723920" y="213336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81000" y="228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410080" y="19051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960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Tomas Akenine-Möller</cp:lastModifiedBy>
  <cp:lastPrinted>2000-03-14T19:25:07Z</cp:lastPrinted>
  <dcterms:modified xsi:type="dcterms:W3CDTF">2003-03-23T20:48:37Z</dcterms:modified>
  <cp:revision>186</cp:revision>
  <dc:subject/>
  <dc:title>CS248</dc:title>
</cp:coreProperties>
</file>