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67D71-9235-41EC-A3FD-842984A393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325CD-4553-44B4-8057-EBE0C7E6B4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48E38-98C9-41DA-B1DD-CCDAEEBE9C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94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248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0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94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248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72A84-351D-45E0-8175-874CBB8200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C3AD4-AFF2-4D94-AA37-844F5A164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70FD1-6844-4DB1-8F91-EB90F355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84066-EC89-4B3D-821B-64224671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74EA9-78D0-46FD-93FF-8278B32F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C594D-A76B-4DBF-A84B-465435DE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360" y="1519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5D708-0EC9-4468-BABD-59CD1B72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E46ED-0B37-42D6-B295-CD98FF66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ED4DA-32D6-47E3-BFAE-60ADD15604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D8175-1B8B-4C92-A491-35F1F8F2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1DA4A-D0CC-4545-8476-E02F16C4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CF11F-AA34-4A34-98E0-DC6FAB29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233A0-F3F9-469D-BAF7-D0DD7C135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94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248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0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94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248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F8E7E-1B03-4043-A28D-1B1A0B31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83993-5AF1-4B13-82A6-33A5B1EC0E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39329-F76E-40BF-890D-C639F40ECB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69E40-EE5E-4F06-8620-4B9BDDB194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360" y="1519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4283A-623C-4AF0-98A4-CFE60392F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28774-2469-4D86-BE3F-DA09E7100C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7F2DD-7534-495A-852C-379C0A3B0B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F3F41-1C68-4162-80B1-ED050E6D28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38080" cy="6858000"/>
          </a:xfrm>
          <a:prstGeom prst="rect">
            <a:avLst/>
          </a:pr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0"/>
            <a:ext cx="2514600" cy="1676520"/>
          </a:xfrm>
          <a:prstGeom prst="rect">
            <a:avLst/>
          </a:pr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1371600"/>
            <a:ext cx="5105520" cy="6094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eb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248160" y="6550560"/>
            <a:ext cx="28191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82b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82be"/>
                </a:solidFill>
                <a:latin typeface="Arial"/>
              </a:rPr>
              <a:t>Tomas Akenine-M</a:t>
            </a:r>
            <a:r>
              <a:rPr b="0" lang="en-US" sz="1400" spc="-1" strike="noStrike">
                <a:solidFill>
                  <a:srgbClr val="5a82be"/>
                </a:solidFill>
                <a:latin typeface="Arial"/>
                <a:ea typeface="Arial"/>
              </a:rPr>
              <a:t>ő</a:t>
            </a:r>
            <a:r>
              <a:rPr b="0" lang="en-US" sz="1400" spc="-1" strike="noStrike">
                <a:solidFill>
                  <a:srgbClr val="5a82be"/>
                </a:solidFill>
                <a:latin typeface="Arial"/>
              </a:rPr>
              <a:t>ller </a:t>
            </a:r>
            <a:r>
              <a:rPr b="0" lang="en-US" sz="1400" spc="-1" strike="noStrike">
                <a:solidFill>
                  <a:srgbClr val="5a82be"/>
                </a:solidFill>
                <a:latin typeface="Arial"/>
                <a:ea typeface="Arial"/>
              </a:rPr>
              <a:t>©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13D2-9B8C-4683-9879-E7EC44405E21}" type="slidenum">
              <a:rPr b="1" lang="en-US" sz="26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6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dt" idx="3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4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5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02F3-ADFD-4CD8-9B8E-AFD2C2375B9F}" type="slidenum">
              <a:rPr b="1" lang="en-US" sz="26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b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eb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eb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9"/>
                </a:solidFill>
                <a:latin typeface="Arial"/>
              </a:rPr>
              <a:t>Collision Detection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73520" y="3428640"/>
            <a:ext cx="44704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b"/>
                </a:solidFill>
                <a:latin typeface="Arial"/>
              </a:rPr>
              <a:t>Tomas Akenine-Möller</a:t>
            </a:r>
            <a:endParaRPr b="0" lang="en-US" sz="2000" spc="-1" strike="noStrike">
              <a:solidFill>
                <a:srgbClr val="ffff0b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b"/>
                </a:solidFill>
                <a:latin typeface="Arial"/>
              </a:rPr>
              <a:t>Department of Computer Engineering</a:t>
            </a:r>
            <a:endParaRPr b="0" lang="en-US" sz="2000" spc="-1" strike="noStrike">
              <a:solidFill>
                <a:srgbClr val="ffff0b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b"/>
                </a:solidFill>
                <a:latin typeface="Arial"/>
              </a:rPr>
              <a:t>Chalmers University of Technology</a:t>
            </a:r>
            <a:endParaRPr b="0" lang="en-US" sz="2000" spc="-1" strike="noStrike">
              <a:solidFill>
                <a:srgbClr val="ffff0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A CD system for accurate detection and for many object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57146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We’ll deal with ”pruning” and ”exact CD”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”</a:t>
            </a: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Simulation” is how objects move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21" name="system_cd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85808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Complex object against            complex object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If accurate result is needed, turn to BVH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Use a separate BVH for the two object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est BVH against other BVH for overlap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When triangles overlap, compute exact intersection, if neede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But, first, a clarification on BVH build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24" name="system_cd" descr="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1446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458200" y="533520"/>
            <a:ext cx="685800" cy="45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BVH building example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Can split on triangle level as well (not clear from previous presentation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914400" y="2895480"/>
            <a:ext cx="2362320" cy="990720"/>
            <a:chOff x="914400" y="2895480"/>
            <a:chExt cx="2362320" cy="990720"/>
          </a:xfrm>
        </p:grpSpPr>
        <p:sp>
          <p:nvSpPr>
            <p:cNvPr id="129" name=""/>
            <p:cNvSpPr/>
            <p:nvPr/>
          </p:nvSpPr>
          <p:spPr>
            <a:xfrm>
              <a:off x="1371600" y="2895480"/>
              <a:ext cx="914400" cy="990720"/>
            </a:xfrm>
            <a:prstGeom prst="triangle">
              <a:avLst>
                <a:gd name="adj" fmla="val 50000"/>
              </a:avLst>
            </a:prstGeom>
            <a:solidFill>
              <a:srgbClr val="2535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1828800" y="2895480"/>
              <a:ext cx="457200" cy="990720"/>
            </a:xfrm>
            <a:prstGeom prst="rtTriangle">
              <a:avLst/>
            </a:prstGeom>
            <a:solidFill>
              <a:srgbClr val="fff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86000" y="2895480"/>
              <a:ext cx="990720" cy="990720"/>
            </a:xfrm>
            <a:prstGeom prst="rtTriangl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0800000">
              <a:off x="2286000" y="2895480"/>
              <a:ext cx="990720" cy="990720"/>
            </a:xfrm>
            <a:prstGeom prst="rtTriangle">
              <a:avLst/>
            </a:prstGeom>
            <a:solidFill>
              <a:srgbClr val="2535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914400" y="2895480"/>
              <a:ext cx="914400" cy="990720"/>
            </a:xfrm>
            <a:prstGeom prst="triangle">
              <a:avLst>
                <a:gd name="adj" fmla="val 50000"/>
              </a:avLst>
            </a:prstGeom>
            <a:solidFill>
              <a:srgbClr val="ef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838080" y="2819520"/>
            <a:ext cx="2514600" cy="1143000"/>
          </a:xfrm>
          <a:prstGeom prst="rect">
            <a:avLst/>
          </a:prstGeom>
          <a:noFill/>
          <a:ln w="28440">
            <a:solidFill>
              <a:srgbClr val="ff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876920" y="2438280"/>
            <a:ext cx="2514600" cy="2133720"/>
            <a:chOff x="4876920" y="2438280"/>
            <a:chExt cx="2514600" cy="2133720"/>
          </a:xfrm>
        </p:grpSpPr>
        <p:grpSp>
          <p:nvGrpSpPr>
            <p:cNvPr id="136" name=""/>
            <p:cNvGrpSpPr/>
            <p:nvPr/>
          </p:nvGrpSpPr>
          <p:grpSpPr>
            <a:xfrm>
              <a:off x="4952880" y="2895480"/>
              <a:ext cx="2362320" cy="990720"/>
              <a:chOff x="4952880" y="2895480"/>
              <a:chExt cx="2362320" cy="990720"/>
            </a:xfrm>
          </p:grpSpPr>
          <p:sp>
            <p:nvSpPr>
              <p:cNvPr id="137" name=""/>
              <p:cNvSpPr/>
              <p:nvPr/>
            </p:nvSpPr>
            <p:spPr>
              <a:xfrm>
                <a:off x="5410080" y="2895480"/>
                <a:ext cx="914400" cy="990720"/>
              </a:xfrm>
              <a:prstGeom prst="triangle">
                <a:avLst>
                  <a:gd name="adj" fmla="val 50000"/>
                </a:avLst>
              </a:prstGeom>
              <a:solidFill>
                <a:srgbClr val="2535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 flipV="1">
                <a:off x="5867280" y="2895480"/>
                <a:ext cx="457200" cy="990720"/>
              </a:xfrm>
              <a:prstGeom prst="rtTriangle">
                <a:avLst/>
              </a:prstGeom>
              <a:solidFill>
                <a:srgbClr val="ffff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324480" y="2895480"/>
                <a:ext cx="990720" cy="990720"/>
              </a:xfrm>
              <a:prstGeom prst="rtTriangl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10800000">
                <a:off x="6324480" y="2895480"/>
                <a:ext cx="990720" cy="990720"/>
              </a:xfrm>
              <a:prstGeom prst="rtTriangle">
                <a:avLst/>
              </a:prstGeom>
              <a:solidFill>
                <a:srgbClr val="2535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4952880" y="2895480"/>
                <a:ext cx="914400" cy="990720"/>
              </a:xfrm>
              <a:prstGeom prst="triangle">
                <a:avLst>
                  <a:gd name="adj" fmla="val 50000"/>
                </a:avLst>
              </a:prstGeom>
              <a:solidFill>
                <a:srgbClr val="ef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4876920" y="2819520"/>
              <a:ext cx="2514600" cy="1143000"/>
            </a:xfrm>
            <a:prstGeom prst="rect">
              <a:avLst/>
            </a:prstGeom>
            <a:noFill/>
            <a:ln w="2844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48520" y="2438280"/>
              <a:ext cx="0" cy="2133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429360" y="2530440"/>
            <a:ext cx="1258200" cy="825480"/>
            <a:chOff x="3429360" y="2530440"/>
            <a:chExt cx="1258200" cy="825480"/>
          </a:xfrm>
        </p:grpSpPr>
        <p:sp>
          <p:nvSpPr>
            <p:cNvPr id="145" name=""/>
            <p:cNvSpPr/>
            <p:nvPr/>
          </p:nvSpPr>
          <p:spPr>
            <a:xfrm>
              <a:off x="3504960" y="3352680"/>
              <a:ext cx="1143000" cy="0"/>
            </a:xfrm>
            <a:prstGeom prst="line">
              <a:avLst/>
            </a:prstGeom>
            <a:ln w="7632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29360" y="2530440"/>
              <a:ext cx="125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Use split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plane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589880" y="2438280"/>
            <a:ext cx="1553760" cy="1922760"/>
            <a:chOff x="7589880" y="2438280"/>
            <a:chExt cx="1553760" cy="1922760"/>
          </a:xfrm>
        </p:grpSpPr>
        <p:sp>
          <p:nvSpPr>
            <p:cNvPr id="148" name=""/>
            <p:cNvSpPr/>
            <p:nvPr/>
          </p:nvSpPr>
          <p:spPr>
            <a:xfrm>
              <a:off x="7589880" y="3428640"/>
              <a:ext cx="1447920" cy="0"/>
            </a:xfrm>
            <a:prstGeom prst="line">
              <a:avLst/>
            </a:prstGeom>
            <a:ln w="7632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89880" y="2438280"/>
              <a:ext cx="15537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Sort using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plane, w.r.t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triangle 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centroids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80880" y="4495680"/>
            <a:ext cx="1371600" cy="2133360"/>
            <a:chOff x="380880" y="4495680"/>
            <a:chExt cx="1371600" cy="2133360"/>
          </a:xfrm>
        </p:grpSpPr>
        <p:sp>
          <p:nvSpPr>
            <p:cNvPr id="151" name=""/>
            <p:cNvSpPr/>
            <p:nvPr/>
          </p:nvSpPr>
          <p:spPr>
            <a:xfrm>
              <a:off x="838080" y="4952880"/>
              <a:ext cx="914400" cy="990360"/>
            </a:xfrm>
            <a:prstGeom prst="triangle">
              <a:avLst>
                <a:gd name="adj" fmla="val 50000"/>
              </a:avLst>
            </a:prstGeom>
            <a:solidFill>
              <a:srgbClr val="2535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1295280" y="4952160"/>
              <a:ext cx="457200" cy="990360"/>
            </a:xfrm>
            <a:prstGeom prst="rtTriangle">
              <a:avLst/>
            </a:prstGeom>
            <a:solidFill>
              <a:srgbClr val="fff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80880" y="4952160"/>
              <a:ext cx="914400" cy="990360"/>
            </a:xfrm>
            <a:prstGeom prst="triangle">
              <a:avLst>
                <a:gd name="adj" fmla="val 50000"/>
              </a:avLst>
            </a:prstGeom>
            <a:solidFill>
              <a:srgbClr val="ef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6520" y="4495680"/>
              <a:ext cx="0" cy="2133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438280" y="4495680"/>
            <a:ext cx="1067040" cy="2133360"/>
            <a:chOff x="2438280" y="4495680"/>
            <a:chExt cx="1067040" cy="2133360"/>
          </a:xfrm>
        </p:grpSpPr>
        <p:sp>
          <p:nvSpPr>
            <p:cNvPr id="156" name=""/>
            <p:cNvSpPr/>
            <p:nvPr/>
          </p:nvSpPr>
          <p:spPr>
            <a:xfrm>
              <a:off x="2514600" y="4952880"/>
              <a:ext cx="990720" cy="990360"/>
            </a:xfrm>
            <a:prstGeom prst="rtTriangl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0800000">
              <a:off x="2514600" y="4952520"/>
              <a:ext cx="990720" cy="990360"/>
            </a:xfrm>
            <a:prstGeom prst="rtTriangle">
              <a:avLst/>
            </a:prstGeom>
            <a:solidFill>
              <a:srgbClr val="2535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38280" y="4495680"/>
              <a:ext cx="0" cy="2133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872000" y="518148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563640" y="4816440"/>
            <a:ext cx="1835640" cy="825480"/>
            <a:chOff x="3563640" y="4816440"/>
            <a:chExt cx="1835640" cy="825480"/>
          </a:xfrm>
        </p:grpSpPr>
        <p:sp>
          <p:nvSpPr>
            <p:cNvPr id="161" name=""/>
            <p:cNvSpPr/>
            <p:nvPr/>
          </p:nvSpPr>
          <p:spPr>
            <a:xfrm>
              <a:off x="3922560" y="5638680"/>
              <a:ext cx="1143000" cy="0"/>
            </a:xfrm>
            <a:prstGeom prst="line">
              <a:avLst/>
            </a:prstGeom>
            <a:ln w="7632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63640" y="4816440"/>
              <a:ext cx="183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Find minimal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boxes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78120" y="518148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486400" y="4876920"/>
            <a:ext cx="2514600" cy="1143000"/>
            <a:chOff x="5486400" y="4876920"/>
            <a:chExt cx="2514600" cy="1143000"/>
          </a:xfrm>
        </p:grpSpPr>
        <p:sp>
          <p:nvSpPr>
            <p:cNvPr id="165" name=""/>
            <p:cNvSpPr/>
            <p:nvPr/>
          </p:nvSpPr>
          <p:spPr>
            <a:xfrm>
              <a:off x="6019920" y="4952880"/>
              <a:ext cx="914400" cy="990720"/>
            </a:xfrm>
            <a:prstGeom prst="triangle">
              <a:avLst>
                <a:gd name="adj" fmla="val 50000"/>
              </a:avLst>
            </a:prstGeom>
            <a:solidFill>
              <a:srgbClr val="2535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6477120" y="4952880"/>
              <a:ext cx="457200" cy="990720"/>
            </a:xfrm>
            <a:prstGeom prst="rtTriangle">
              <a:avLst/>
            </a:prstGeom>
            <a:solidFill>
              <a:srgbClr val="fff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5562720" y="4952880"/>
              <a:ext cx="914400" cy="990720"/>
            </a:xfrm>
            <a:prstGeom prst="triangle">
              <a:avLst>
                <a:gd name="adj" fmla="val 50000"/>
              </a:avLst>
            </a:prstGeom>
            <a:solidFill>
              <a:srgbClr val="ef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934320" y="4952880"/>
              <a:ext cx="990360" cy="990720"/>
            </a:xfrm>
            <a:prstGeom prst="rtTriangl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0800000">
              <a:off x="6933960" y="4952880"/>
              <a:ext cx="990360" cy="990720"/>
            </a:xfrm>
            <a:prstGeom prst="rtTriangle">
              <a:avLst/>
            </a:prstGeom>
            <a:solidFill>
              <a:srgbClr val="2535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86400" y="4876920"/>
              <a:ext cx="1523880" cy="1143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858000" y="4876920"/>
              <a:ext cx="1143000" cy="1143000"/>
            </a:xfrm>
            <a:prstGeom prst="rect">
              <a:avLst/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603480" y="6137280"/>
            <a:ext cx="173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Times New Roman"/>
              </a:rPr>
              <a:t>…</a:t>
            </a:r>
            <a:r>
              <a:rPr b="0" lang="sv-SE" sz="2400" spc="-1" strike="noStrike">
                <a:solidFill>
                  <a:srgbClr val="ffffeb"/>
                </a:solidFill>
                <a:latin typeface="Times New Roman"/>
              </a:rPr>
              <a:t>and so on.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Pseudo code for BVH against BVH</a:t>
            </a:r>
            <a:br>
              <a:rPr sz="3600"/>
            </a:b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6019920" cy="54324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718240" y="1447920"/>
            <a:ext cx="3980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Times New Roman"/>
              </a:rPr>
              <a:t>Pseudocode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Times New Roman"/>
              </a:rPr>
              <a:t>deals with 4 cases: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Times New Roman"/>
              </a:rPr>
              <a:t>1) Leaf against   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Times New Roman"/>
              </a:rPr>
              <a:t>     </a:t>
            </a:r>
            <a:r>
              <a:rPr b="0" lang="sv-SE" sz="2400" spc="-1" strike="noStrike">
                <a:solidFill>
                  <a:srgbClr val="ffffeb"/>
                </a:solidFill>
                <a:latin typeface="Times New Roman"/>
              </a:rPr>
              <a:t>leaf node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Times New Roman"/>
              </a:rPr>
              <a:t>2) Internal node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Times New Roman"/>
              </a:rPr>
              <a:t>    </a:t>
            </a:r>
            <a:r>
              <a:rPr b="0" lang="sv-SE" sz="2400" spc="-1" strike="noStrike">
                <a:solidFill>
                  <a:srgbClr val="ffffeb"/>
                </a:solidFill>
                <a:latin typeface="Times New Roman"/>
              </a:rPr>
              <a:t>against internal node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Times New Roman"/>
              </a:rPr>
              <a:t>3) Internal against leaf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Times New Roman"/>
              </a:rPr>
              <a:t>4) Leaf against internal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PSEUDO coden ÄR fel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Comments on pseudocode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he code terminated when it found the first triangle pair that collide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imple to modify code to continue traversal and put each pair in a lis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Reasonably simple to include rotations for objects as wel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Note that if we use AABB for both BVHs, then the AABB-AABB test becomes a         AABB-OBB tes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Tradeoff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he choice of BV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AABB, OBB, k-DOP, sphere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In general, the tighter BV, the slower test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80" name="bv_comp" descr=""/>
          <p:cNvPicPr/>
          <p:nvPr/>
        </p:nvPicPr>
        <p:blipFill>
          <a:blip r:embed="rId1"/>
          <a:stretch/>
        </p:blipFill>
        <p:spPr>
          <a:xfrm>
            <a:off x="2133720" y="2743200"/>
            <a:ext cx="4952880" cy="1541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914400" y="4267080"/>
            <a:ext cx="8001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Less tight BV, gives more triangle-triangle tests in the end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Cost function: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  <p:pic>
        <p:nvPicPr>
          <p:cNvPr id="182" name="cost_funct_eq" descr=""/>
          <p:cNvPicPr/>
          <p:nvPr/>
        </p:nvPicPr>
        <p:blipFill>
          <a:blip r:embed="rId2"/>
          <a:stretch/>
        </p:blipFill>
        <p:spPr>
          <a:xfrm>
            <a:off x="1397160" y="5956200"/>
            <a:ext cx="4394160" cy="673200"/>
          </a:xfrm>
          <a:prstGeom prst="rect">
            <a:avLst/>
          </a:prstGeom>
          <a:ln w="0">
            <a:noFill/>
          </a:ln>
        </p:spPr>
      </p:pic>
      <p:pic>
        <p:nvPicPr>
          <p:cNvPr id="183" name="cost_funct_params" descr=""/>
          <p:cNvPicPr/>
          <p:nvPr/>
        </p:nvPicPr>
        <p:blipFill>
          <a:blip r:embed="rId3"/>
          <a:stretch/>
        </p:blipFill>
        <p:spPr>
          <a:xfrm>
            <a:off x="4343400" y="0"/>
            <a:ext cx="48006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CD between                                 many objects 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Why needed?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Consider several hundreds of rocks tumbling down a slope…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his system is often called ”First-Level CD”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We execute this system because we want to execute the 2</a:t>
            </a:r>
            <a:r>
              <a:rPr b="0" lang="sv-SE" sz="2800" spc="-1" strike="noStrike" baseline="30000">
                <a:solidFill>
                  <a:srgbClr val="ffffeb"/>
                </a:solidFill>
                <a:latin typeface="Arial"/>
              </a:rPr>
              <a:t>nd</a:t>
            </a: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 system less frequently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Assume high frame-to-frame coherency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Means that object is close to where it was previous frame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Reasonable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86" name="system_cd" descr="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14461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543800" y="0"/>
            <a:ext cx="68580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Sweep-and-prune algorithm</a:t>
            </a:r>
            <a:br>
              <a:rPr sz="3600"/>
            </a:br>
            <a:r>
              <a:rPr b="1" lang="sv-SE" sz="2400" spc="-1" strike="noStrike">
                <a:solidFill>
                  <a:srgbClr val="ffff9b"/>
                </a:solidFill>
                <a:latin typeface="Arial"/>
              </a:rPr>
              <a:t>[by Ming Lin]</a:t>
            </a:r>
            <a:endParaRPr b="1" lang="en-US" sz="24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ssume objects may translate and rotat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hen we can find a minimal cube, which is guaranteed to contain object for all rotation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Do collision overlap three time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One for x,y, and z-axes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Let’s concentrate on one axis at a tim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Each cube on this axis is an interval, from 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s</a:t>
            </a:r>
            <a:r>
              <a:rPr b="0" i="1" lang="sv-SE" sz="3200" spc="-1" strike="noStrike" baseline="-25000">
                <a:solidFill>
                  <a:srgbClr val="ffffeb"/>
                </a:solidFill>
                <a:latin typeface="Times New Roman"/>
              </a:rPr>
              <a:t>i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to 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e</a:t>
            </a:r>
            <a:r>
              <a:rPr b="0" i="1" lang="sv-SE" sz="3200" spc="-1" strike="noStrike" baseline="-25000">
                <a:solidFill>
                  <a:srgbClr val="ffffeb"/>
                </a:solidFill>
                <a:latin typeface="Times New Roman"/>
              </a:rPr>
              <a:t>i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, where 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i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is cube numb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Sweep-and-prune algorithm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ort all 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s</a:t>
            </a:r>
            <a:r>
              <a:rPr b="0" i="1" lang="sv-SE" sz="3200" spc="-1" strike="noStrike" baseline="-25000">
                <a:solidFill>
                  <a:srgbClr val="ffffeb"/>
                </a:solidFill>
                <a:latin typeface="Times New Roman"/>
              </a:rPr>
              <a:t>i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and 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e</a:t>
            </a:r>
            <a:r>
              <a:rPr b="0" i="1" lang="sv-SE" sz="3200" spc="-1" strike="noStrike" baseline="-25000">
                <a:solidFill>
                  <a:srgbClr val="ffffeb"/>
                </a:solidFill>
                <a:latin typeface="Times New Roman"/>
              </a:rPr>
              <a:t>i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into a lis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raverse list from start to en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When an 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s 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is encounted, mark corresponding interval as active in an </a:t>
            </a:r>
            <a:r>
              <a:rPr b="1" lang="sv-SE" sz="3200" spc="-1" strike="noStrike">
                <a:solidFill>
                  <a:srgbClr val="ffffeb"/>
                </a:solidFill>
                <a:latin typeface="Courier New"/>
              </a:rPr>
              <a:t>active_interval_lis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When an 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e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is encountered, delete the interval in </a:t>
            </a:r>
            <a:r>
              <a:rPr b="1" lang="sv-SE" sz="3200" spc="-1" strike="noStrike">
                <a:solidFill>
                  <a:srgbClr val="ffffeb"/>
                </a:solidFill>
                <a:latin typeface="Courier New"/>
              </a:rPr>
              <a:t>active_interval_lis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ll intervals in </a:t>
            </a:r>
            <a:r>
              <a:rPr b="1" lang="sv-SE" sz="3200" spc="-1" strike="noStrike">
                <a:solidFill>
                  <a:srgbClr val="ffffeb"/>
                </a:solidFill>
                <a:latin typeface="Courier New"/>
              </a:rPr>
              <a:t>active_interval_ list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are overlapping!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Sweep-and-prune algorithm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Now sorting is expensive: O(n*log n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But, exploit frame-to-frame coherency!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he list is not expected to change much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herefore, ”resort” with bubble-sort, or insertion-sor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Expected: O(n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Without collision detection (CD), it is practically impossible to e.g., games, movie production tools (e.g., Toy Story)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Because, without CD, we’ll get ”quantum effects” all the time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Objects will pass through other objects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So, CD is a way of increasing the level of realism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Not a pure CG algorithm, but extremely important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And we have many building blocks in place already (spatial data structures, intersection testing)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Sweep-and-prune algorithm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50292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marL="113040" indent="-11304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Keep a boolean for each pair of intervals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113040" indent="-11304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Invert when sort order changes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113040" indent="-11304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If all boolean for all three axes are true, </a:t>
            </a:r>
            <a:r>
              <a:rPr b="0" lang="sv-SE" sz="2800" spc="-1" strike="noStrike">
                <a:solidFill>
                  <a:srgbClr val="ffffeb"/>
                </a:solidFill>
                <a:latin typeface="Wingdings"/>
                <a:ea typeface="Wingdings"/>
              </a:rPr>
              <a:t></a:t>
            </a: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 overlap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96" name="sweep1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6229080" cy="2328840"/>
          </a:xfrm>
          <a:prstGeom prst="rect">
            <a:avLst/>
          </a:prstGeom>
          <a:ln w="0">
            <a:noFill/>
          </a:ln>
        </p:spPr>
      </p:pic>
      <p:pic>
        <p:nvPicPr>
          <p:cNvPr id="197" name="sweep2" descr=""/>
          <p:cNvPicPr/>
          <p:nvPr/>
        </p:nvPicPr>
        <p:blipFill>
          <a:blip r:embed="rId2"/>
          <a:stretch/>
        </p:blipFill>
        <p:spPr>
          <a:xfrm>
            <a:off x="1447920" y="2971800"/>
            <a:ext cx="624816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9072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CD Conclusion</a:t>
            </a:r>
            <a:endParaRPr b="0" lang="en-US" sz="36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Very important part of games!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Many different algorithms to choose from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Decide what’s best for your case,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nd implement…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What we’ll treat today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hree techniques: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1) Using ray tracing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Very simple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Not accurate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Very fast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Sometimes sufficient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2) Using bounding volume hierarchies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More complicated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More accurate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Slower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Can compute exact results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3) Efficient CD for several hundreds of objects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In general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hree major part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Collision detection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Collision determination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Collision response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We’ll deal with the two firs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The third involves physically-based animation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Use rays for simple application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Use BVHs to test two complex objects against each oth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But what if several hundreds of objects?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For many, many objects…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est BV of each object against BV of other object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Works for small sets, but not very clever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Reason…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Assume moving </a:t>
            </a:r>
            <a:r>
              <a:rPr b="0" i="1" lang="sv-SE" sz="2800" spc="-1" strike="noStrike">
                <a:solidFill>
                  <a:srgbClr val="ffffeb"/>
                </a:solidFill>
                <a:latin typeface="Times New Roman"/>
              </a:rPr>
              <a:t>n</a:t>
            </a: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 objects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14400" y="4724280"/>
            <a:ext cx="8001000" cy="1143000"/>
            <a:chOff x="914400" y="4724280"/>
            <a:chExt cx="8001000" cy="1143000"/>
          </a:xfrm>
        </p:grpSpPr>
        <p:sp>
          <p:nvSpPr>
            <p:cNvPr id="100" name=""/>
            <p:cNvSpPr/>
            <p:nvPr/>
          </p:nvSpPr>
          <p:spPr>
            <a:xfrm>
              <a:off x="914400" y="5028840"/>
              <a:ext cx="80010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ffffeb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800" spc="-1" strike="noStrike">
                  <a:solidFill>
                    <a:srgbClr val="ffffeb"/>
                  </a:solidFill>
                  <a:latin typeface="Arial"/>
                </a:rPr>
                <a:t>If </a:t>
              </a:r>
              <a:r>
                <a:rPr b="0" i="1" lang="sv-SE" sz="2800" spc="-1" strike="noStrike">
                  <a:solidFill>
                    <a:srgbClr val="ffffeb"/>
                  </a:solidFill>
                  <a:latin typeface="Times New Roman"/>
                </a:rPr>
                <a:t>m</a:t>
              </a:r>
              <a:r>
                <a:rPr b="0" lang="sv-SE" sz="2800" spc="-1" strike="noStrike">
                  <a:solidFill>
                    <a:srgbClr val="ffffeb"/>
                  </a:solidFill>
                  <a:latin typeface="Arial"/>
                </a:rPr>
                <a:t> static objects, then:</a:t>
              </a:r>
              <a:endParaRPr b="0" lang="en-US" sz="28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5245200" y="4724280"/>
                  <a:ext cx="1460520" cy="114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m</m:t>
                      </m:r>
                      <m:r>
                        <m:t xml:space="preserve">+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2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2" name=""/>
          <p:cNvGrpSpPr/>
          <p:nvPr/>
        </p:nvGrpSpPr>
        <p:grpSpPr>
          <a:xfrm>
            <a:off x="914400" y="3809880"/>
            <a:ext cx="8001000" cy="1143000"/>
            <a:chOff x="914400" y="3809880"/>
            <a:chExt cx="8001000" cy="1143000"/>
          </a:xfrm>
        </p:grpSpPr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2514600" y="3809880"/>
                  <a:ext cx="666720" cy="114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2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04" name=""/>
            <p:cNvSpPr/>
            <p:nvPr/>
          </p:nvSpPr>
          <p:spPr>
            <a:xfrm>
              <a:off x="914400" y="4114800"/>
              <a:ext cx="80010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ffffeb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800" spc="-1" strike="noStrike">
                  <a:solidFill>
                    <a:srgbClr val="ffffeb"/>
                  </a:solidFill>
                  <a:latin typeface="Arial"/>
                </a:rPr>
                <a:t>Gives:          tests</a:t>
              </a:r>
              <a:endParaRPr b="0" lang="en-US" sz="2800" spc="-1" strike="noStrike">
                <a:solidFill>
                  <a:srgbClr val="ffffeb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ffffeb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914400" y="594360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here are smarter ways: third topic of CD lecture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Collision detection with ray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Imagine a car is driving on a road sloping upwards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Could test all triangles of all wheels against road geometry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For certain applications, we can approximate, and still get a good result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Idea: approximate a complex object with a set of rays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08" name="ray_cd" descr=""/>
          <p:cNvPicPr/>
          <p:nvPr/>
        </p:nvPicPr>
        <p:blipFill>
          <a:blip r:embed="rId1"/>
          <a:stretch/>
        </p:blipFill>
        <p:spPr>
          <a:xfrm>
            <a:off x="3124080" y="4749840"/>
            <a:ext cx="41277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CD with rays, cont’d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Put a ray at each whe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Compute the closest intersection distance, 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t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, between ray and road geometry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If 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t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=0, then car is on the roa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If 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t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&gt;0, then car is flying above roa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If 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t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&lt;0, then car is ploughing deep in the roa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Use values of 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t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to compute a simple collision respons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11" name="ray_cd" descr=""/>
          <p:cNvPicPr/>
          <p:nvPr/>
        </p:nvPicPr>
        <p:blipFill>
          <a:blip r:embed="rId1"/>
          <a:stretch/>
        </p:blipFill>
        <p:spPr>
          <a:xfrm>
            <a:off x="5791320" y="0"/>
            <a:ext cx="335268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CD with rays, cont’d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We have simplified car, but not the roa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urn to spatial data structures for the roa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Use BVH or BSP tree, for exampl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he distance along ray can be negativ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herefore, either search ray in both positive and negative direction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Or move back ray, until it is outside the BV of the road geometry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Another simplification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Sometimes 3D can be turned into 2D operations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Example: maze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16" name="labyrint" descr=""/>
          <p:cNvPicPr/>
          <p:nvPr/>
        </p:nvPicPr>
        <p:blipFill>
          <a:blip r:embed="rId1"/>
          <a:stretch/>
        </p:blipFill>
        <p:spPr>
          <a:xfrm>
            <a:off x="6178680" y="2048040"/>
            <a:ext cx="2965320" cy="30574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14400" y="2819520"/>
            <a:ext cx="53341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A human walking in maze, can be approximated by a circle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Test circle against lines of maze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5105520"/>
            <a:ext cx="8001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Or even better, move walls outwards with circle radius 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test center of circle against moved walls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8T07:00:51Z</dcterms:created>
  <dc:creator>Tomas Moller</dc:creator>
  <dc:description/>
  <dc:language>en-US</dc:language>
  <cp:lastModifiedBy>Tomas Akenine-Möller</cp:lastModifiedBy>
  <cp:lastPrinted>2000-03-14T19:25:07Z</cp:lastPrinted>
  <dcterms:modified xsi:type="dcterms:W3CDTF">2003-06-05T19:39:27Z</dcterms:modified>
  <cp:revision>188</cp:revision>
  <dc:subject/>
  <dc:title>CS248</dc:title>
</cp:coreProperties>
</file>