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958920" y="88074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93FD40F-D445-4D22-AA48-B3DA042C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ay direction is often norm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F0DA-EBF6-4B13-ACB0-9E991CAE8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00F2-DFA6-465E-BE11-0DEE1E0A3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B363-77F5-4110-A1C1-289868DE7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136B-C2F0-490B-84EE-3A2DDDAAE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FC600-13C3-4A4F-9C2D-302A0DE6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0C02A-D73A-446C-8C32-4644CF7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C9B17-172F-460C-9DAB-8BDD859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35A8-F12A-4655-8990-03B74E5B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928BF-2A87-4138-A4F2-1C4DF0F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962F8-B0F8-4CE7-A8F0-54413F7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822E9-4F92-42CA-9DBD-FB8EAE15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2CCD-F097-41FE-AE10-0782E22CD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96ACE-6E80-4F5B-81A4-092E565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79CD3-46BC-450C-B6D5-C13E80E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2A493-DDB4-415B-AF0B-AD0E148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A2C68-F934-4ED1-A0AC-D588A112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F1EC1-B5BC-419F-8115-BE728DDD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13C5-F5ED-4F78-A574-65D909997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33AE-0D6E-467A-AC1A-BD2E9DD70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2F70-6B81-485C-8326-58D181201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DC28-F127-47F4-A9F2-90CCB2164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64E5-6A89-432F-AE08-0BA9F7A2C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913C-26F0-472E-9382-CF15B6383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4F10-CA11-4538-BFDE-4CEB082C3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9F85-B770-4438-8E7A-BA963C079610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4685-5778-4F9E-90D7-21EC7A074473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Intersection Testing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Chapter 13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AT example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/Box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ox is axis-aligne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1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test the axes that are orthogonal to the faces of the box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at is, x,y, and z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6477120"/>
            <a:ext cx="6629400" cy="0"/>
          </a:xfrm>
          <a:prstGeom prst="line">
            <a:avLst/>
          </a:prstGeom>
          <a:ln w="19080">
            <a:solidFill>
              <a:srgbClr val="ffff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523880" y="6095880"/>
            <a:ext cx="1295640" cy="381240"/>
            <a:chOff x="1523880" y="6095880"/>
            <a:chExt cx="1295640" cy="381240"/>
          </a:xfrm>
        </p:grpSpPr>
        <p:sp>
          <p:nvSpPr>
            <p:cNvPr id="239" name=""/>
            <p:cNvSpPr/>
            <p:nvPr/>
          </p:nvSpPr>
          <p:spPr>
            <a:xfrm>
              <a:off x="1523880" y="6095880"/>
              <a:ext cx="0" cy="38124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9520" y="6095880"/>
              <a:ext cx="0" cy="38124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523880" y="4164840"/>
            <a:ext cx="3210120" cy="1931040"/>
            <a:chOff x="1523880" y="4164840"/>
            <a:chExt cx="3210120" cy="1931040"/>
          </a:xfrm>
        </p:grpSpPr>
        <p:sp>
          <p:nvSpPr>
            <p:cNvPr id="242" name=""/>
            <p:cNvSpPr/>
            <p:nvPr/>
          </p:nvSpPr>
          <p:spPr>
            <a:xfrm>
              <a:off x="1523880" y="5257800"/>
              <a:ext cx="1295640" cy="83808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9523400">
              <a:off x="3123720" y="4572000"/>
              <a:ext cx="1600200" cy="533520"/>
            </a:xfrm>
            <a:prstGeom prst="rtTriangle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1219320" y="4191120"/>
            <a:ext cx="0" cy="2286000"/>
          </a:xfrm>
          <a:prstGeom prst="line">
            <a:avLst/>
          </a:prstGeom>
          <a:ln w="19080">
            <a:solidFill>
              <a:srgbClr val="ffff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19320" y="4572000"/>
            <a:ext cx="3581280" cy="914400"/>
            <a:chOff x="1219320" y="4572000"/>
            <a:chExt cx="3581280" cy="914400"/>
          </a:xfrm>
        </p:grpSpPr>
        <p:sp>
          <p:nvSpPr>
            <p:cNvPr id="246" name=""/>
            <p:cNvSpPr/>
            <p:nvPr/>
          </p:nvSpPr>
          <p:spPr>
            <a:xfrm flipH="1">
              <a:off x="1219320" y="5486400"/>
              <a:ext cx="2209680" cy="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219320" y="4572000"/>
              <a:ext cx="3581280" cy="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219320" y="5257800"/>
            <a:ext cx="304560" cy="838080"/>
            <a:chOff x="1219320" y="5257800"/>
            <a:chExt cx="304560" cy="838080"/>
          </a:xfrm>
        </p:grpSpPr>
        <p:sp>
          <p:nvSpPr>
            <p:cNvPr id="249" name=""/>
            <p:cNvSpPr/>
            <p:nvPr/>
          </p:nvSpPr>
          <p:spPr>
            <a:xfrm flipH="1">
              <a:off x="1219320" y="5257800"/>
              <a:ext cx="304560" cy="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219320" y="6095880"/>
              <a:ext cx="304560" cy="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572000"/>
            <a:ext cx="1676520" cy="1905120"/>
            <a:chOff x="3124080" y="4572000"/>
            <a:chExt cx="1676520" cy="1905120"/>
          </a:xfrm>
        </p:grpSpPr>
        <p:sp>
          <p:nvSpPr>
            <p:cNvPr id="252" name=""/>
            <p:cNvSpPr/>
            <p:nvPr/>
          </p:nvSpPr>
          <p:spPr>
            <a:xfrm>
              <a:off x="3124080" y="5105520"/>
              <a:ext cx="0" cy="137160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00600" y="4572000"/>
              <a:ext cx="0" cy="190512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/Box with SAT (2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that they overlapped on x,y,z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ust continue test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2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xis orthogonal to face of triang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3505320"/>
            <a:ext cx="3352680" cy="3352680"/>
          </a:xfrm>
          <a:prstGeom prst="line">
            <a:avLst/>
          </a:prstGeom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52480" y="4038480"/>
            <a:ext cx="7254360" cy="2362320"/>
            <a:chOff x="1752480" y="4038480"/>
            <a:chExt cx="7254360" cy="2362320"/>
          </a:xfrm>
        </p:grpSpPr>
        <p:sp>
          <p:nvSpPr>
            <p:cNvPr id="258" name=""/>
            <p:cNvSpPr/>
            <p:nvPr/>
          </p:nvSpPr>
          <p:spPr>
            <a:xfrm>
              <a:off x="1752480" y="4038480"/>
              <a:ext cx="1295640" cy="83844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42640" y="4648320"/>
              <a:ext cx="33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Triangle seen from sid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029200" y="5029200"/>
              <a:ext cx="838080" cy="11430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4800" y="5334120"/>
              <a:ext cx="1066680" cy="106668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343400" y="5181120"/>
              <a:ext cx="380880" cy="381240"/>
            </a:xfrm>
            <a:prstGeom prst="line">
              <a:avLst/>
            </a:prstGeom>
            <a:ln w="1908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76520" y="3352680"/>
            <a:ext cx="4000680" cy="3428640"/>
            <a:chOff x="1676520" y="3352680"/>
            <a:chExt cx="4000680" cy="3428640"/>
          </a:xfrm>
        </p:grpSpPr>
        <p:sp>
          <p:nvSpPr>
            <p:cNvPr id="264" name=""/>
            <p:cNvSpPr/>
            <p:nvPr/>
          </p:nvSpPr>
          <p:spPr>
            <a:xfrm flipV="1">
              <a:off x="1676520" y="3504960"/>
              <a:ext cx="3276360" cy="3276360"/>
            </a:xfrm>
            <a:prstGeom prst="line">
              <a:avLst/>
            </a:prstGeom>
            <a:ln w="1908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5400" y="335268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axis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752480" y="4038480"/>
            <a:ext cx="1981440" cy="1752840"/>
            <a:chOff x="1752480" y="4038480"/>
            <a:chExt cx="1981440" cy="1752840"/>
          </a:xfrm>
        </p:grpSpPr>
        <p:sp>
          <p:nvSpPr>
            <p:cNvPr id="267" name=""/>
            <p:cNvSpPr/>
            <p:nvPr/>
          </p:nvSpPr>
          <p:spPr>
            <a:xfrm>
              <a:off x="3048120" y="4038480"/>
              <a:ext cx="685800" cy="685800"/>
            </a:xfrm>
            <a:prstGeom prst="line">
              <a:avLst/>
            </a:prstGeom>
            <a:ln cap="rnd" w="1908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2480" y="4876920"/>
              <a:ext cx="914400" cy="914400"/>
            </a:xfrm>
            <a:prstGeom prst="line">
              <a:avLst/>
            </a:prstGeom>
            <a:ln cap="rnd" w="1908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iangle/Box with SAT (3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still no separating axis has been found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Arial"/>
              </a:rPr>
              <a:t>3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Test axis: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t=e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box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x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e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triangle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x-axis from box: </a:t>
            </a:r>
            <a:r>
              <a:rPr b="1" lang="sv-SE" sz="2600" spc="-1" strike="noStrike">
                <a:solidFill>
                  <a:srgbClr val="ffffeb"/>
                </a:solidFill>
                <a:latin typeface="Times New Roman"/>
              </a:rPr>
              <a:t>e</a:t>
            </a:r>
            <a:r>
              <a:rPr b="0" lang="sv-SE" sz="2600" spc="-1" strike="noStrike" baseline="-25000">
                <a:solidFill>
                  <a:srgbClr val="ffffeb"/>
                </a:solidFill>
                <a:latin typeface="Times New Roman"/>
              </a:rPr>
              <a:t>box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=(1,0,0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eb"/>
                </a:solidFill>
                <a:latin typeface="Times New Roman"/>
              </a:rPr>
              <a:t>e</a:t>
            </a:r>
            <a:r>
              <a:rPr b="0" lang="sv-SE" sz="2600" spc="-1" strike="noStrike" baseline="-25000">
                <a:solidFill>
                  <a:srgbClr val="ffffeb"/>
                </a:solidFill>
                <a:latin typeface="Times New Roman"/>
              </a:rPr>
              <a:t>triangle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=</a:t>
            </a:r>
            <a:r>
              <a:rPr b="1" lang="sv-SE" sz="26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26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1" lang="sv-SE" sz="2600" spc="-1" strike="noStrike">
                <a:solidFill>
                  <a:srgbClr val="ffffeb"/>
                </a:solidFill>
                <a:latin typeface="Times New Roman"/>
              </a:rPr>
              <a:t>-v</a:t>
            </a:r>
            <a:r>
              <a:rPr b="0" lang="sv-SE" sz="26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st all such combina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there is at least one separating axis, then the objects do not collid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lse they do overla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ules of Thumb for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ntersection Test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cceptance and rejection te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ry them early on to make a fast exi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ostpone expensive calculations if possib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dimension redu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.g. 3 one-dimensional tests instead of one complex 3D test, or 2D instead of 3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hare computations between objects if possib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iming!!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other analytical example: Ray/Triangle in detail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y: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=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o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iangle vertices: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point in the triangl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,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=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1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-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0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 +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2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-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0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=                 =(1-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-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 baseline="-25000">
                <a:solidFill>
                  <a:srgbClr val="ffffeb"/>
                </a:solidFill>
                <a:latin typeface="Times New Roman"/>
              </a:rPr>
              <a:t>2     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[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,v&gt;=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0,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+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&lt;=1]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et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,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=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, and solve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6920" y="990720"/>
            <a:ext cx="2637720" cy="2812320"/>
            <a:chOff x="6496920" y="990720"/>
            <a:chExt cx="2637720" cy="2812320"/>
          </a:xfrm>
        </p:grpSpPr>
        <p:sp>
          <p:nvSpPr>
            <p:cNvPr id="276" name=""/>
            <p:cNvSpPr/>
            <p:nvPr/>
          </p:nvSpPr>
          <p:spPr>
            <a:xfrm flipV="1">
              <a:off x="7620120" y="2286000"/>
              <a:ext cx="990360" cy="99072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7314840" y="1676160"/>
              <a:ext cx="304920" cy="16002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5200" y="1676520"/>
              <a:ext cx="1295280" cy="60948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43800" y="3200400"/>
              <a:ext cx="15228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8880" y="1600200"/>
              <a:ext cx="15264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34520" y="2209680"/>
              <a:ext cx="152280" cy="15264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19640" y="990720"/>
              <a:ext cx="50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32440" y="1859040"/>
              <a:ext cx="50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37160" y="3154320"/>
              <a:ext cx="50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28720" y="2620800"/>
              <a:ext cx="101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1 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-</a:t>
              </a: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96920" y="2133720"/>
              <a:ext cx="101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2 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-</a:t>
              </a: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v</a:t>
              </a:r>
              <a:r>
                <a:rPr b="0" lang="sv-SE" sz="3200" spc="-1" strike="noStrike" baseline="-25000">
                  <a:solidFill>
                    <a:srgbClr val="ffffeb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66680" y="5029200"/>
                <a:ext cx="43434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</m:e>
                          </m:mr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|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y/Triangle (2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olve with Cramer’s rul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724280" y="76320"/>
                <a:ext cx="43434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</m:e>
                          </m:mr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|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295280" y="2438280"/>
                <a:ext cx="419112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t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t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t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355760" y="1447920"/>
                <a:ext cx="50450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295280" y="4656240"/>
                <a:ext cx="358164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s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914400" y="60199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hare factors to speed up computation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241280" y="4035600"/>
                <a:ext cx="5769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is fact:     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y/Triangle (3)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e smart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mpute as little as possible then tes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62720" y="0"/>
                <a:ext cx="35812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s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429000" y="2590920"/>
                <a:ext cx="116856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914400" y="4038480"/>
            <a:ext cx="8001000" cy="609840"/>
            <a:chOff x="914400" y="4038480"/>
            <a:chExt cx="8001000" cy="609840"/>
          </a:xfrm>
        </p:grpSpPr>
        <p:sp>
          <p:nvSpPr>
            <p:cNvPr id="301" name=""/>
            <p:cNvSpPr/>
            <p:nvPr/>
          </p:nvSpPr>
          <p:spPr>
            <a:xfrm>
              <a:off x="914400" y="4038480"/>
              <a:ext cx="8001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eb"/>
                  </a:solidFill>
                  <a:latin typeface="Arial"/>
                </a:rPr>
                <a:t>Compute 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3363840" y="4173480"/>
                  <a:ext cx="13683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3" name=""/>
          <p:cNvSpPr/>
          <p:nvPr/>
        </p:nvSpPr>
        <p:spPr>
          <a:xfrm>
            <a:off x="914400" y="4648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 test valid bound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Courier New"/>
              </a:rPr>
              <a:t>if (v&lt;0 or v&gt;1) exit;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oint/Pla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sert a point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x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nto plane equation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389560" y="380880"/>
                <a:ext cx="36021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lane:    </m:t>
                    </m:r>
                    <m:r>
                      <m:t xml:space="preserve">π</m:t>
                    </m:r>
                    <m:r>
                      <m:t xml:space="preserve">: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141560" y="1784520"/>
                <a:ext cx="28828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09520" y="2317680"/>
                <a:ext cx="62042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for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's on the plan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4265640" y="3809880"/>
            <a:ext cx="609120" cy="532080"/>
            <a:chOff x="4265640" y="3809880"/>
            <a:chExt cx="609120" cy="532080"/>
          </a:xfrm>
        </p:grpSpPr>
        <p:sp>
          <p:nvSpPr>
            <p:cNvPr id="310" name=""/>
            <p:cNvSpPr/>
            <p:nvPr/>
          </p:nvSpPr>
          <p:spPr>
            <a:xfrm>
              <a:off x="4722480" y="3960720"/>
              <a:ext cx="152280" cy="15264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4265640" y="3809880"/>
                  <a:ext cx="4060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"/>
          <p:cNvSpPr/>
          <p:nvPr/>
        </p:nvSpPr>
        <p:spPr>
          <a:xfrm flipV="1">
            <a:off x="4570560" y="4037040"/>
            <a:ext cx="228600" cy="1447920"/>
          </a:xfrm>
          <a:prstGeom prst="line">
            <a:avLst/>
          </a:prstGeom>
          <a:ln w="9360">
            <a:solidFill>
              <a:srgbClr val="ffff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99160" y="4037040"/>
            <a:ext cx="3887640" cy="1905120"/>
            <a:chOff x="4799160" y="4037040"/>
            <a:chExt cx="3887640" cy="1905120"/>
          </a:xfrm>
        </p:grpSpPr>
        <p:sp>
          <p:nvSpPr>
            <p:cNvPr id="314" name=""/>
            <p:cNvSpPr/>
            <p:nvPr/>
          </p:nvSpPr>
          <p:spPr>
            <a:xfrm>
              <a:off x="4799160" y="4037040"/>
              <a:ext cx="1143000" cy="11430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560920" y="5103360"/>
              <a:ext cx="304920" cy="3049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027400" y="5408640"/>
              <a:ext cx="533160" cy="5335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462640" y="5332320"/>
                  <a:ext cx="3224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8" name=""/>
          <p:cNvGrpSpPr/>
          <p:nvPr/>
        </p:nvGrpSpPr>
        <p:grpSpPr>
          <a:xfrm>
            <a:off x="2850840" y="3886200"/>
            <a:ext cx="3283200" cy="2895480"/>
            <a:chOff x="2850840" y="3886200"/>
            <a:chExt cx="3283200" cy="2895480"/>
          </a:xfrm>
        </p:grpSpPr>
        <p:sp>
          <p:nvSpPr>
            <p:cNvPr id="319" name=""/>
            <p:cNvSpPr/>
            <p:nvPr/>
          </p:nvSpPr>
          <p:spPr>
            <a:xfrm>
              <a:off x="4494240" y="5410080"/>
              <a:ext cx="152280" cy="15264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850840" y="3886200"/>
              <a:ext cx="3283200" cy="2895480"/>
              <a:chOff x="2850840" y="3886200"/>
              <a:chExt cx="3283200" cy="289548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3503520" y="5484600"/>
                <a:ext cx="1067040" cy="106668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4570560" y="4114800"/>
                <a:ext cx="1371600" cy="13716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79840" y="4495680"/>
                <a:ext cx="2286000" cy="2286000"/>
              </a:xfrm>
              <a:prstGeom prst="line">
                <a:avLst/>
              </a:prstGeom>
              <a:ln w="381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4" name=""/>
                  <p:cNvSpPr txBox="1"/>
                  <p:nvPr/>
                </p:nvSpPr>
                <p:spPr>
                  <a:xfrm>
                    <a:off x="5789520" y="6400800"/>
                    <a:ext cx="34452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5027760" y="4952880"/>
                    <a:ext cx="31248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"/>
              <p:cNvSpPr/>
              <p:nvPr/>
            </p:nvSpPr>
            <p:spPr>
              <a:xfrm>
                <a:off x="2850840" y="3886200"/>
                <a:ext cx="80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origin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570560" y="4952880"/>
                <a:ext cx="533160" cy="533520"/>
              </a:xfrm>
              <a:prstGeom prst="line">
                <a:avLst/>
              </a:prstGeom>
              <a:ln w="1908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79840" y="4191120"/>
                <a:ext cx="914400" cy="1143000"/>
              </a:xfrm>
              <a:prstGeom prst="line">
                <a:avLst/>
              </a:prstGeom>
              <a:ln w="9360">
                <a:solidFill>
                  <a:srgbClr val="ff0b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4799160" y="6326280"/>
            <a:ext cx="625320" cy="531720"/>
            <a:chOff x="4799160" y="6326280"/>
            <a:chExt cx="625320" cy="531720"/>
          </a:xfrm>
        </p:grpSpPr>
        <p:sp>
          <p:nvSpPr>
            <p:cNvPr id="330" name=""/>
            <p:cNvSpPr/>
            <p:nvPr/>
          </p:nvSpPr>
          <p:spPr>
            <a:xfrm>
              <a:off x="4799160" y="6629400"/>
              <a:ext cx="15228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4988160" y="6326280"/>
                  <a:ext cx="43632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2" name=""/>
          <p:cNvSpPr/>
          <p:nvPr/>
        </p:nvSpPr>
        <p:spPr>
          <a:xfrm>
            <a:off x="4570560" y="5562720"/>
            <a:ext cx="304560" cy="1143000"/>
          </a:xfrm>
          <a:prstGeom prst="line">
            <a:avLst/>
          </a:prstGeom>
          <a:ln w="9360">
            <a:solidFill>
              <a:srgbClr val="ffff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58880" y="5105520"/>
            <a:ext cx="4115880" cy="1600200"/>
            <a:chOff x="758880" y="5105520"/>
            <a:chExt cx="4115880" cy="1600200"/>
          </a:xfrm>
        </p:grpSpPr>
        <p:sp>
          <p:nvSpPr>
            <p:cNvPr id="334" name=""/>
            <p:cNvSpPr/>
            <p:nvPr/>
          </p:nvSpPr>
          <p:spPr>
            <a:xfrm flipH="1">
              <a:off x="3884400" y="5486400"/>
              <a:ext cx="228600" cy="2286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808080" y="5638680"/>
              <a:ext cx="1066680" cy="10670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13360" y="5257440"/>
              <a:ext cx="228600" cy="2286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758880" y="5105520"/>
                  <a:ext cx="33210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γ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066680" y="3308400"/>
                <a:ext cx="69249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for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's on the other side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-1800" y="3368520"/>
            <a:ext cx="99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Positive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half space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065240" y="2819520"/>
                <a:ext cx="7926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for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's on one side of the pla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-1800" y="2819520"/>
            <a:ext cx="99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Negative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half space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phere/Plane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ABB/Pla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here: comput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181480" y="0"/>
            <a:ext cx="3962520" cy="1371600"/>
            <a:chOff x="5181480" y="0"/>
            <a:chExt cx="3962520" cy="1371600"/>
          </a:xfrm>
        </p:grpSpPr>
        <p:sp>
          <p:nvSpPr>
            <p:cNvPr id="345" name=""/>
            <p:cNvSpPr/>
            <p:nvPr/>
          </p:nvSpPr>
          <p:spPr>
            <a:xfrm>
              <a:off x="5181480" y="914400"/>
              <a:ext cx="3962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1480" y="457200"/>
              <a:ext cx="3962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81480" y="0"/>
              <a:ext cx="3962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5465880" y="0"/>
                  <a:ext cx="36018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lane:    </m:t>
                      </m:r>
                      <m:r>
                        <m:t xml:space="preserve">π</m:t>
                      </m:r>
                      <m:r>
                        <m:t xml:space="preserve">: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257800" y="457200"/>
                  <a:ext cx="26938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here:    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        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5657760" y="870120"/>
                  <a:ext cx="272412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x:    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 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646520" y="1555920"/>
                <a:ext cx="2287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914400" y="19810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f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c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s the signed distance (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normalized)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4724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ox: insert all 8 corner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all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f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’s have the same sign, then all points are on the same side, and no collision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2057400"/>
            <a:ext cx="8915400" cy="1143000"/>
            <a:chOff x="0" y="2057400"/>
            <a:chExt cx="8915400" cy="1143000"/>
          </a:xfrm>
        </p:grpSpPr>
        <p:sp>
          <p:nvSpPr>
            <p:cNvPr id="355" name=""/>
            <p:cNvSpPr/>
            <p:nvPr/>
          </p:nvSpPr>
          <p:spPr>
            <a:xfrm>
              <a:off x="914400" y="251460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abs( </a:t>
              </a:r>
              <a:r>
                <a:rPr b="0" i="1" lang="sv-SE" sz="3200" spc="-1" strike="noStrike">
                  <a:solidFill>
                    <a:srgbClr val="ffffeb"/>
                  </a:solidFill>
                  <a:latin typeface="Times New Roman"/>
                </a:rPr>
                <a:t>f 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(</a:t>
              </a: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)) &gt; r      </a:t>
              </a:r>
              <a:r>
                <a:rPr b="0" lang="sv-SE" sz="3200" spc="-1" strike="noStrike">
                  <a:solidFill>
                    <a:srgbClr val="ffffeb"/>
                  </a:solidFill>
                  <a:latin typeface="Arial"/>
                </a:rPr>
                <a:t>no collision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0" y="2057400"/>
              <a:ext cx="838080" cy="838080"/>
              <a:chOff x="0" y="2057400"/>
              <a:chExt cx="838080" cy="83808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819520"/>
                <a:ext cx="762120" cy="0"/>
              </a:xfrm>
              <a:prstGeom prst="line">
                <a:avLst/>
              </a:prstGeom>
              <a:ln w="19080">
                <a:solidFill>
                  <a:srgbClr val="c6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2280" y="213372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057400"/>
                <a:ext cx="838080" cy="838080"/>
              </a:xfrm>
              <a:prstGeom prst="rect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0880" y="2590920"/>
                <a:ext cx="0" cy="2286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80880" y="2361960"/>
                <a:ext cx="0" cy="2286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0" y="3048120"/>
            <a:ext cx="8915400" cy="838080"/>
            <a:chOff x="0" y="3048120"/>
            <a:chExt cx="8915400" cy="838080"/>
          </a:xfrm>
        </p:grpSpPr>
        <p:sp>
          <p:nvSpPr>
            <p:cNvPr id="363" name=""/>
            <p:cNvSpPr/>
            <p:nvPr/>
          </p:nvSpPr>
          <p:spPr>
            <a:xfrm>
              <a:off x="914400" y="304812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abs( </a:t>
              </a:r>
              <a:r>
                <a:rPr b="0" i="1" lang="sv-SE" sz="3200" spc="-1" strike="noStrike">
                  <a:solidFill>
                    <a:srgbClr val="ffffeb"/>
                  </a:solidFill>
                  <a:latin typeface="Times New Roman"/>
                </a:rPr>
                <a:t>f 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(</a:t>
              </a: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)) = r      </a:t>
              </a:r>
              <a:r>
                <a:rPr b="0" lang="sv-SE" sz="3200" spc="-1" strike="noStrike">
                  <a:solidFill>
                    <a:srgbClr val="ffffeb"/>
                  </a:solidFill>
                  <a:latin typeface="Arial"/>
                </a:rPr>
                <a:t>sphere touches the plane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0" y="3048120"/>
              <a:ext cx="838080" cy="838080"/>
              <a:chOff x="0" y="3048120"/>
              <a:chExt cx="838080" cy="838080"/>
            </a:xfrm>
          </p:grpSpPr>
          <p:sp>
            <p:nvSpPr>
              <p:cNvPr id="365" name=""/>
              <p:cNvSpPr/>
              <p:nvPr/>
            </p:nvSpPr>
            <p:spPr>
              <a:xfrm>
                <a:off x="0" y="3809880"/>
                <a:ext cx="762120" cy="0"/>
              </a:xfrm>
              <a:prstGeom prst="line">
                <a:avLst/>
              </a:prstGeom>
              <a:ln w="19080">
                <a:solidFill>
                  <a:srgbClr val="c6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2280" y="33526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048120"/>
                <a:ext cx="838080" cy="838080"/>
              </a:xfrm>
              <a:prstGeom prst="rect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0880" y="3733920"/>
                <a:ext cx="0" cy="7596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380880" y="3581280"/>
                <a:ext cx="0" cy="15264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0" y="3581280"/>
            <a:ext cx="8915400" cy="1295640"/>
            <a:chOff x="0" y="3581280"/>
            <a:chExt cx="8915400" cy="1295640"/>
          </a:xfrm>
        </p:grpSpPr>
        <p:sp>
          <p:nvSpPr>
            <p:cNvPr id="371" name=""/>
            <p:cNvSpPr/>
            <p:nvPr/>
          </p:nvSpPr>
          <p:spPr>
            <a:xfrm>
              <a:off x="914400" y="358128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abs( </a:t>
              </a:r>
              <a:r>
                <a:rPr b="0" i="1" lang="sv-SE" sz="3200" spc="-1" strike="noStrike">
                  <a:solidFill>
                    <a:srgbClr val="ffffeb"/>
                  </a:solidFill>
                  <a:latin typeface="Times New Roman"/>
                </a:rPr>
                <a:t>f 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(</a:t>
              </a:r>
              <a:r>
                <a:rPr b="1" lang="sv-SE" sz="32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r>
                <a:rPr b="0" lang="sv-SE" sz="3200" spc="-1" strike="noStrike">
                  <a:solidFill>
                    <a:srgbClr val="ffffeb"/>
                  </a:solidFill>
                  <a:latin typeface="Times New Roman"/>
                </a:rPr>
                <a:t>)) &lt; r      </a:t>
              </a:r>
              <a:r>
                <a:rPr b="0" lang="sv-SE" sz="3200" spc="-1" strike="noStrike">
                  <a:solidFill>
                    <a:srgbClr val="ffffeb"/>
                  </a:solidFill>
                  <a:latin typeface="Arial"/>
                </a:rPr>
                <a:t>sphere intersects plane</a:t>
              </a:r>
              <a:endParaRPr b="0" lang="en-US" sz="3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4038480"/>
              <a:ext cx="838080" cy="838440"/>
              <a:chOff x="0" y="4038480"/>
              <a:chExt cx="838080" cy="8384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4724280"/>
                <a:ext cx="762120" cy="0"/>
              </a:xfrm>
              <a:prstGeom prst="line">
                <a:avLst/>
              </a:prstGeom>
              <a:ln w="19080">
                <a:solidFill>
                  <a:srgbClr val="c6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343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4038480"/>
                <a:ext cx="838080" cy="838440"/>
              </a:xfrm>
              <a:prstGeom prst="rect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0880" y="4648320"/>
                <a:ext cx="0" cy="7596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80880" y="4571640"/>
                <a:ext cx="0" cy="15228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ABB/pla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smart way (shown in 2D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ind diagonal that is most closely aligned with plane 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209680" y="3581280"/>
            <a:ext cx="4419720" cy="3124440"/>
            <a:chOff x="2209680" y="3581280"/>
            <a:chExt cx="4419720" cy="3124440"/>
          </a:xfrm>
        </p:grpSpPr>
        <p:sp>
          <p:nvSpPr>
            <p:cNvPr id="381" name=""/>
            <p:cNvSpPr/>
            <p:nvPr/>
          </p:nvSpPr>
          <p:spPr>
            <a:xfrm>
              <a:off x="2209680" y="3962520"/>
              <a:ext cx="2743200" cy="27432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362320" y="3581280"/>
              <a:ext cx="533160" cy="5335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120" y="3733920"/>
              <a:ext cx="2438280" cy="761760"/>
            </a:xfrm>
            <a:prstGeom prst="rect">
              <a:avLst/>
            </a:prstGeom>
            <a:noFill/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V="1">
            <a:off x="4191120" y="3733920"/>
            <a:ext cx="2438280" cy="76176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3733920"/>
            <a:ext cx="2438280" cy="76176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419720"/>
            <a:ext cx="152280" cy="152280"/>
          </a:xfrm>
          <a:prstGeom prst="ellipse">
            <a:avLst/>
          </a:prstGeom>
          <a:solidFill>
            <a:srgbClr val="ff0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3657600"/>
            <a:ext cx="152640" cy="152280"/>
          </a:xfrm>
          <a:prstGeom prst="ellipse">
            <a:avLst/>
          </a:prstGeom>
          <a:solidFill>
            <a:srgbClr val="ff0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23520" y="55627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More details in book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1920" y="5334120"/>
            <a:ext cx="21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Need only tes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 red poin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181480" y="0"/>
            <a:ext cx="3962520" cy="1371600"/>
            <a:chOff x="5181480" y="0"/>
            <a:chExt cx="3962520" cy="1371600"/>
          </a:xfrm>
        </p:grpSpPr>
        <p:sp>
          <p:nvSpPr>
            <p:cNvPr id="391" name=""/>
            <p:cNvSpPr/>
            <p:nvPr/>
          </p:nvSpPr>
          <p:spPr>
            <a:xfrm>
              <a:off x="5181480" y="914400"/>
              <a:ext cx="3962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457200"/>
              <a:ext cx="3962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0"/>
              <a:ext cx="3962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465880" y="0"/>
                  <a:ext cx="360180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lane:    </m:t>
                      </m:r>
                      <m:r>
                        <m:t xml:space="preserve">π</m:t>
                      </m:r>
                      <m:r>
                        <m:t xml:space="preserve">: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257800" y="457200"/>
                  <a:ext cx="26938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here:    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        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5657760" y="870120"/>
                  <a:ext cx="272412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x:    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 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for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 tool needed for the graphics people all the time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Very important component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eed to make them fast!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inding if (and where) a ray hits an objec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ick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ay tracing and global illuminati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or speed-up techniqu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llision detection (treated in a later lecture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y/Polygon: very briefly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tersect ray with polygon pla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roject from 3D to 2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ind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max(|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x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|,|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y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|,|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z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|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kip that coordinate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, count crossing in 2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114960" y="4184640"/>
            <a:ext cx="3029040" cy="2673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257800" y="1857240"/>
            <a:ext cx="38862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Volume/Volume test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d in collision det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here/sphe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mpute squared distance between sphere centers, and compare to 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(r</a:t>
            </a:r>
            <a:r>
              <a:rPr b="0" lang="sv-SE" sz="26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+r</a:t>
            </a:r>
            <a:r>
              <a:rPr b="0" lang="sv-SE" sz="2600" spc="-1" strike="noStrike" baseline="-25000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2600" spc="-1" strike="noStrike" baseline="30000">
                <a:solidFill>
                  <a:srgbClr val="ffffeb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xis-Aligned Bounding Box/AABB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st in 1D for x,y, and z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86400" y="4267080"/>
            <a:ext cx="3124080" cy="1905120"/>
            <a:chOff x="5486400" y="4267080"/>
            <a:chExt cx="3124080" cy="1905120"/>
          </a:xfrm>
        </p:grpSpPr>
        <p:sp>
          <p:nvSpPr>
            <p:cNvPr id="404" name=""/>
            <p:cNvSpPr/>
            <p:nvPr/>
          </p:nvSpPr>
          <p:spPr>
            <a:xfrm>
              <a:off x="5486400" y="4267080"/>
              <a:ext cx="1981080" cy="1219320"/>
            </a:xfrm>
            <a:prstGeom prst="rect">
              <a:avLst/>
            </a:prstGeom>
            <a:solidFill>
              <a:srgbClr val="25357e"/>
            </a:solidFill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96080" y="5029200"/>
              <a:ext cx="914400" cy="1143000"/>
            </a:xfrm>
            <a:prstGeom prst="rect">
              <a:avLst/>
            </a:prstGeom>
            <a:solidFill>
              <a:srgbClr val="25357e"/>
            </a:solidFill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914400" y="52578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iented Bounding boxes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Use SAT [details in book]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View frustum test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View frustum is 6 plane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ear, far, right, left, top,                            bottom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reate planes from projection matrix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Let all positive half spaces be outside frustum 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t dealt with here  -- p. 613-614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phere/frustum common approach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est sphere against 6 frustum plan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in positive half space and </a:t>
            </a:r>
            <a:r>
              <a:rPr b="0" i="1" lang="sv-SE" sz="22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 distances from plane        =&gt; no intersectio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intersecting plane or in negative half space, continu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f not outside after all six planes, then inside or intersect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 follows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View frustum testing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4800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 exact test, but not incorrec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 sphere that is reported to be inside, can be outsid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t vice versa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milarly for box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447920" y="1828800"/>
            <a:ext cx="2361960" cy="2057400"/>
            <a:chOff x="1447920" y="1828800"/>
            <a:chExt cx="2361960" cy="2057400"/>
          </a:xfrm>
        </p:grpSpPr>
        <p:grpSp>
          <p:nvGrpSpPr>
            <p:cNvPr id="413" name=""/>
            <p:cNvGrpSpPr/>
            <p:nvPr/>
          </p:nvGrpSpPr>
          <p:grpSpPr>
            <a:xfrm>
              <a:off x="1447920" y="2133720"/>
              <a:ext cx="1676160" cy="1752480"/>
              <a:chOff x="1447920" y="2133720"/>
              <a:chExt cx="1676160" cy="1752480"/>
            </a:xfrm>
          </p:grpSpPr>
          <p:sp>
            <p:nvSpPr>
              <p:cNvPr id="414" name=""/>
              <p:cNvSpPr/>
              <p:nvPr/>
            </p:nvSpPr>
            <p:spPr>
              <a:xfrm>
                <a:off x="1447920" y="2590920"/>
                <a:ext cx="0" cy="8380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447920" y="2141640"/>
                <a:ext cx="1676160" cy="4492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24080" y="2133720"/>
                <a:ext cx="0" cy="17524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47920" y="3429000"/>
                <a:ext cx="1676160" cy="4492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276720" y="182880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019920" y="2133720"/>
            <a:ext cx="1676160" cy="1752480"/>
            <a:chOff x="6019920" y="2133720"/>
            <a:chExt cx="1676160" cy="1752480"/>
          </a:xfrm>
        </p:grpSpPr>
        <p:grpSp>
          <p:nvGrpSpPr>
            <p:cNvPr id="420" name=""/>
            <p:cNvGrpSpPr/>
            <p:nvPr/>
          </p:nvGrpSpPr>
          <p:grpSpPr>
            <a:xfrm>
              <a:off x="6019920" y="2133720"/>
              <a:ext cx="1676160" cy="1752480"/>
              <a:chOff x="6019920" y="2133720"/>
              <a:chExt cx="1676160" cy="1752480"/>
            </a:xfrm>
          </p:grpSpPr>
          <p:sp>
            <p:nvSpPr>
              <p:cNvPr id="421" name=""/>
              <p:cNvSpPr/>
              <p:nvPr/>
            </p:nvSpPr>
            <p:spPr>
              <a:xfrm>
                <a:off x="6019920" y="2590920"/>
                <a:ext cx="0" cy="8380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6019920" y="2141640"/>
                <a:ext cx="1676160" cy="4492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96080" y="2133720"/>
                <a:ext cx="0" cy="17524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19920" y="3429000"/>
                <a:ext cx="1676160" cy="44928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701028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09480" y="1920960"/>
            <a:ext cx="3353040" cy="898560"/>
            <a:chOff x="609480" y="1920960"/>
            <a:chExt cx="3353040" cy="898560"/>
          </a:xfrm>
        </p:grpSpPr>
        <p:sp>
          <p:nvSpPr>
            <p:cNvPr id="427" name=""/>
            <p:cNvSpPr/>
            <p:nvPr/>
          </p:nvSpPr>
          <p:spPr>
            <a:xfrm flipV="1">
              <a:off x="609480" y="1920960"/>
              <a:ext cx="3353040" cy="89856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2260080" y="1980720"/>
              <a:ext cx="101880" cy="3812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066320" y="1905120"/>
            <a:ext cx="381600" cy="2286000"/>
            <a:chOff x="1066320" y="1905120"/>
            <a:chExt cx="381600" cy="2286000"/>
          </a:xfrm>
        </p:grpSpPr>
        <p:sp>
          <p:nvSpPr>
            <p:cNvPr id="430" name=""/>
            <p:cNvSpPr/>
            <p:nvPr/>
          </p:nvSpPr>
          <p:spPr>
            <a:xfrm>
              <a:off x="1447920" y="1905120"/>
              <a:ext cx="0" cy="22860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066320" y="2971800"/>
              <a:ext cx="38124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838080" y="3276720"/>
            <a:ext cx="3048120" cy="817560"/>
            <a:chOff x="838080" y="3276720"/>
            <a:chExt cx="3048120" cy="817560"/>
          </a:xfrm>
        </p:grpSpPr>
        <p:sp>
          <p:nvSpPr>
            <p:cNvPr id="433" name=""/>
            <p:cNvSpPr/>
            <p:nvPr/>
          </p:nvSpPr>
          <p:spPr>
            <a:xfrm>
              <a:off x="838080" y="3276720"/>
              <a:ext cx="3048120" cy="81756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355480" y="3733920"/>
              <a:ext cx="82440" cy="30456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124080" y="1676160"/>
            <a:ext cx="381240" cy="2514600"/>
            <a:chOff x="3124080" y="1676160"/>
            <a:chExt cx="381240" cy="2514600"/>
          </a:xfrm>
        </p:grpSpPr>
        <p:sp>
          <p:nvSpPr>
            <p:cNvPr id="436" name=""/>
            <p:cNvSpPr/>
            <p:nvPr/>
          </p:nvSpPr>
          <p:spPr>
            <a:xfrm flipV="1">
              <a:off x="3124080" y="1676160"/>
              <a:ext cx="0" cy="25146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2971800"/>
              <a:ext cx="38124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1905120"/>
            <a:ext cx="3353040" cy="898560"/>
            <a:chOff x="5181480" y="1905120"/>
            <a:chExt cx="3353040" cy="898560"/>
          </a:xfrm>
        </p:grpSpPr>
        <p:sp>
          <p:nvSpPr>
            <p:cNvPr id="439" name=""/>
            <p:cNvSpPr/>
            <p:nvPr/>
          </p:nvSpPr>
          <p:spPr>
            <a:xfrm flipV="1">
              <a:off x="5181480" y="1905120"/>
              <a:ext cx="3353040" cy="89856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6832080" y="1964880"/>
              <a:ext cx="101880" cy="3812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638320" y="1905120"/>
            <a:ext cx="381600" cy="2286000"/>
            <a:chOff x="5638320" y="1905120"/>
            <a:chExt cx="381600" cy="2286000"/>
          </a:xfrm>
        </p:grpSpPr>
        <p:sp>
          <p:nvSpPr>
            <p:cNvPr id="442" name=""/>
            <p:cNvSpPr/>
            <p:nvPr/>
          </p:nvSpPr>
          <p:spPr>
            <a:xfrm>
              <a:off x="6019920" y="1905120"/>
              <a:ext cx="0" cy="22860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638320" y="2971800"/>
              <a:ext cx="38124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486400" y="3276720"/>
            <a:ext cx="3048120" cy="817560"/>
            <a:chOff x="5486400" y="3276720"/>
            <a:chExt cx="3048120" cy="817560"/>
          </a:xfrm>
        </p:grpSpPr>
        <p:sp>
          <p:nvSpPr>
            <p:cNvPr id="445" name=""/>
            <p:cNvSpPr/>
            <p:nvPr/>
          </p:nvSpPr>
          <p:spPr>
            <a:xfrm>
              <a:off x="5486400" y="3276720"/>
              <a:ext cx="3048120" cy="81756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003800" y="3733920"/>
              <a:ext cx="82440" cy="30456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696080" y="1676160"/>
            <a:ext cx="381240" cy="2514600"/>
            <a:chOff x="7696080" y="1676160"/>
            <a:chExt cx="381240" cy="2514600"/>
          </a:xfrm>
        </p:grpSpPr>
        <p:sp>
          <p:nvSpPr>
            <p:cNvPr id="448" name=""/>
            <p:cNvSpPr/>
            <p:nvPr/>
          </p:nvSpPr>
          <p:spPr>
            <a:xfrm flipV="1">
              <a:off x="7696080" y="1676160"/>
              <a:ext cx="0" cy="25146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2971800"/>
              <a:ext cx="381240" cy="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598560" y="228600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outsid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frustum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37120" y="3108240"/>
            <a:ext cx="148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ntersecting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frustum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ynamic Intersection Testing</a:t>
            </a:r>
            <a:br>
              <a:rPr sz="3600"/>
            </a:br>
            <a:r>
              <a:rPr b="1" lang="sv-SE" sz="2000" spc="-1" strike="noStrike">
                <a:solidFill>
                  <a:srgbClr val="ffff9b"/>
                </a:solidFill>
                <a:latin typeface="Arial"/>
              </a:rPr>
              <a:t>[In book: 620-628]</a:t>
            </a:r>
            <a:endParaRPr b="1" lang="en-US" sz="20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sting is often done every rendered frame, i.e., at discrete time interva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refore, you can get ”quantum effects”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14400" y="3200400"/>
            <a:ext cx="2743200" cy="1375560"/>
            <a:chOff x="914400" y="3200400"/>
            <a:chExt cx="2743200" cy="1375560"/>
          </a:xfrm>
        </p:grpSpPr>
        <p:sp>
          <p:nvSpPr>
            <p:cNvPr id="455" name=""/>
            <p:cNvSpPr/>
            <p:nvPr/>
          </p:nvSpPr>
          <p:spPr>
            <a:xfrm>
              <a:off x="1066680" y="4114800"/>
              <a:ext cx="259092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4400" y="3352680"/>
              <a:ext cx="457200" cy="457200"/>
            </a:xfrm>
            <a:prstGeom prst="ellips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1600" y="3581280"/>
              <a:ext cx="4572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0" y="3200400"/>
              <a:ext cx="0" cy="91440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37720" y="411624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Frame 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72000" y="3200400"/>
            <a:ext cx="2590920" cy="1375560"/>
            <a:chOff x="4572000" y="3200400"/>
            <a:chExt cx="2590920" cy="1375560"/>
          </a:xfrm>
        </p:grpSpPr>
        <p:sp>
          <p:nvSpPr>
            <p:cNvPr id="461" name=""/>
            <p:cNvSpPr/>
            <p:nvPr/>
          </p:nvSpPr>
          <p:spPr>
            <a:xfrm>
              <a:off x="4572000" y="4114800"/>
              <a:ext cx="259092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19920" y="3352680"/>
              <a:ext cx="457200" cy="457200"/>
            </a:xfrm>
            <a:prstGeom prst="ellips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77120" y="3581280"/>
              <a:ext cx="4572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791320" y="3200400"/>
              <a:ext cx="0" cy="91440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5560" y="411624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Frame 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n+1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990720" y="464832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ynamic testing deals with thi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s more expensiv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als with a time interval: time between two frames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ynamic intersection test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phere/Pla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 collision occur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f they are on the same side of the plane (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c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e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&gt;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lus |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c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|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&gt;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and |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e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|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&gt;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therwise, sphere can move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|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c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|-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ime of collision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5120" y="1676520"/>
            <a:ext cx="4876560" cy="1906920"/>
            <a:chOff x="1905120" y="1676520"/>
            <a:chExt cx="4876560" cy="1906920"/>
          </a:xfrm>
        </p:grpSpPr>
        <p:sp>
          <p:nvSpPr>
            <p:cNvPr id="470" name=""/>
            <p:cNvSpPr/>
            <p:nvPr/>
          </p:nvSpPr>
          <p:spPr>
            <a:xfrm>
              <a:off x="1905120" y="1676520"/>
              <a:ext cx="4572000" cy="1600200"/>
            </a:xfrm>
            <a:prstGeom prst="line">
              <a:avLst/>
            </a:prstGeom>
            <a:ln w="9360">
              <a:solidFill>
                <a:srgbClr val="ffff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297180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ff0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26280" y="3184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eb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809880" y="2133720"/>
            <a:ext cx="609840" cy="609480"/>
          </a:xfrm>
          <a:prstGeom prst="ellipse">
            <a:avLst/>
          </a:prstGeom>
          <a:noFill/>
          <a:ln w="19080">
            <a:solidFill>
              <a:srgbClr val="ffff0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209680" y="2376360"/>
            <a:ext cx="4267440" cy="368280"/>
            <a:chOff x="2209680" y="2376360"/>
            <a:chExt cx="4267440" cy="368280"/>
          </a:xfrm>
        </p:grpSpPr>
        <p:sp>
          <p:nvSpPr>
            <p:cNvPr id="475" name=""/>
            <p:cNvSpPr/>
            <p:nvPr/>
          </p:nvSpPr>
          <p:spPr>
            <a:xfrm>
              <a:off x="2209680" y="2438280"/>
              <a:ext cx="4267440" cy="0"/>
            </a:xfrm>
            <a:prstGeom prst="line">
              <a:avLst/>
            </a:prstGeom>
            <a:ln w="9360">
              <a:solidFill>
                <a:srgbClr val="ffff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90920" y="2438280"/>
              <a:ext cx="0" cy="1526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90920" y="2590920"/>
              <a:ext cx="0" cy="15228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62560" y="237636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eb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62200" y="1676160"/>
            <a:ext cx="1042920" cy="1067040"/>
            <a:chOff x="862200" y="1676160"/>
            <a:chExt cx="1042920" cy="1067040"/>
          </a:xfrm>
        </p:grpSpPr>
        <p:sp>
          <p:nvSpPr>
            <p:cNvPr id="480" name=""/>
            <p:cNvSpPr/>
            <p:nvPr/>
          </p:nvSpPr>
          <p:spPr>
            <a:xfrm flipV="1">
              <a:off x="1219320" y="1676160"/>
              <a:ext cx="0" cy="15228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862200" y="1676520"/>
              <a:ext cx="1042920" cy="1066680"/>
              <a:chOff x="862200" y="1676520"/>
              <a:chExt cx="1042920" cy="1066680"/>
            </a:xfrm>
          </p:grpSpPr>
          <p:sp>
            <p:nvSpPr>
              <p:cNvPr id="482" name=""/>
              <p:cNvSpPr/>
              <p:nvPr/>
            </p:nvSpPr>
            <p:spPr>
              <a:xfrm>
                <a:off x="1066680" y="1676520"/>
                <a:ext cx="83844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219320" y="1828800"/>
                <a:ext cx="0" cy="91440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62200" y="1984320"/>
                <a:ext cx="37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2400" spc="-1" strike="noStrike">
                    <a:solidFill>
                      <a:srgbClr val="ffffeb"/>
                    </a:solidFill>
                    <a:latin typeface="Times New Roman"/>
                  </a:rPr>
                  <a:t>s</a:t>
                </a:r>
                <a:r>
                  <a:rPr b="0" i="1" lang="sv-SE" sz="2400" spc="-1" strike="noStrike" baseline="-25000">
                    <a:solidFill>
                      <a:srgbClr val="ffffeb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5214960" y="1371600"/>
            <a:ext cx="3767040" cy="1905120"/>
            <a:chOff x="5214960" y="1371600"/>
            <a:chExt cx="3767040" cy="1905120"/>
          </a:xfrm>
        </p:grpSpPr>
        <p:sp>
          <p:nvSpPr>
            <p:cNvPr id="486" name=""/>
            <p:cNvSpPr/>
            <p:nvPr/>
          </p:nvSpPr>
          <p:spPr>
            <a:xfrm>
              <a:off x="6477120" y="3276720"/>
              <a:ext cx="8380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086600" y="2742840"/>
              <a:ext cx="0" cy="22860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86600" y="2971800"/>
              <a:ext cx="0" cy="30492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4560" y="2743200"/>
              <a:ext cx="37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s</a:t>
              </a:r>
              <a:r>
                <a:rPr b="0" i="1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14960" y="1371600"/>
              <a:ext cx="37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s</a:t>
              </a:r>
              <a:r>
                <a:rPr b="0" i="1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c </a:t>
              </a: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&amp;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 s</a:t>
              </a:r>
              <a:r>
                <a:rPr b="0" i="1" lang="sv-SE" sz="2400" spc="-1" strike="noStrike" baseline="-25000">
                  <a:solidFill>
                    <a:srgbClr val="ffffeb"/>
                  </a:solidFill>
                  <a:latin typeface="Times New Roman"/>
                </a:rPr>
                <a:t>e</a:t>
              </a: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 </a:t>
              </a: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are signed distances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807120" y="1279440"/>
            <a:ext cx="6660360" cy="2532600"/>
            <a:chOff x="807120" y="1279440"/>
            <a:chExt cx="6660360" cy="2532600"/>
          </a:xfrm>
        </p:grpSpPr>
        <p:sp>
          <p:nvSpPr>
            <p:cNvPr id="492" name=""/>
            <p:cNvSpPr/>
            <p:nvPr/>
          </p:nvSpPr>
          <p:spPr>
            <a:xfrm>
              <a:off x="807120" y="12794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ffffeb"/>
                  </a:solidFill>
                  <a:latin typeface="Times New Roman"/>
                </a:rPr>
                <a:t>t</a:t>
              </a:r>
              <a:r>
                <a:rPr b="0" lang="sv-SE" sz="2000" spc="-1" strike="noStrike">
                  <a:solidFill>
                    <a:srgbClr val="ffffeb"/>
                  </a:solidFill>
                  <a:latin typeface="Times New Roman"/>
                </a:rPr>
                <a:t>=</a:t>
              </a:r>
              <a:r>
                <a:rPr b="0" i="1" lang="sv-SE" sz="2000" spc="-1" strike="noStrike">
                  <a:solidFill>
                    <a:srgbClr val="ffffeb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73680" y="3413160"/>
              <a:ext cx="7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ffffeb"/>
                  </a:solidFill>
                  <a:latin typeface="Times New Roman"/>
                </a:rPr>
                <a:t>t</a:t>
              </a:r>
              <a:r>
                <a:rPr b="0" lang="sv-SE" sz="2000" spc="-1" strike="noStrike">
                  <a:solidFill>
                    <a:srgbClr val="ffffeb"/>
                  </a:solidFill>
                  <a:latin typeface="Times New Roman"/>
                </a:rPr>
                <a:t>=</a:t>
              </a:r>
              <a:r>
                <a:rPr b="0" i="1" lang="sv-SE" sz="2000" spc="-1" strike="noStrike">
                  <a:solidFill>
                    <a:srgbClr val="ffffeb"/>
                  </a:solidFill>
                  <a:latin typeface="Times New Roman"/>
                </a:rPr>
                <a:t>n</a:t>
              </a:r>
              <a:r>
                <a:rPr b="0" lang="sv-SE" sz="2000" spc="-1" strike="noStrike">
                  <a:solidFill>
                    <a:srgbClr val="ffffeb"/>
                  </a:solidFill>
                  <a:latin typeface="Times New Roman"/>
                </a:rPr>
                <a:t>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343400" y="5099040"/>
                <a:ext cx="2057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838080" y="5791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sponse: reflect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round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and move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1-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cd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914400" y="1309680"/>
            <a:ext cx="7008840" cy="1433520"/>
            <a:chOff x="914400" y="1309680"/>
            <a:chExt cx="7008840" cy="1433520"/>
          </a:xfrm>
        </p:grpSpPr>
        <p:grpSp>
          <p:nvGrpSpPr>
            <p:cNvPr id="497" name=""/>
            <p:cNvGrpSpPr/>
            <p:nvPr/>
          </p:nvGrpSpPr>
          <p:grpSpPr>
            <a:xfrm>
              <a:off x="914400" y="1309680"/>
              <a:ext cx="6705720" cy="1433520"/>
              <a:chOff x="914400" y="1309680"/>
              <a:chExt cx="6705720" cy="1433520"/>
            </a:xfrm>
          </p:grpSpPr>
          <p:sp>
            <p:nvSpPr>
              <p:cNvPr id="498" name=""/>
              <p:cNvSpPr/>
              <p:nvPr/>
            </p:nvSpPr>
            <p:spPr>
              <a:xfrm>
                <a:off x="914400" y="2743200"/>
                <a:ext cx="6705720" cy="0"/>
              </a:xfrm>
              <a:prstGeom prst="line">
                <a:avLst/>
              </a:prstGeom>
              <a:ln w="7632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600200" y="13716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905120" y="1447560"/>
                <a:ext cx="228600" cy="228600"/>
              </a:xfrm>
              <a:prstGeom prst="line">
                <a:avLst/>
              </a:prstGeom>
              <a:ln w="1260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770120" y="130968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eb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05120" y="1676520"/>
                <a:ext cx="838080" cy="304560"/>
              </a:xfrm>
              <a:prstGeom prst="line">
                <a:avLst/>
              </a:prstGeom>
              <a:ln w="284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414160" y="1514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000" spc="-1" strike="noStrike">
                    <a:solidFill>
                      <a:srgbClr val="ffffeb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84440" y="158436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000" spc="-1" strike="noStrike">
                    <a:solidFill>
                      <a:srgbClr val="ffffeb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flipV="1">
              <a:off x="7543800" y="1905120"/>
              <a:ext cx="0" cy="83808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0680" y="176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eb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Dynamic Separating Axis Theore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AT: tests one axis at a time for overla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2590920" cy="12859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2590560" cy="1803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838080" y="32767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ame with DSAT, but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eed to adjust the projection on the axis so that the interval moves on the axis as well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472428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ed to test same axes as with SAT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ame criteria for overlap/disjoint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f no overlap on axis =&gt; disjoint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f overlap on all axes =&gt; objects overlap</a:t>
            </a: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me basic geometrical primitiv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200400"/>
            <a:ext cx="1067040" cy="380880"/>
          </a:xfrm>
          <a:prstGeom prst="rect">
            <a:avLst/>
          </a:prstGeom>
          <a:solidFill>
            <a:srgbClr val="25357e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454600">
            <a:off x="6400440" y="3657240"/>
            <a:ext cx="1066680" cy="380880"/>
          </a:xfrm>
          <a:prstGeom prst="rect">
            <a:avLst/>
          </a:prstGeom>
          <a:solidFill>
            <a:srgbClr val="25357e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133720"/>
            <a:ext cx="609480" cy="609480"/>
          </a:xfrm>
          <a:prstGeom prst="ellipse">
            <a:avLst/>
          </a:prstGeom>
          <a:solidFill>
            <a:srgbClr val="25357e"/>
          </a:solidFill>
          <a:ln w="1260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00400" y="1777680"/>
            <a:ext cx="609480" cy="50760"/>
          </a:xfrm>
          <a:prstGeom prst="line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1752480"/>
            <a:ext cx="152640" cy="152640"/>
          </a:xfrm>
          <a:prstGeom prst="ellipse">
            <a:avLst/>
          </a:prstGeom>
          <a:solidFill>
            <a:srgbClr val="ff0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00400" y="1587600"/>
            <a:ext cx="2895480" cy="241200"/>
          </a:xfrm>
          <a:prstGeom prst="line">
            <a:avLst/>
          </a:prstGeom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267080"/>
            <a:ext cx="0" cy="144792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47760" y="5562720"/>
            <a:ext cx="1066680" cy="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4419720"/>
            <a:ext cx="457200" cy="457200"/>
          </a:xfrm>
          <a:prstGeom prst="rtTriangle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124080" y="4419720"/>
            <a:ext cx="152640" cy="152280"/>
          </a:xfrm>
          <a:prstGeom prst="rtTriangle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419720"/>
            <a:ext cx="228600" cy="4572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876920"/>
            <a:ext cx="838440" cy="4572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572000"/>
            <a:ext cx="228600" cy="4572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123360" y="5333400"/>
            <a:ext cx="228600" cy="228600"/>
          </a:xfrm>
          <a:prstGeom prst="rtTriangle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33920" y="5333400"/>
            <a:ext cx="228600" cy="228600"/>
          </a:xfrm>
          <a:prstGeom prst="rtTriangle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5105520"/>
            <a:ext cx="381240" cy="4572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y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her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xis-aligned (AABB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iented (OBB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k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-DO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267080"/>
            <a:ext cx="0" cy="144792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71440" y="4419720"/>
            <a:ext cx="1066680" cy="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5029200"/>
            <a:ext cx="685800" cy="68580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343400"/>
            <a:ext cx="685800" cy="68580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590920" y="4266720"/>
            <a:ext cx="838080" cy="83844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05320" y="4952520"/>
            <a:ext cx="838080" cy="838440"/>
          </a:xfrm>
          <a:prstGeom prst="line">
            <a:avLst/>
          </a:prstGeom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our different techniqu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nalytic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eometric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eparating axis theorem (SAT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ynamic test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iven these, one can derive many tests quite easil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However, often tricks are needed to make them fas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alytical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y/sphere tes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here center: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c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and radius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y: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=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o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here formula: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 ||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-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c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||=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place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by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r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,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nd square it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95280" y="3809880"/>
                <a:ext cx="4019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98600" y="5848200"/>
                <a:ext cx="7516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95280" y="4478400"/>
                <a:ext cx="4572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+</m:t>
                    </m:r>
                    <m:r>
                      <m:t xml:space="preserve">td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+</m:t>
                    </m:r>
                    <m:r>
                      <m:t xml:space="preserve">td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5280" y="5162400"/>
                <a:ext cx="69343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7377120" y="-360"/>
            <a:ext cx="1386000" cy="1679400"/>
            <a:chOff x="7377120" y="-360"/>
            <a:chExt cx="1386000" cy="1679400"/>
          </a:xfrm>
        </p:grpSpPr>
        <p:sp>
          <p:nvSpPr>
            <p:cNvPr id="133" name=""/>
            <p:cNvSpPr/>
            <p:nvPr/>
          </p:nvSpPr>
          <p:spPr>
            <a:xfrm flipV="1">
              <a:off x="7620120" y="685800"/>
              <a:ext cx="528480" cy="60984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43800" y="1219320"/>
              <a:ext cx="15228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7712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620120" y="-360"/>
              <a:ext cx="1143000" cy="1295640"/>
            </a:xfrm>
            <a:prstGeom prst="line">
              <a:avLst/>
            </a:prstGeom>
            <a:ln w="1260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58280" y="45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467480" y="2057400"/>
            <a:ext cx="1067040" cy="1066680"/>
            <a:chOff x="7467480" y="2057400"/>
            <a:chExt cx="1067040" cy="1066680"/>
          </a:xfrm>
        </p:grpSpPr>
        <p:sp>
          <p:nvSpPr>
            <p:cNvPr id="139" name=""/>
            <p:cNvSpPr/>
            <p:nvPr/>
          </p:nvSpPr>
          <p:spPr>
            <a:xfrm>
              <a:off x="7924680" y="2514600"/>
              <a:ext cx="15264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2057400"/>
              <a:ext cx="1067040" cy="1066680"/>
            </a:xfrm>
            <a:prstGeom prst="ellipse">
              <a:avLst/>
            </a:prstGeom>
            <a:noFill/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001000" y="2133720"/>
              <a:ext cx="228600" cy="4572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91040" y="240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51960" y="2057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400" spc="-1" strike="noStrike">
                  <a:solidFill>
                    <a:srgbClr val="ffffeb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alytical, continue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43000" y="1371600"/>
                <a:ext cx="6075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447920" y="2286000"/>
            <a:ext cx="685800" cy="685800"/>
          </a:xfrm>
          <a:prstGeom prst="ellipse">
            <a:avLst/>
          </a:prstGeom>
          <a:solidFill>
            <a:srgbClr val="25357e"/>
          </a:solidFill>
          <a:ln w="2844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38080" y="2209320"/>
            <a:ext cx="2210040" cy="381240"/>
          </a:xfrm>
          <a:prstGeom prst="line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438280"/>
            <a:ext cx="75960" cy="76320"/>
          </a:xfrm>
          <a:prstGeom prst="ellipse">
            <a:avLst/>
          </a:prstGeom>
          <a:solidFill>
            <a:srgbClr val="ff0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2362320"/>
            <a:ext cx="76320" cy="75960"/>
          </a:xfrm>
          <a:prstGeom prst="ellipse">
            <a:avLst/>
          </a:prstGeom>
          <a:solidFill>
            <a:srgbClr val="ff0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76720" y="1980720"/>
            <a:ext cx="1904760" cy="1067040"/>
            <a:chOff x="3276720" y="1980720"/>
            <a:chExt cx="1904760" cy="1067040"/>
          </a:xfrm>
        </p:grpSpPr>
        <p:sp>
          <p:nvSpPr>
            <p:cNvPr id="151" name=""/>
            <p:cNvSpPr/>
            <p:nvPr/>
          </p:nvSpPr>
          <p:spPr>
            <a:xfrm>
              <a:off x="3962520" y="2361960"/>
              <a:ext cx="685800" cy="685800"/>
            </a:xfrm>
            <a:prstGeom prst="ellipse">
              <a:avLst/>
            </a:prstGeom>
            <a:solidFill>
              <a:srgbClr val="25357e"/>
            </a:solidFill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76720" y="1980720"/>
              <a:ext cx="1904760" cy="76212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4800" y="2361960"/>
              <a:ext cx="76320" cy="7632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943600" y="1981080"/>
            <a:ext cx="1219320" cy="1066680"/>
            <a:chOff x="5943600" y="1981080"/>
            <a:chExt cx="1219320" cy="1066680"/>
          </a:xfrm>
        </p:grpSpPr>
        <p:sp>
          <p:nvSpPr>
            <p:cNvPr id="155" name=""/>
            <p:cNvSpPr/>
            <p:nvPr/>
          </p:nvSpPr>
          <p:spPr>
            <a:xfrm>
              <a:off x="6477120" y="2361960"/>
              <a:ext cx="685800" cy="685800"/>
            </a:xfrm>
            <a:prstGeom prst="ellipse">
              <a:avLst/>
            </a:prstGeom>
            <a:solidFill>
              <a:srgbClr val="25357e"/>
            </a:solidFill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43600" y="1981080"/>
              <a:ext cx="1143000" cy="83808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31237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e a little smart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19320" y="3733920"/>
                <a:ext cx="22701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5029200" y="3124080"/>
            <a:ext cx="3733920" cy="1524240"/>
            <a:chOff x="5029200" y="3124080"/>
            <a:chExt cx="3733920" cy="1524240"/>
          </a:xfrm>
        </p:grpSpPr>
        <p:sp>
          <p:nvSpPr>
            <p:cNvPr id="160" name=""/>
            <p:cNvSpPr/>
            <p:nvPr/>
          </p:nvSpPr>
          <p:spPr>
            <a:xfrm>
              <a:off x="5029200" y="3581280"/>
              <a:ext cx="1067040" cy="1067040"/>
            </a:xfrm>
            <a:prstGeom prst="ellipse">
              <a:avLst/>
            </a:prstGeom>
            <a:solidFill>
              <a:srgbClr val="25357e"/>
            </a:solidFill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4038480"/>
              <a:ext cx="152640" cy="15264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6240" y="3505320"/>
              <a:ext cx="15228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172200" y="3424320"/>
              <a:ext cx="914400" cy="15696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4840" y="3962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380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42520" y="342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172200" y="3124080"/>
              <a:ext cx="259092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562720" y="3581280"/>
              <a:ext cx="609480" cy="53352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19320" y="4191120"/>
                <a:ext cx="3619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ο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914400" y="47242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uch tests are called ”rejection tests”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ther shapes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62520" y="5257800"/>
                <a:ext cx="1901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90720" y="5791320"/>
                <a:ext cx="48765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90720" y="6321600"/>
                <a:ext cx="4109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ical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y/Box Inters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oxes and spheres often used as bounding volum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slab is the volume between two parallell plan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409800" y="2347560"/>
            <a:ext cx="2572560" cy="1400400"/>
            <a:chOff x="6409800" y="2347560"/>
            <a:chExt cx="2572560" cy="1400400"/>
          </a:xfrm>
        </p:grpSpPr>
        <p:sp>
          <p:nvSpPr>
            <p:cNvPr id="177" name=""/>
            <p:cNvSpPr/>
            <p:nvPr/>
          </p:nvSpPr>
          <p:spPr>
            <a:xfrm rot="20270400">
              <a:off x="6400080" y="2819160"/>
              <a:ext cx="2590920" cy="456840"/>
            </a:xfrm>
            <a:prstGeom prst="rect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409800" y="2349000"/>
              <a:ext cx="2400120" cy="97596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582240" y="2772000"/>
              <a:ext cx="2400120" cy="97596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914400" y="3657600"/>
            <a:ext cx="8001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box is the logical intersection of three slabs (2 in 2D)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46520" y="4646520"/>
            <a:ext cx="2590920" cy="459000"/>
            <a:chOff x="4646520" y="4646520"/>
            <a:chExt cx="2590920" cy="459000"/>
          </a:xfrm>
        </p:grpSpPr>
        <p:sp>
          <p:nvSpPr>
            <p:cNvPr id="182" name=""/>
            <p:cNvSpPr/>
            <p:nvPr/>
          </p:nvSpPr>
          <p:spPr>
            <a:xfrm>
              <a:off x="4646520" y="4646520"/>
              <a:ext cx="2590920" cy="4572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6520" y="4646520"/>
              <a:ext cx="2590920" cy="18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6520" y="5103720"/>
              <a:ext cx="2590920" cy="18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56360" y="4189320"/>
            <a:ext cx="1218960" cy="1524240"/>
            <a:chOff x="5256360" y="4189320"/>
            <a:chExt cx="1218960" cy="1524240"/>
          </a:xfrm>
        </p:grpSpPr>
        <p:sp>
          <p:nvSpPr>
            <p:cNvPr id="186" name=""/>
            <p:cNvSpPr/>
            <p:nvPr/>
          </p:nvSpPr>
          <p:spPr>
            <a:xfrm rot="16200000">
              <a:off x="5101200" y="4344120"/>
              <a:ext cx="1524240" cy="1214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256360" y="4189320"/>
              <a:ext cx="4680" cy="152424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70640" y="4189320"/>
              <a:ext cx="4680" cy="152424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57800" y="4648320"/>
            <a:ext cx="1219320" cy="457200"/>
          </a:xfrm>
          <a:prstGeom prst="rect">
            <a:avLst/>
          </a:prstGeom>
          <a:solidFill>
            <a:srgbClr val="25357e"/>
          </a:solidFill>
          <a:ln w="2844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114800" y="2209680"/>
            <a:ext cx="1218960" cy="2057040"/>
            <a:chOff x="4114800" y="2209680"/>
            <a:chExt cx="1218960" cy="2057040"/>
          </a:xfrm>
        </p:grpSpPr>
        <p:sp>
          <p:nvSpPr>
            <p:cNvPr id="191" name=""/>
            <p:cNvSpPr/>
            <p:nvPr/>
          </p:nvSpPr>
          <p:spPr>
            <a:xfrm rot="16200000">
              <a:off x="3693240" y="2630880"/>
              <a:ext cx="2057040" cy="1214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114800" y="2209680"/>
              <a:ext cx="4680" cy="205704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329080" y="2209680"/>
              <a:ext cx="4680" cy="205704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ical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ay/Box Intersection (2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tersect the 2 planes of each slab with the ra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505320" y="2819520"/>
            <a:ext cx="2590560" cy="686880"/>
            <a:chOff x="3505320" y="2819520"/>
            <a:chExt cx="2590560" cy="686880"/>
          </a:xfrm>
        </p:grpSpPr>
        <p:sp>
          <p:nvSpPr>
            <p:cNvPr id="197" name=""/>
            <p:cNvSpPr/>
            <p:nvPr/>
          </p:nvSpPr>
          <p:spPr>
            <a:xfrm>
              <a:off x="3505320" y="2819520"/>
              <a:ext cx="2590560" cy="6843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2819520"/>
              <a:ext cx="2590560" cy="252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503880"/>
              <a:ext cx="2590560" cy="252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14800" y="2819520"/>
            <a:ext cx="1219320" cy="685800"/>
          </a:xfrm>
          <a:prstGeom prst="rect">
            <a:avLst/>
          </a:prstGeom>
          <a:solidFill>
            <a:srgbClr val="0bffd1"/>
          </a:solidFill>
          <a:ln w="2844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819520" y="2133360"/>
            <a:ext cx="4114800" cy="2590920"/>
            <a:chOff x="2819520" y="2133360"/>
            <a:chExt cx="4114800" cy="2590920"/>
          </a:xfrm>
        </p:grpSpPr>
        <p:sp>
          <p:nvSpPr>
            <p:cNvPr id="202" name=""/>
            <p:cNvSpPr/>
            <p:nvPr/>
          </p:nvSpPr>
          <p:spPr>
            <a:xfrm flipV="1">
              <a:off x="2895480" y="2133360"/>
              <a:ext cx="4038840" cy="251460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9520" y="4572000"/>
              <a:ext cx="152280" cy="1522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08280" y="3684600"/>
            <a:ext cx="582840" cy="430200"/>
            <a:chOff x="3608280" y="3684600"/>
            <a:chExt cx="582840" cy="430200"/>
          </a:xfrm>
        </p:grpSpPr>
        <p:sp>
          <p:nvSpPr>
            <p:cNvPr id="205" name=""/>
            <p:cNvSpPr/>
            <p:nvPr/>
          </p:nvSpPr>
          <p:spPr>
            <a:xfrm>
              <a:off x="4038480" y="3809880"/>
              <a:ext cx="152640" cy="15264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08280" y="3684600"/>
                  <a:ext cx="4302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5257800" y="3048120"/>
            <a:ext cx="528480" cy="582480"/>
            <a:chOff x="5257800" y="3048120"/>
            <a:chExt cx="528480" cy="582480"/>
          </a:xfrm>
        </p:grpSpPr>
        <p:sp>
          <p:nvSpPr>
            <p:cNvPr id="208" name=""/>
            <p:cNvSpPr/>
            <p:nvPr/>
          </p:nvSpPr>
          <p:spPr>
            <a:xfrm>
              <a:off x="5257800" y="3048120"/>
              <a:ext cx="152280" cy="152280"/>
            </a:xfrm>
            <a:prstGeom prst="ellipse">
              <a:avLst/>
            </a:prstGeom>
            <a:solidFill>
              <a:srgbClr val="ff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334120" y="3200400"/>
                  <a:ext cx="4521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0" name=""/>
          <p:cNvGrpSpPr/>
          <p:nvPr/>
        </p:nvGrpSpPr>
        <p:grpSpPr>
          <a:xfrm>
            <a:off x="4648320" y="3429000"/>
            <a:ext cx="430200" cy="604800"/>
            <a:chOff x="4648320" y="3429000"/>
            <a:chExt cx="430200" cy="604800"/>
          </a:xfrm>
        </p:grpSpPr>
        <p:sp>
          <p:nvSpPr>
            <p:cNvPr id="211" name=""/>
            <p:cNvSpPr/>
            <p:nvPr/>
          </p:nvSpPr>
          <p:spPr>
            <a:xfrm>
              <a:off x="4648320" y="34290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648320" y="3581280"/>
                  <a:ext cx="43020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5654520" y="2286000"/>
            <a:ext cx="452520" cy="609480"/>
            <a:chOff x="5654520" y="2286000"/>
            <a:chExt cx="452520" cy="609480"/>
          </a:xfrm>
        </p:grpSpPr>
        <p:sp>
          <p:nvSpPr>
            <p:cNvPr id="214" name=""/>
            <p:cNvSpPr/>
            <p:nvPr/>
          </p:nvSpPr>
          <p:spPr>
            <a:xfrm>
              <a:off x="5715000" y="27432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654520" y="2286000"/>
                  <a:ext cx="45252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6" name=""/>
          <p:cNvSpPr/>
          <p:nvPr/>
        </p:nvSpPr>
        <p:spPr>
          <a:xfrm>
            <a:off x="914400" y="4724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Keep max o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i="1" lang="sv-SE" sz="3200" spc="-1" strike="noStrike" baseline="30000">
                <a:solidFill>
                  <a:srgbClr val="ffffeb"/>
                </a:solidFill>
                <a:latin typeface="Times New Roman"/>
              </a:rPr>
              <a:t>min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nd min o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i="1" lang="sv-SE" sz="3200" spc="-1" strike="noStrike" baseline="30000">
                <a:solidFill>
                  <a:srgbClr val="ffffeb"/>
                </a:solidFill>
                <a:latin typeface="Times New Roman"/>
              </a:rPr>
              <a:t>max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352680"/>
            <a:ext cx="304920" cy="3049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5181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i="1" lang="sv-SE" sz="3200" spc="-1" strike="noStrike" baseline="30000">
                <a:solidFill>
                  <a:srgbClr val="ffffeb"/>
                </a:solidFill>
                <a:latin typeface="Times New Roman"/>
              </a:rPr>
              <a:t>min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&lt;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i="1" lang="sv-SE" sz="3200" spc="-1" strike="noStrike" baseline="30000">
                <a:solidFill>
                  <a:srgbClr val="ffffeb"/>
                </a:solidFill>
                <a:latin typeface="Times New Roman"/>
              </a:rPr>
              <a:t>max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 we got an intersection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pecial case when ray parallell to slab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eparating Axis Theorem (SAT)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age 563 in book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wo convex polyhedrons, A and B, are disjoint if any of the following axes separate the object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 axis orthogonal to a face of A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 axis orthogonal to a face of B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 axis formed from the cross product of one edge from each of A and B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86000" y="5410080"/>
            <a:ext cx="1066680" cy="228600"/>
            <a:chOff x="2286000" y="5410080"/>
            <a:chExt cx="1066680" cy="228600"/>
          </a:xfrm>
        </p:grpSpPr>
        <p:sp>
          <p:nvSpPr>
            <p:cNvPr id="223" name=""/>
            <p:cNvSpPr/>
            <p:nvPr/>
          </p:nvSpPr>
          <p:spPr>
            <a:xfrm>
              <a:off x="2286000" y="5410080"/>
              <a:ext cx="0" cy="22860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52680" y="5410080"/>
              <a:ext cx="0" cy="22860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00400" y="5638680"/>
            <a:ext cx="1066680" cy="914400"/>
            <a:chOff x="3200400" y="5638680"/>
            <a:chExt cx="1066680" cy="914400"/>
          </a:xfrm>
        </p:grpSpPr>
        <p:sp>
          <p:nvSpPr>
            <p:cNvPr id="226" name=""/>
            <p:cNvSpPr/>
            <p:nvPr/>
          </p:nvSpPr>
          <p:spPr>
            <a:xfrm>
              <a:off x="3200400" y="5638680"/>
              <a:ext cx="0" cy="53352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7080" y="5638680"/>
              <a:ext cx="0" cy="914400"/>
            </a:xfrm>
            <a:prstGeom prst="line">
              <a:avLst/>
            </a:prstGeom>
            <a:ln cap="rnd" w="9360">
              <a:solidFill>
                <a:srgbClr val="ffffe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032440" y="58309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A and B overlaps on this axi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05120" y="4876920"/>
            <a:ext cx="4800600" cy="1860480"/>
            <a:chOff x="1905120" y="4876920"/>
            <a:chExt cx="4800600" cy="1860480"/>
          </a:xfrm>
        </p:grpSpPr>
        <p:sp>
          <p:nvSpPr>
            <p:cNvPr id="230" name=""/>
            <p:cNvSpPr/>
            <p:nvPr/>
          </p:nvSpPr>
          <p:spPr>
            <a:xfrm>
              <a:off x="2286000" y="4876920"/>
              <a:ext cx="1066680" cy="53316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0700000">
              <a:off x="3276360" y="6019920"/>
              <a:ext cx="914400" cy="609480"/>
            </a:xfrm>
            <a:prstGeom prst="rect">
              <a:avLst/>
            </a:prstGeom>
            <a:solidFill>
              <a:srgbClr val="25357e"/>
            </a:solidFill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5638680"/>
              <a:ext cx="4800600" cy="0"/>
            </a:xfrm>
            <a:prstGeom prst="line">
              <a:avLst/>
            </a:prstGeom>
            <a:ln w="1908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5240" y="52578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axis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52680" y="5105520"/>
              <a:ext cx="381240" cy="0"/>
            </a:xfrm>
            <a:prstGeom prst="line">
              <a:avLst/>
            </a:prstGeom>
            <a:ln w="1908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5-12-14T07:29:01Z</dcterms:modified>
  <cp:revision>196</cp:revision>
  <dc:subject/>
  <dc:title>CS248</dc:title>
</cp:coreProperties>
</file>