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7A36-448F-4E1A-9D94-415F68B6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BDCC-0CE4-4AFD-8839-4380B7C0B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F461-6ACA-47DB-BDDF-659BADAA7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31E7-D8EE-4DC8-AAE4-D78F97BE2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1D569-28F8-4BF3-962A-FC7AF5FE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D94CC-CFA6-4322-8CF8-C0F97A6F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87762-1F66-475B-99EF-6AB58DB2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CDF6D-3050-4B84-A2C6-188E3038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84F3F-5665-4C3C-B771-C796DE87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481B8-32FA-47F5-9C77-75E8FA61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84AB9-D841-47D4-8AF5-A944A39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C806-9331-46C0-AE24-0966406E3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1C9B4-256A-47B2-9EBF-552EC95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42A19-F9A4-4064-80A7-D548737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DB7B1-C194-4A61-BC12-3AE3A25F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DA931-13DE-4023-B218-93811D75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3A479-D257-455B-89FD-839B322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73E0-49F4-44CA-8B73-237FB65C1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1714-D675-4828-982C-94C2D30A9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07DC-7747-4F63-9DBF-F5BD5CF82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D196-EB2F-48D1-B632-BFDA094F9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43DD-EB48-46E4-8210-F6CDEFBD5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B421-304F-47A3-8682-E52C7F393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660E-0EBD-4804-970D-09A604984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7954-8643-4C56-89E4-FE3BF19AA5B7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D4E2-4018-4862-B5BE-DC4B591CBA32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Transform Matrice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6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Homogeneous not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point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anslation becom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vector (direction)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anslation of vector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lso allows for projections (later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38120" y="2549520"/>
                <a:ext cx="468180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groupChr>
                      </m:e>
                      <m:li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19520" y="1371600"/>
                <a:ext cx="3581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443560" y="5102280"/>
                <a:ext cx="3548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81480" y="5791320"/>
                <a:ext cx="1216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d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1295280"/>
            <a:ext cx="8001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Just add a row at the bottom, and a column at the right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ilarly for X and Y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t( R )=1 (for 3x3 matrices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ace( R )=1+2cos(alpha)  (for any axis,3x3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otations in 4x4 for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43000" y="2133720"/>
                <a:ext cx="518148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ore basic transform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cal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05320" y="1294920"/>
            <a:ext cx="2971800" cy="838440"/>
            <a:chOff x="3505320" y="1294920"/>
            <a:chExt cx="2971800" cy="838440"/>
          </a:xfrm>
        </p:grpSpPr>
        <p:sp>
          <p:nvSpPr>
            <p:cNvPr id="146" name=""/>
            <p:cNvSpPr/>
            <p:nvPr/>
          </p:nvSpPr>
          <p:spPr>
            <a:xfrm flipV="1">
              <a:off x="3581280" y="1294920"/>
              <a:ext cx="0" cy="838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2057400"/>
              <a:ext cx="106668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1752480"/>
              <a:ext cx="30492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486400" y="1294920"/>
              <a:ext cx="0" cy="838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10080" y="2057400"/>
              <a:ext cx="106704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1600200"/>
              <a:ext cx="609480" cy="4572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4280" y="1752480"/>
              <a:ext cx="457200" cy="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1440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hear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505320" y="2362320"/>
            <a:ext cx="2971800" cy="838080"/>
            <a:chOff x="3505320" y="2362320"/>
            <a:chExt cx="2971800" cy="838080"/>
          </a:xfrm>
        </p:grpSpPr>
        <p:sp>
          <p:nvSpPr>
            <p:cNvPr id="155" name=""/>
            <p:cNvSpPr/>
            <p:nvPr/>
          </p:nvSpPr>
          <p:spPr>
            <a:xfrm flipV="1">
              <a:off x="3581280" y="2362320"/>
              <a:ext cx="0" cy="8380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3124080"/>
              <a:ext cx="106668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81280" y="2590920"/>
              <a:ext cx="457200" cy="533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486400" y="2362320"/>
              <a:ext cx="0" cy="8380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3124080"/>
              <a:ext cx="106704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4280" y="2819520"/>
              <a:ext cx="457200" cy="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2590920"/>
              <a:ext cx="609480" cy="533160"/>
            </a:xfrm>
            <a:prstGeom prst="parallelogram">
              <a:avLst>
                <a:gd name="adj" fmla="val 28579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14400" y="32767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igid-body: rotation then translation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76720" y="3886200"/>
                <a:ext cx="1571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914400" y="43434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ncatenation of matrice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4876920"/>
                <a:ext cx="1673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39920" y="5334120"/>
                <a:ext cx="1403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5867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verses and rotation about arbitrary axis – see book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Not commutative, i.e.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3341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In                   , the rotation is done first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Normal transforms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Not so normal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5714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Inverse works for rotations and translations, though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934320" y="0"/>
            <a:ext cx="1676160" cy="1752480"/>
            <a:chOff x="6934320" y="0"/>
            <a:chExt cx="1676160" cy="1752480"/>
          </a:xfrm>
        </p:grpSpPr>
        <p:sp>
          <p:nvSpPr>
            <p:cNvPr id="173" name=""/>
            <p:cNvSpPr/>
            <p:nvPr/>
          </p:nvSpPr>
          <p:spPr>
            <a:xfrm>
              <a:off x="6934320" y="457200"/>
              <a:ext cx="1143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1600200"/>
              <a:ext cx="10670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34320" y="457200"/>
              <a:ext cx="7596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934320" y="0"/>
              <a:ext cx="15228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010280" y="1218600"/>
              <a:ext cx="304920" cy="3812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077320" y="1523520"/>
              <a:ext cx="533160" cy="2286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176688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748040" y="1523880"/>
            <a:ext cx="180504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066680" y="4419720"/>
                <a:ext cx="5905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: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instead of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38080" y="3733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not use same matrix to transform normal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Euler Transfor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66680" y="2895480"/>
                <a:ext cx="6553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914400" y="144792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ssume the view looks down                          the negative z-axis, with up in                              the y-direction, x to the right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93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14400" y="350532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eb"/>
                </a:solidFill>
                <a:latin typeface="Arial"/>
              </a:rPr>
              <a:t>h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head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eb"/>
                </a:solidFill>
                <a:latin typeface="Arial"/>
              </a:rPr>
              <a:t>p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pitch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eb"/>
                </a:solidFill>
                <a:latin typeface="Arial"/>
              </a:rPr>
              <a:t>r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roll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Gimbal lock can occur – looses one degree of freedom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: h=0,p=</a:t>
            </a:r>
            <a:r>
              <a:rPr b="0" lang="sv-SE" sz="2800" spc="-1" strike="noStrike">
                <a:solidFill>
                  <a:srgbClr val="ffffeb"/>
                </a:solidFill>
                <a:latin typeface="Symbol"/>
                <a:ea typeface="Symbol"/>
              </a:rPr>
              <a:t>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/2, then the </a:t>
            </a:r>
            <a:r>
              <a:rPr b="0" i="1" lang="sv-SE" sz="2800" spc="-1" strike="noStrike">
                <a:solidFill>
                  <a:srgbClr val="ffffeb"/>
                </a:solidFill>
                <a:latin typeface="Arial"/>
              </a:rPr>
              <a:t>z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-rotation becomes rotation around </a:t>
            </a:r>
            <a:r>
              <a:rPr b="0" i="1" lang="sv-SE" sz="2800" spc="-1" strike="noStrike">
                <a:solidFill>
                  <a:srgbClr val="ffffeb"/>
                </a:solidFill>
                <a:latin typeface="Arial"/>
              </a:rPr>
              <a:t>y-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xi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Quaterni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tension of imaginary number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voids </a:t>
            </a: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gimbal lock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that the Euler could produc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ocus on unit quaternion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219320" y="1359000"/>
                <a:ext cx="47242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219320" y="4648320"/>
                <a:ext cx="4552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990720" y="5181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unit quaternion is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19320" y="5791320"/>
                <a:ext cx="59626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φ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where 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Unit quaternions are perfect for rotations!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mpact (4 components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show that 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114800" y="1981080"/>
                <a:ext cx="160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91440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nterpolation from one quaternion to another is much simpler, and gives optimal result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ee book for more details.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5909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…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presents a rotation of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2</a:t>
            </a:r>
            <a:r>
              <a:rPr b="0" lang="sv-SE" sz="3200" spc="-1" strike="noStrike">
                <a:solidFill>
                  <a:srgbClr val="ffffeb"/>
                </a:solidFill>
                <a:latin typeface="Symbol"/>
                <a:ea typeface="Symbol"/>
              </a:rPr>
              <a:t>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radians around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u</a:t>
            </a: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q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of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762120"/>
                <a:ext cx="31719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φ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564240" y="1447920"/>
            <a:ext cx="2427480" cy="2438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14400" y="3886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at is: a unit quaternion represent a rotation as a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rotation axis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nd an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angl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penGL: </a:t>
            </a:r>
            <a:r>
              <a:rPr b="0" lang="sv-SE" sz="2800" spc="-1" strike="noStrike">
                <a:solidFill>
                  <a:srgbClr val="ffffeb"/>
                </a:solidFill>
                <a:latin typeface="Courier New"/>
              </a:rPr>
              <a:t>glRotatef(ux,uy,uz,angle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rojecti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rthogonal (parallel) and Perspectiv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438280" cy="172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2895840" cy="1816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152360" y="3692520"/>
            <a:ext cx="3495960" cy="3165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029200" y="3684600"/>
            <a:ext cx="35053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rthogonal proj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ple, just skip one coordinat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ay, we’re looking along the z-axi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hen drop z, and rende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066680" y="3048120"/>
                <a:ext cx="64008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th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th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838080" y="5334120"/>
            <a:ext cx="4038840" cy="1371600"/>
            <a:chOff x="838080" y="5334120"/>
            <a:chExt cx="4038840" cy="1371600"/>
          </a:xfrm>
        </p:grpSpPr>
        <p:sp>
          <p:nvSpPr>
            <p:cNvPr id="213" name=""/>
            <p:cNvSpPr/>
            <p:nvPr/>
          </p:nvSpPr>
          <p:spPr>
            <a:xfrm>
              <a:off x="1447920" y="5334120"/>
              <a:ext cx="0" cy="1371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6095880"/>
              <a:ext cx="28195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28520" y="583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133720" y="5715000"/>
              <a:ext cx="304560" cy="762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7080" y="6095880"/>
              <a:ext cx="60984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097600" y="5334120"/>
            <a:ext cx="3206880" cy="1371600"/>
            <a:chOff x="5097600" y="5334120"/>
            <a:chExt cx="3206880" cy="1371600"/>
          </a:xfrm>
        </p:grpSpPr>
        <p:sp>
          <p:nvSpPr>
            <p:cNvPr id="219" name=""/>
            <p:cNvSpPr/>
            <p:nvPr/>
          </p:nvSpPr>
          <p:spPr>
            <a:xfrm>
              <a:off x="5707080" y="5334120"/>
              <a:ext cx="0" cy="1371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97600" y="6095880"/>
              <a:ext cx="281916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8040" y="583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392520" y="5715000"/>
              <a:ext cx="304920" cy="762120"/>
            </a:xfrm>
            <a:prstGeom prst="line">
              <a:avLst/>
            </a:prstGeom>
            <a:ln w="572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715000" y="5715000"/>
              <a:ext cx="9907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714640" y="6477120"/>
              <a:ext cx="68580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5000" y="5715000"/>
              <a:ext cx="0" cy="762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rthogonal projection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t invertible!  (determinant is zero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or Z-buffer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t is not sufficient to project to a plan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ather, we need to ”project” to a box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-61560" y="3657600"/>
            <a:ext cx="5547960" cy="2209680"/>
            <a:chOff x="-61560" y="3657600"/>
            <a:chExt cx="5547960" cy="2209680"/>
          </a:xfrm>
        </p:grpSpPr>
        <p:sp>
          <p:nvSpPr>
            <p:cNvPr id="230" name=""/>
            <p:cNvSpPr/>
            <p:nvPr/>
          </p:nvSpPr>
          <p:spPr>
            <a:xfrm>
              <a:off x="1371600" y="3657600"/>
              <a:ext cx="1905120" cy="1143000"/>
            </a:xfrm>
            <a:prstGeom prst="cube">
              <a:avLst>
                <a:gd name="adj" fmla="val 66962"/>
              </a:avLst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400" y="4267080"/>
              <a:ext cx="1143000" cy="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71600" y="4419360"/>
              <a:ext cx="1143000" cy="381240"/>
            </a:xfrm>
            <a:prstGeom prst="rect">
              <a:avLst/>
            </a:prstGeom>
            <a:noFill/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143000" y="5181120"/>
              <a:ext cx="228600" cy="22860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38080" y="5333760"/>
              <a:ext cx="152640" cy="53352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837720" y="5562360"/>
              <a:ext cx="381240" cy="30492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14400" y="5562360"/>
              <a:ext cx="152280" cy="152640"/>
            </a:xfrm>
            <a:prstGeom prst="ellips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2680" y="54831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eye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1560" y="449244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image plane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200400" y="4038480"/>
              <a:ext cx="380880" cy="38088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819520" y="4419360"/>
              <a:ext cx="380880" cy="38124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66880" y="4800600"/>
              <a:ext cx="609840" cy="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4038480"/>
              <a:ext cx="609840" cy="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2920" y="4572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near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38242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far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43200" y="3733920"/>
            <a:ext cx="3089880" cy="1587240"/>
            <a:chOff x="5443200" y="3733920"/>
            <a:chExt cx="3089880" cy="1587240"/>
          </a:xfrm>
        </p:grpSpPr>
        <p:sp>
          <p:nvSpPr>
            <p:cNvPr id="246" name=""/>
            <p:cNvSpPr/>
            <p:nvPr/>
          </p:nvSpPr>
          <p:spPr>
            <a:xfrm>
              <a:off x="6324480" y="3733920"/>
              <a:ext cx="1219320" cy="1142640"/>
            </a:xfrm>
            <a:prstGeom prst="cube">
              <a:avLst>
                <a:gd name="adj" fmla="val 33055"/>
              </a:avLst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43200" y="4952880"/>
              <a:ext cx="308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Unit cube: [-1,-1,-1] to [1,1,1]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914400" y="5638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nit cube is also used for perspective proj.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plifies clipping 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y transforms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e want to be able to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animate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objects and the camer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ranslation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otation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hears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d more…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e want to be able to use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projection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transform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art of this lecture is a refresh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rthogonal proj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”unitcube projection” is invertib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ple to deriv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Just a translation and scal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ee book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241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714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65040" y="44337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45400" y="44337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4280" y="4876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92440" y="382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1616400" y="440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near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2334960" y="37749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far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 about those homogenenous coordinates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26920" y="1444680"/>
                <a:ext cx="3910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w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</a:t>
            </a: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w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=0 for vectors, and p</a:t>
            </a: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w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=1 for point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at if p</a:t>
            </a: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w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s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not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1 or 0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olution is to divide all components by p</a:t>
            </a: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14400" y="3962520"/>
                <a:ext cx="5618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w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w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w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914400" y="464832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Gives a point again!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be used for projections, as we will se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erspective proj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49440" y="4419720"/>
                <a:ext cx="1193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43200" y="4419720"/>
                <a:ext cx="16002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34120" y="4419720"/>
                <a:ext cx="19954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y: 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28160" y="148896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eb"/>
                </a:solidFill>
                <a:latin typeface="Times New Roman"/>
              </a:rPr>
              <a:t>d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38080" y="5181480"/>
                <a:ext cx="257976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6192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erspective proj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219280" y="4924080"/>
            <a:ext cx="392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”arrow” is the homogenization proces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55520" y="1413000"/>
                <a:ext cx="257976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495680" y="2057400"/>
                <a:ext cx="860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874800" y="3137040"/>
                <a:ext cx="32400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14800" y="3124080"/>
                <a:ext cx="1631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803920" y="3146400"/>
                <a:ext cx="326376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1371600" y="4876920"/>
            <a:ext cx="2819520" cy="747720"/>
            <a:chOff x="1371600" y="4876920"/>
            <a:chExt cx="2819520" cy="74772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1371600" y="4890960"/>
                  <a:ext cx="118584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d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986200" y="4876920"/>
                  <a:ext cx="120492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d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6352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erspective proj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gain, the determinant is 0 (not invertibl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o make the rest of the pipeline the same as for orhogonal projection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roject into unit-cub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243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752480" y="3378240"/>
            <a:ext cx="6400800" cy="2413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91440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t much different from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P</a:t>
            </a: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o not collapse z-coord to a plan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erspective projection matric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ee book for formula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REAK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How implement transforms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atrices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you really do everything with a matrix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t everything, but a lot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e use 3x3 and 4x4 matric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47920" y="4572000"/>
                <a:ext cx="5867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How do I use transforms practically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ay you have a circle with origin at (0,0,0) and with radius 1 – unit circ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Courier New"/>
              </a:rPr>
              <a:t>glTranslatef(8,0,0);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Courier New"/>
              </a:rPr>
              <a:t>RenderCircle();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Courier New"/>
              </a:rPr>
              <a:t>glTranslatef(3,2,0);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Courier New"/>
              </a:rPr>
              <a:t>glScalef(2,2,2);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Courier New"/>
              </a:rPr>
              <a:t>RenderCircle();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nt’d from previous slide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 simple 2D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circle in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model spac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66680" y="1905120"/>
            <a:ext cx="7694640" cy="4876560"/>
            <a:chOff x="1066680" y="1905120"/>
            <a:chExt cx="7694640" cy="4876560"/>
          </a:xfrm>
        </p:grpSpPr>
        <p:sp>
          <p:nvSpPr>
            <p:cNvPr id="102" name=""/>
            <p:cNvSpPr/>
            <p:nvPr/>
          </p:nvSpPr>
          <p:spPr>
            <a:xfrm flipV="1">
              <a:off x="2057400" y="2362320"/>
              <a:ext cx="0" cy="441936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5867280"/>
              <a:ext cx="7315200" cy="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28320" y="563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692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920" y="5257800"/>
              <a:ext cx="1218960" cy="1219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408640" y="4751280"/>
            <a:ext cx="3838320" cy="1725840"/>
            <a:chOff x="5408640" y="4751280"/>
            <a:chExt cx="3838320" cy="1725840"/>
          </a:xfrm>
        </p:grpSpPr>
        <p:sp>
          <p:nvSpPr>
            <p:cNvPr id="108" name=""/>
            <p:cNvSpPr/>
            <p:nvPr/>
          </p:nvSpPr>
          <p:spPr>
            <a:xfrm>
              <a:off x="6324480" y="5257800"/>
              <a:ext cx="1219320" cy="1219320"/>
            </a:xfrm>
            <a:prstGeom prst="ellips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08640" y="4751280"/>
              <a:ext cx="38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Courier New"/>
                </a:rPr>
                <a:t>glTranslatef(8,0,0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666880" y="2541600"/>
            <a:ext cx="4065480" cy="3325680"/>
            <a:chOff x="2666880" y="2541600"/>
            <a:chExt cx="4065480" cy="3325680"/>
          </a:xfrm>
        </p:grpSpPr>
        <p:sp>
          <p:nvSpPr>
            <p:cNvPr id="111" name=""/>
            <p:cNvSpPr/>
            <p:nvPr/>
          </p:nvSpPr>
          <p:spPr>
            <a:xfrm>
              <a:off x="2666880" y="3429000"/>
              <a:ext cx="2438640" cy="24382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4040" y="2541600"/>
              <a:ext cx="38383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Courier New"/>
                </a:rPr>
                <a:t>glTranslatef(3,2,0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Courier New"/>
                </a:rPr>
                <a:t>glScalef(2,2,2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erivation of rotation matrix in 2D</a:t>
            </a:r>
            <a:br>
              <a:rPr sz="3600"/>
            </a:b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20600" y="1407960"/>
                <a:ext cx="7324920" cy="529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iφ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otation is mult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iα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φ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143160" y="58104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7467480" y="4648320"/>
            <a:ext cx="1524240" cy="0"/>
          </a:xfrm>
          <a:prstGeom prst="line">
            <a:avLst/>
          </a:prstGeom>
          <a:ln w="936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543800" y="3429000"/>
            <a:ext cx="0" cy="1295280"/>
          </a:xfrm>
          <a:prstGeom prst="line">
            <a:avLst/>
          </a:prstGeom>
          <a:ln w="936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543800" y="4343040"/>
            <a:ext cx="990720" cy="3049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43800" y="3657600"/>
            <a:ext cx="45720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3581280"/>
            <a:ext cx="152640" cy="152640"/>
          </a:xfrm>
          <a:prstGeom prst="ellipse">
            <a:avLst/>
          </a:prstGeom>
          <a:solidFill>
            <a:srgbClr val="ff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58200" y="4267080"/>
            <a:ext cx="152280" cy="152640"/>
          </a:xfrm>
          <a:prstGeom prst="ellipse">
            <a:avLst/>
          </a:prstGeom>
          <a:solidFill>
            <a:srgbClr val="fff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610480" y="4191120"/>
                <a:ext cx="293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924680" y="3276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743960" y="4219560"/>
                <a:ext cx="3524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 flipV="1">
            <a:off x="8229240" y="3885840"/>
            <a:ext cx="228600" cy="3049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erivation 2D rotation, cont’d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14400" y="1600200"/>
                <a:ext cx="7599240" cy="484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what is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cos</m:t>
                                          </m:r>
                                          <m:r>
                                            <m:t xml:space="preserve">α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sin</m:t>
                                          </m:r>
                                          <m:r>
                                            <m:t xml:space="preserve">α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sin</m:t>
                                          </m:r>
                                          <m:r>
                                            <m:t xml:space="preserve">α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cos</m:t>
                                          </m:r>
                                          <m:r>
                                            <m:t xml:space="preserve">α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otations in 3D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ame as in 2D for Z-rotations, but with a 3x3 matrix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or X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or 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7920" y="2286000"/>
                <a:ext cx="6635520" cy="43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anslations must be simple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34286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otation is matrix mult, translation is ad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ould be nice if we could only use matrix multiplications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urn to </a:t>
            </a: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homogeneous coordinat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dd a new component to each vecto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36520" y="1362240"/>
                <a:ext cx="450216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lation                 Rotation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?</m:t>
                                  </m:r>
                                </m:e>
                                <m:e>
                                  <m:r>
                                    <m:t xml:space="preserve">?</m:t>
                                  </m:r>
                                </m:e>
                                <m:e>
                                  <m:r>
                                    <m:t xml:space="preserve">?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?</m:t>
                                  </m:r>
                                </m:e>
                                <m:e>
                                  <m:r>
                                    <m:t xml:space="preserve">?</m:t>
                                  </m:r>
                                </m:e>
                                <m:e>
                                  <m:r>
                                    <m:t xml:space="preserve">?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?</m:t>
                                  </m:r>
                                </m:e>
                                <m:e>
                                  <m:r>
                                    <m:t xml:space="preserve">?</m:t>
                                  </m:r>
                                </m:e>
                                <m:e>
                                  <m:r>
                                    <m:t xml:space="preserve">?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5-12-14T07:32:05Z</dcterms:modified>
  <cp:revision>174</cp:revision>
  <dc:subject/>
  <dc:title>CS248</dc:title>
</cp:coreProperties>
</file>