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1BF4C-D09A-42CA-9FBC-83AF857A1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405B-9688-479F-B493-1E842BFD6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3624-B9C4-4998-90F7-2AD0329F6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CE70-EB27-444C-AF6F-16D4165AF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CDAE6-9EA6-44AD-9D46-76B1472E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3D1A3-3E98-4628-9332-B56BCEA7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6FDB9-766D-4262-BCC8-58FA267F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89AB3-6FD0-42B9-9896-2CC1895C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7A3CA-D1F7-43A3-A0B1-CE5D4950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25EFD-641C-4A30-BA03-D82A46E7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AA2F1-4F47-49D0-99E9-1D503425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F1147-3D80-4219-95C9-5227FCEAD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A2298-BE9A-4E7A-8CA4-6FB61B32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13F15-21DB-4CBA-B05C-028EEB23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092C4-A97A-4784-BD5A-08716231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1D91C-FB95-4986-AF54-8F75839F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546F1-89F0-449A-8EEC-BBF0C997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54D0-22AE-4874-9A8E-F616DA19A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1D44-4215-4E9C-8734-F51AA30CA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3332-65D0-4C1C-9596-B14657E60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E5D8-8867-4F2D-85D2-80C1106AF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EE2D-CC33-42D7-9E0A-60DE5C8EF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0FFD-34CE-437D-9118-5CB21244E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C6E3-FD24-408D-AD67-ADF2805A5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67652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1371600"/>
            <a:ext cx="5105520" cy="6094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248160" y="6550560"/>
            <a:ext cx="28191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82b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Tomas Akenine-M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ő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</a:rPr>
              <a:t>ller </a:t>
            </a:r>
            <a:r>
              <a:rPr b="0" lang="en-US" sz="1400" spc="-1" strike="noStrike">
                <a:solidFill>
                  <a:srgbClr val="5a82be"/>
                </a:solidFill>
                <a:latin typeface="Arial"/>
                <a:ea typeface="Arial"/>
              </a:rPr>
              <a:t>©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9CAF-1F07-4598-B5BB-4BB3CEDC3C1C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E162-4138-45B7-8C86-824076A0EE9B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b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0.jpeg"/><Relationship Id="rId13" Type="http://schemas.openxmlformats.org/officeDocument/2006/relationships/image" Target="../media/image13.jpeg"/><Relationship Id="rId14" Type="http://schemas.openxmlformats.org/officeDocument/2006/relationships/image" Target="../media/image12.jpeg"/><Relationship Id="rId15" Type="http://schemas.openxmlformats.org/officeDocument/2006/relationships/image" Target="../media/image14.jpe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Filtering theory:</a:t>
            </a:r>
            <a:br>
              <a:rPr sz="3600"/>
            </a:br>
            <a:r>
              <a:rPr b="1" lang="sv-SE" sz="3600" spc="-1" strike="noStrike">
                <a:solidFill>
                  <a:srgbClr val="ffff99"/>
                </a:solidFill>
                <a:latin typeface="Arial"/>
              </a:rPr>
              <a:t>Battling Aliasing with Antialiasing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73520" y="3428640"/>
            <a:ext cx="44704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Tomas Akenine-Möller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Department of Computer Engineering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b"/>
                </a:solidFill>
                <a:latin typeface="Arial"/>
              </a:rPr>
              <a:t>Chalmers University of Technology</a:t>
            </a:r>
            <a:endParaRPr b="0" lang="en-US" sz="2000" spc="-1" strike="noStrike">
              <a:solidFill>
                <a:srgbClr val="fff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esampl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nlarging or diminishing signal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ssume samples are at unit-intervals, i.e., 0,1,2,3,4,…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Resample so that they are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a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apar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a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&lt; 1 gives magnificat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600" spc="-1" strike="noStrike">
                <a:solidFill>
                  <a:srgbClr val="ffffeb"/>
                </a:solidFill>
                <a:latin typeface="Times New Roman"/>
              </a:rPr>
              <a:t>a</a:t>
            </a: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&gt;1 gives minification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esampling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agnific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ssume we want to half sample distanc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470480" cy="3476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4258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esampling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inifica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ssume we want to double the distance between sampl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320" y="2590920"/>
            <a:ext cx="4419360" cy="3463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2590920"/>
            <a:ext cx="4419720" cy="3444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14400" y="6095880"/>
            <a:ext cx="8001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Gives a blur effect – LP filter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creen-based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ntialias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Hard case: edge has infinite frequenc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upersampling: use more than one sample per pix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562720" y="0"/>
            <a:ext cx="1752480" cy="1413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1752480" y="3352680"/>
            <a:ext cx="990720" cy="990720"/>
            <a:chOff x="1752480" y="3352680"/>
            <a:chExt cx="990720" cy="990720"/>
          </a:xfrm>
        </p:grpSpPr>
        <p:sp>
          <p:nvSpPr>
            <p:cNvPr id="178" name=""/>
            <p:cNvSpPr/>
            <p:nvPr/>
          </p:nvSpPr>
          <p:spPr>
            <a:xfrm>
              <a:off x="1752480" y="3352680"/>
              <a:ext cx="990720" cy="990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3352680"/>
              <a:ext cx="990720" cy="990720"/>
            </a:xfrm>
            <a:prstGeom prst="rect">
              <a:avLst/>
            </a:prstGeom>
            <a:noFill/>
            <a:ln w="572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09680" y="3809880"/>
              <a:ext cx="76320" cy="76320"/>
            </a:xfrm>
            <a:prstGeom prst="ellipse">
              <a:avLst/>
            </a:pr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429000" y="3352680"/>
            <a:ext cx="2514600" cy="990720"/>
            <a:chOff x="3429000" y="3352680"/>
            <a:chExt cx="2514600" cy="990720"/>
          </a:xfrm>
        </p:grpSpPr>
        <p:sp>
          <p:nvSpPr>
            <p:cNvPr id="182" name=""/>
            <p:cNvSpPr/>
            <p:nvPr/>
          </p:nvSpPr>
          <p:spPr>
            <a:xfrm>
              <a:off x="4952880" y="3352680"/>
              <a:ext cx="990720" cy="990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9000" y="3886200"/>
              <a:ext cx="990720" cy="0"/>
            </a:xfrm>
            <a:prstGeom prst="line">
              <a:avLst/>
            </a:prstGeom>
            <a:ln w="572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3352680"/>
              <a:ext cx="990720" cy="990720"/>
            </a:xfrm>
            <a:prstGeom prst="rect">
              <a:avLst/>
            </a:prstGeom>
            <a:noFill/>
            <a:ln w="572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429000" y="5181480"/>
            <a:ext cx="2514600" cy="990720"/>
            <a:chOff x="3429000" y="5181480"/>
            <a:chExt cx="2514600" cy="990720"/>
          </a:xfrm>
        </p:grpSpPr>
        <p:sp>
          <p:nvSpPr>
            <p:cNvPr id="186" name=""/>
            <p:cNvSpPr/>
            <p:nvPr/>
          </p:nvSpPr>
          <p:spPr>
            <a:xfrm>
              <a:off x="3429000" y="5715000"/>
              <a:ext cx="990720" cy="0"/>
            </a:xfrm>
            <a:prstGeom prst="line">
              <a:avLst/>
            </a:prstGeom>
            <a:ln w="5724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52880" y="5181480"/>
              <a:ext cx="990720" cy="990720"/>
            </a:xfrm>
            <a:prstGeom prst="rect">
              <a:avLst/>
            </a:prstGeom>
            <a:solidFill>
              <a:srgbClr val="008000"/>
            </a:solidFill>
            <a:ln w="572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499040" y="4716000"/>
            <a:ext cx="1693080" cy="1921320"/>
            <a:chOff x="1499040" y="4716000"/>
            <a:chExt cx="1693080" cy="1921320"/>
          </a:xfrm>
        </p:grpSpPr>
        <p:sp>
          <p:nvSpPr>
            <p:cNvPr id="189" name=""/>
            <p:cNvSpPr/>
            <p:nvPr/>
          </p:nvSpPr>
          <p:spPr>
            <a:xfrm>
              <a:off x="1752480" y="5181480"/>
              <a:ext cx="990720" cy="990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7770200">
              <a:off x="1545480" y="5126400"/>
              <a:ext cx="1600200" cy="1100160"/>
            </a:xfrm>
            <a:prstGeom prst="rtTriangl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52480" y="5181480"/>
              <a:ext cx="990720" cy="990720"/>
            </a:xfrm>
            <a:prstGeom prst="rect">
              <a:avLst/>
            </a:prstGeom>
            <a:noFill/>
            <a:ln w="572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5867280"/>
              <a:ext cx="76320" cy="76320"/>
            </a:xfrm>
            <a:prstGeom prst="ellipse">
              <a:avLst/>
            </a:pr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5410080"/>
              <a:ext cx="76320" cy="76320"/>
            </a:xfrm>
            <a:prstGeom prst="ellipse">
              <a:avLst/>
            </a:pr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81080" y="5410080"/>
              <a:ext cx="76320" cy="76320"/>
            </a:xfrm>
            <a:prstGeom prst="ellipse">
              <a:avLst/>
            </a:pr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81080" y="5867280"/>
              <a:ext cx="76320" cy="76320"/>
            </a:xfrm>
            <a:prstGeom prst="ellipse">
              <a:avLst/>
            </a:pr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 rot="17770200">
            <a:off x="1545480" y="3297600"/>
            <a:ext cx="1600200" cy="1100160"/>
          </a:xfrm>
          <a:prstGeom prst="rtTriangl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Formula and…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examples of different schemes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i="1" lang="sv-SE" sz="1600" spc="-1" strike="noStrike">
                <a:solidFill>
                  <a:srgbClr val="ffffeb"/>
                </a:solidFill>
                <a:latin typeface="Times New Roman"/>
              </a:rPr>
              <a:t>i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are the weights in [0,1]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eb"/>
                </a:solidFill>
                <a:latin typeface="Times New Roman"/>
              </a:rPr>
              <a:t>c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(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i,x,y</a:t>
            </a:r>
            <a:r>
              <a:rPr b="0" lang="sv-SE" sz="3200" spc="-1" strike="noStrike">
                <a:solidFill>
                  <a:srgbClr val="ffffeb"/>
                </a:solidFill>
                <a:latin typeface="Times New Roman"/>
              </a:rPr>
              <a:t>)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is the color of sample </a:t>
            </a:r>
            <a:r>
              <a:rPr b="0" i="1" lang="sv-SE" sz="3200" spc="-1" strike="noStrike">
                <a:solidFill>
                  <a:srgbClr val="ffffeb"/>
                </a:solidFill>
                <a:latin typeface="Times New Roman"/>
              </a:rPr>
              <a:t>i</a:t>
            </a: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 inside pix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4119480"/>
            <a:ext cx="4572000" cy="2738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495680" y="3497400"/>
            <a:ext cx="4648320" cy="3360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066680" y="1371600"/>
                <a:ext cx="33530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Jittered sampl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egular sampling cannot eliminate aliasing – only reduce it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Because edges represent infinite frequency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Jittering replaces aliasing with nois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267080"/>
            <a:ext cx="1143000" cy="1143000"/>
          </a:xfrm>
          <a:prstGeom prst="rect">
            <a:avLst/>
          </a:prstGeom>
          <a:noFill/>
          <a:ln w="381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371600" y="4267080"/>
            <a:ext cx="1143000" cy="1143000"/>
            <a:chOff x="1371600" y="4267080"/>
            <a:chExt cx="1143000" cy="1143000"/>
          </a:xfrm>
        </p:grpSpPr>
        <p:sp>
          <p:nvSpPr>
            <p:cNvPr id="206" name=""/>
            <p:cNvSpPr/>
            <p:nvPr/>
          </p:nvSpPr>
          <p:spPr>
            <a:xfrm>
              <a:off x="1752480" y="4267080"/>
              <a:ext cx="0" cy="114300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3720" y="4267080"/>
              <a:ext cx="0" cy="114300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1600" y="4648320"/>
              <a:ext cx="1143000" cy="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1600" y="5029200"/>
              <a:ext cx="1143000" cy="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600200" y="4419720"/>
            <a:ext cx="76320" cy="75960"/>
          </a:xfrm>
          <a:prstGeom prst="ellipse">
            <a:avLst/>
          </a:prstGeom>
          <a:solidFill>
            <a:srgbClr val="ffff0b"/>
          </a:solidFill>
          <a:ln w="936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4495680"/>
            <a:ext cx="75960" cy="76320"/>
          </a:xfrm>
          <a:prstGeom prst="ellipse">
            <a:avLst/>
          </a:prstGeom>
          <a:solidFill>
            <a:srgbClr val="ffff0b"/>
          </a:solidFill>
          <a:ln w="936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724280"/>
            <a:ext cx="76320" cy="76320"/>
          </a:xfrm>
          <a:prstGeom prst="ellipse">
            <a:avLst/>
          </a:prstGeom>
          <a:solidFill>
            <a:srgbClr val="ffff0b"/>
          </a:solidFill>
          <a:ln w="936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4724280"/>
            <a:ext cx="76320" cy="76320"/>
          </a:xfrm>
          <a:prstGeom prst="ellipse">
            <a:avLst/>
          </a:prstGeom>
          <a:solidFill>
            <a:srgbClr val="ffff0b"/>
          </a:solidFill>
          <a:ln w="936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5105520"/>
            <a:ext cx="76320" cy="75960"/>
          </a:xfrm>
          <a:prstGeom prst="ellipse">
            <a:avLst/>
          </a:prstGeom>
          <a:solidFill>
            <a:srgbClr val="ffff0b"/>
          </a:solidFill>
          <a:ln w="936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5257800"/>
            <a:ext cx="75960" cy="76320"/>
          </a:xfrm>
          <a:prstGeom prst="ellipse">
            <a:avLst/>
          </a:prstGeom>
          <a:solidFill>
            <a:srgbClr val="ffff0b"/>
          </a:solidFill>
          <a:ln w="936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5105520"/>
            <a:ext cx="76320" cy="75960"/>
          </a:xfrm>
          <a:prstGeom prst="ellipse">
            <a:avLst/>
          </a:prstGeom>
          <a:solidFill>
            <a:srgbClr val="ffff0b"/>
          </a:solidFill>
          <a:ln w="936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876920"/>
            <a:ext cx="76320" cy="75960"/>
          </a:xfrm>
          <a:prstGeom prst="ellipse">
            <a:avLst/>
          </a:prstGeom>
          <a:solidFill>
            <a:srgbClr val="ffff0b"/>
          </a:solidFill>
          <a:ln w="936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62320" y="4419720"/>
            <a:ext cx="75960" cy="75960"/>
          </a:xfrm>
          <a:prstGeom prst="ellipse">
            <a:avLst/>
          </a:prstGeom>
          <a:solidFill>
            <a:srgbClr val="ffff0b"/>
          </a:solidFill>
          <a:ln w="936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14600" y="4267080"/>
            <a:ext cx="1143000" cy="1143000"/>
            <a:chOff x="2514600" y="4267080"/>
            <a:chExt cx="1143000" cy="1143000"/>
          </a:xfrm>
        </p:grpSpPr>
        <p:sp>
          <p:nvSpPr>
            <p:cNvPr id="220" name=""/>
            <p:cNvSpPr/>
            <p:nvPr/>
          </p:nvSpPr>
          <p:spPr>
            <a:xfrm>
              <a:off x="2514600" y="4267080"/>
              <a:ext cx="1143000" cy="1143000"/>
            </a:xfrm>
            <a:prstGeom prst="rect">
              <a:avLst/>
            </a:prstGeom>
            <a:noFill/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4267080"/>
              <a:ext cx="0" cy="114300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76360" y="4267080"/>
              <a:ext cx="0" cy="114300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648320"/>
              <a:ext cx="1143000" cy="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14600" y="5029200"/>
              <a:ext cx="1143000" cy="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4419720"/>
              <a:ext cx="76320" cy="7596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3200" y="4800600"/>
              <a:ext cx="75960" cy="7632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71800" y="4724280"/>
              <a:ext cx="75960" cy="7632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52680" y="4876920"/>
              <a:ext cx="76320" cy="7596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29000" y="4495680"/>
              <a:ext cx="75960" cy="7632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47760" y="4419720"/>
              <a:ext cx="76320" cy="7596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24080" y="5181480"/>
              <a:ext cx="76320" cy="7632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29000" y="5105520"/>
              <a:ext cx="75960" cy="7596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90560" y="5257800"/>
              <a:ext cx="76320" cy="7632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657600" y="4267080"/>
            <a:ext cx="1143000" cy="1143000"/>
            <a:chOff x="3657600" y="4267080"/>
            <a:chExt cx="1143000" cy="1143000"/>
          </a:xfrm>
        </p:grpSpPr>
        <p:sp>
          <p:nvSpPr>
            <p:cNvPr id="235" name=""/>
            <p:cNvSpPr/>
            <p:nvPr/>
          </p:nvSpPr>
          <p:spPr>
            <a:xfrm>
              <a:off x="3657600" y="4267080"/>
              <a:ext cx="1143000" cy="1143000"/>
            </a:xfrm>
            <a:prstGeom prst="rect">
              <a:avLst/>
            </a:prstGeom>
            <a:noFill/>
            <a:ln w="381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38840" y="4267080"/>
              <a:ext cx="0" cy="114300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19720" y="4267080"/>
              <a:ext cx="0" cy="114300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7600" y="4648320"/>
              <a:ext cx="1143000" cy="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57600" y="5029200"/>
              <a:ext cx="1143000" cy="0"/>
            </a:xfrm>
            <a:prstGeom prst="line">
              <a:avLst/>
            </a:prstGeom>
            <a:ln w="1908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86200" y="4495680"/>
              <a:ext cx="76320" cy="7632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33920" y="4800600"/>
              <a:ext cx="76320" cy="7632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14800" y="4952880"/>
              <a:ext cx="76320" cy="7632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48320" y="4876920"/>
              <a:ext cx="76320" cy="7596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48320" y="4343400"/>
              <a:ext cx="76320" cy="7632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14800" y="4419720"/>
              <a:ext cx="76320" cy="7596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14800" y="5181480"/>
              <a:ext cx="76320" cy="7632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6040" y="5181480"/>
              <a:ext cx="75960" cy="7632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10240" y="5105520"/>
              <a:ext cx="75960" cy="7596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A-buffer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ultisampling techniqu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akes &gt;1 samples per pixel, and shares compuations between samples inside a pixel 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upersampling does not share computation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Lighting may be computed once per pix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exturing may be computed once per pixe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Strength: aliasing edges and properly handling transparenc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 A-buffer --- cont’d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o deal better with edges:                     use a coverage mask per pixe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overage mask, depth, &amp; color                    make up a fragmen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During rendering fragments are discarded when possible (depth test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When all polygons have been rendered, the fragments are merged into a visible colo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Allows for sorting transparent surfaces as well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But costs memory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927840" y="1219320"/>
            <a:ext cx="2200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Another multisampling techniqe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Quincunx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403812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Generate 2 samples per pixel at the same tim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i="1" lang="sv-SE" sz="1400" spc="-1" strike="noStrike">
                <a:solidFill>
                  <a:srgbClr val="ffffeb"/>
                </a:solidFill>
                <a:latin typeface="Times New Roman"/>
              </a:rPr>
              <a:t>1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=0.5, </a:t>
            </a:r>
            <a:r>
              <a:rPr b="0" i="1" lang="sv-SE" sz="28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i="1" lang="sv-SE" sz="1400" spc="-1" strike="noStrike">
                <a:solidFill>
                  <a:srgbClr val="ffffeb"/>
                </a:solidFill>
                <a:latin typeface="Times New Roman"/>
              </a:rPr>
              <a:t>2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=0.125, </a:t>
            </a:r>
            <a:r>
              <a:rPr b="0" i="1" lang="sv-SE" sz="28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i="1" lang="sv-SE" sz="1400" spc="-1" strike="noStrike">
                <a:solidFill>
                  <a:srgbClr val="ffffeb"/>
                </a:solidFill>
                <a:latin typeface="Times New Roman"/>
              </a:rPr>
              <a:t>3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=0.125, </a:t>
            </a:r>
            <a:r>
              <a:rPr b="0" i="1" lang="sv-SE" sz="28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i="1" lang="sv-SE" sz="1400" spc="-1" strike="noStrike">
                <a:solidFill>
                  <a:srgbClr val="ffffeb"/>
                </a:solidFill>
                <a:latin typeface="Times New Roman"/>
              </a:rPr>
              <a:t>4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=0.125, </a:t>
            </a:r>
            <a:r>
              <a:rPr b="0" i="1" lang="sv-SE" sz="2800" spc="-1" strike="noStrike">
                <a:solidFill>
                  <a:srgbClr val="ffffeb"/>
                </a:solidFill>
                <a:latin typeface="Times New Roman"/>
              </a:rPr>
              <a:t>w</a:t>
            </a:r>
            <a:r>
              <a:rPr b="0" i="1" lang="sv-SE" sz="1400" spc="-1" strike="noStrike">
                <a:solidFill>
                  <a:srgbClr val="ffffeb"/>
                </a:solidFill>
                <a:latin typeface="Times New Roman"/>
              </a:rPr>
              <a:t>5</a:t>
            </a: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=0.125  (2D tent filter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All samples gives the same effect on the image (mid pixel = 0.5, corner pixels = 4*0.125=0.5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Is available on NVIDIA GeForce3 and up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066680" y="1422360"/>
            <a:ext cx="7759800" cy="101592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1143000" y="2590920"/>
            <a:ext cx="3429000" cy="1371600"/>
            <a:chOff x="1143000" y="2590920"/>
            <a:chExt cx="3429000" cy="1371600"/>
          </a:xfrm>
        </p:grpSpPr>
        <p:sp>
          <p:nvSpPr>
            <p:cNvPr id="258" name=""/>
            <p:cNvSpPr/>
            <p:nvPr/>
          </p:nvSpPr>
          <p:spPr>
            <a:xfrm>
              <a:off x="1143000" y="2590920"/>
              <a:ext cx="685800" cy="685800"/>
            </a:xfrm>
            <a:prstGeom prst="rect">
              <a:avLst/>
            </a:prstGeom>
            <a:noFill/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71600" y="2819520"/>
              <a:ext cx="228600" cy="22860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28800" y="2590920"/>
              <a:ext cx="685800" cy="685800"/>
            </a:xfrm>
            <a:prstGeom prst="rect">
              <a:avLst/>
            </a:prstGeom>
            <a:noFill/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57400" y="2819520"/>
              <a:ext cx="228600" cy="22860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2590920"/>
              <a:ext cx="685800" cy="685800"/>
            </a:xfrm>
            <a:prstGeom prst="rect">
              <a:avLst/>
            </a:prstGeom>
            <a:noFill/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43200" y="2819520"/>
              <a:ext cx="228600" cy="22860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0400" y="2590920"/>
              <a:ext cx="685800" cy="685800"/>
            </a:xfrm>
            <a:prstGeom prst="rect">
              <a:avLst/>
            </a:prstGeom>
            <a:noFill/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2819520"/>
              <a:ext cx="228600" cy="22860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6200" y="2590920"/>
              <a:ext cx="685800" cy="685800"/>
            </a:xfrm>
            <a:prstGeom prst="rect">
              <a:avLst/>
            </a:prstGeom>
            <a:noFill/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4800" y="2819520"/>
              <a:ext cx="228600" cy="22860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43000" y="3276720"/>
              <a:ext cx="685800" cy="685800"/>
            </a:xfrm>
            <a:prstGeom prst="rect">
              <a:avLst/>
            </a:prstGeom>
            <a:noFill/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71600" y="3505320"/>
              <a:ext cx="228600" cy="22860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28800" y="3276720"/>
              <a:ext cx="685800" cy="685800"/>
            </a:xfrm>
            <a:prstGeom prst="rect">
              <a:avLst/>
            </a:prstGeom>
            <a:noFill/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57400" y="3505320"/>
              <a:ext cx="228600" cy="22860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14600" y="3276720"/>
              <a:ext cx="685800" cy="685800"/>
            </a:xfrm>
            <a:prstGeom prst="rect">
              <a:avLst/>
            </a:prstGeom>
            <a:noFill/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43200" y="3505320"/>
              <a:ext cx="228600" cy="22860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00400" y="3276720"/>
              <a:ext cx="685800" cy="685800"/>
            </a:xfrm>
            <a:prstGeom prst="rect">
              <a:avLst/>
            </a:prstGeom>
            <a:noFill/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9000" y="3505320"/>
              <a:ext cx="228600" cy="22860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86200" y="3276720"/>
              <a:ext cx="685800" cy="685800"/>
            </a:xfrm>
            <a:prstGeom prst="rect">
              <a:avLst/>
            </a:prstGeom>
            <a:noFill/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14800" y="3505320"/>
              <a:ext cx="228600" cy="22860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66680" y="2514600"/>
            <a:ext cx="2895840" cy="838080"/>
            <a:chOff x="1066680" y="2514600"/>
            <a:chExt cx="2895840" cy="838080"/>
          </a:xfrm>
        </p:grpSpPr>
        <p:sp>
          <p:nvSpPr>
            <p:cNvPr id="279" name=""/>
            <p:cNvSpPr/>
            <p:nvPr/>
          </p:nvSpPr>
          <p:spPr>
            <a:xfrm>
              <a:off x="1066680" y="2514600"/>
              <a:ext cx="15264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200400"/>
              <a:ext cx="15264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52480" y="3200400"/>
              <a:ext cx="15264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2480" y="2514600"/>
              <a:ext cx="15264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38280" y="2514600"/>
              <a:ext cx="15264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8280" y="3200400"/>
              <a:ext cx="15264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4080" y="3200400"/>
              <a:ext cx="15264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24080" y="2514600"/>
              <a:ext cx="15264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09880" y="2514600"/>
              <a:ext cx="15264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09880" y="3200400"/>
              <a:ext cx="152640" cy="15228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Yet another scheme: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FLIPQUAD multisampling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341000"/>
            <a:ext cx="3924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ecap, RGSS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eb"/>
                </a:solidFill>
                <a:latin typeface="Arial"/>
              </a:rPr>
              <a:t>One sample per row and column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187280" y="3836880"/>
            <a:ext cx="112572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5508720" y="1341360"/>
            <a:ext cx="1152360" cy="1152720"/>
            <a:chOff x="5508720" y="1341360"/>
            <a:chExt cx="1152360" cy="1152720"/>
          </a:xfrm>
        </p:grpSpPr>
        <p:sp>
          <p:nvSpPr>
            <p:cNvPr id="293" name=""/>
            <p:cNvSpPr/>
            <p:nvPr/>
          </p:nvSpPr>
          <p:spPr>
            <a:xfrm>
              <a:off x="5508720" y="1341360"/>
              <a:ext cx="1152360" cy="1152720"/>
            </a:xfrm>
            <a:prstGeom prst="rect">
              <a:avLst/>
            </a:prstGeom>
            <a:solidFill>
              <a:srgbClr val="25357e"/>
            </a:solidFill>
            <a:ln w="2844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7440" y="1341360"/>
              <a:ext cx="0" cy="1152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84720" y="1341360"/>
              <a:ext cx="0" cy="1152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440" y="1341360"/>
              <a:ext cx="0" cy="1152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08720" y="2206440"/>
              <a:ext cx="115236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08720" y="1917720"/>
              <a:ext cx="115236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08720" y="1630440"/>
              <a:ext cx="115236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70520" y="1413000"/>
              <a:ext cx="142200" cy="14436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81440" y="1989000"/>
              <a:ext cx="142560" cy="14472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57800" y="2278080"/>
              <a:ext cx="142560" cy="14436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45080" y="1701720"/>
              <a:ext cx="142560" cy="144360"/>
            </a:xfrm>
            <a:prstGeom prst="ellipse">
              <a:avLst/>
            </a:prstGeom>
            <a:solidFill>
              <a:srgbClr val="ffff0b"/>
            </a:solidFill>
            <a:ln w="9360">
              <a:solidFill>
                <a:srgbClr val="ff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971640" y="2563920"/>
            <a:ext cx="8001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Combine good stuff                                  from RGSS and Quincunx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556000" y="3836880"/>
            <a:ext cx="2016000" cy="1176480"/>
            <a:chOff x="2556000" y="3836880"/>
            <a:chExt cx="2016000" cy="1176480"/>
          </a:xfrm>
        </p:grpSpPr>
        <p:sp>
          <p:nvSpPr>
            <p:cNvPr id="306" name=""/>
            <p:cNvSpPr/>
            <p:nvPr/>
          </p:nvSpPr>
          <p:spPr>
            <a:xfrm>
              <a:off x="2556000" y="4413240"/>
              <a:ext cx="720720" cy="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2"/>
            <a:stretch/>
          </p:blipFill>
          <p:spPr>
            <a:xfrm>
              <a:off x="3446640" y="3836880"/>
              <a:ext cx="112536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5292720" y="3605040"/>
            <a:ext cx="3527280" cy="2776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971640" y="5227560"/>
            <a:ext cx="8001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Weights: 0.25 per sampl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Performs better than                                                Quincunx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67640" y="2060640"/>
            <a:ext cx="1225440" cy="64764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Why care at all?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Quality!!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xample: Final fantasy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The movie against the game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eb"/>
                </a:solidFill>
                <a:latin typeface="Arial"/>
              </a:rPr>
              <a:t>In a broad way, and for most of the scenes, the only difference is in the number of samples and the quality of filtering</a:t>
            </a:r>
            <a:endParaRPr b="0" lang="en-US" sz="2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More on filtering 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theory and practice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Especially important for texturing and filtering of texture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More about this in next lect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Computer graphics is a</a:t>
            </a:r>
            <a:br>
              <a:rPr sz="3600"/>
            </a:b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AMPLING &amp; FILTERING process!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Pixels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2210040" cy="178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2210040" cy="1782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14400" y="33526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exture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895480" y="3195720"/>
            <a:ext cx="3048120" cy="2146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019920" y="3195720"/>
            <a:ext cx="3047760" cy="214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14400" y="5105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0" y="565308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67640" y="2060640"/>
            <a:ext cx="1225440" cy="647640"/>
          </a:xfrm>
          <a:prstGeom prst="rect">
            <a:avLst/>
          </a:prstGeom>
          <a:solidFill>
            <a:srgbClr val="253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ampling and reconstru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9714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Sampling: from continuous signal to discret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Reconstruction recovers the original signa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Care must be taken to avoid aliasing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Nyquist theorem: </a:t>
            </a:r>
            <a:r>
              <a:rPr b="0" i="1" lang="sv-SE" sz="2800" spc="-1" strike="noStrike">
                <a:solidFill>
                  <a:srgbClr val="ffffeb"/>
                </a:solidFill>
                <a:latin typeface="Arial"/>
              </a:rPr>
              <a:t>the sampling frequency should be at least 2 times the max frequency in the signa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eb"/>
                </a:solidFill>
                <a:latin typeface="Arial"/>
              </a:rPr>
              <a:t>Often impossible to know max frequency (bandlimited signal), or the max frequency is often infinite…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1638360" cy="1450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8120" y="1447920"/>
            <a:ext cx="2209680" cy="146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57800" y="1447920"/>
            <a:ext cx="25909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ampling theorem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yquist theorem: </a:t>
            </a:r>
            <a:r>
              <a:rPr b="0" i="1" lang="sv-SE" sz="3200" spc="-1" strike="noStrike">
                <a:solidFill>
                  <a:srgbClr val="ffffeb"/>
                </a:solidFill>
                <a:latin typeface="Arial"/>
              </a:rPr>
              <a:t>the sampling frequency should be at least 2 times the max frequency in the sign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14400" y="3200400"/>
            <a:ext cx="8039160" cy="905400"/>
            <a:chOff x="914400" y="3200400"/>
            <a:chExt cx="8039160" cy="9054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914400" y="3200400"/>
              <a:ext cx="80391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flipH="1">
              <a:off x="914400" y="3733920"/>
              <a:ext cx="228600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0400" y="3733920"/>
              <a:ext cx="167652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29440" y="370692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000" spc="-1" strike="noStrike">
                  <a:solidFill>
                    <a:srgbClr val="ffffeb"/>
                  </a:solidFill>
                  <a:latin typeface="Times New Roman"/>
                </a:rPr>
                <a:t>f</a:t>
              </a:r>
              <a:r>
                <a:rPr b="0" lang="sv-SE" sz="2000" spc="-1" strike="noStrike">
                  <a:solidFill>
                    <a:srgbClr val="ffffeb"/>
                  </a:solidFill>
                  <a:latin typeface="Times New Roman"/>
                </a:rPr>
                <a:t>=1 rpm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286000" y="4324320"/>
            <a:ext cx="927000" cy="476280"/>
            <a:chOff x="2286000" y="4324320"/>
            <a:chExt cx="927000" cy="47628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2286000" y="4324320"/>
              <a:ext cx="4698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743200" y="4324320"/>
              <a:ext cx="469800" cy="47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933480" y="4952880"/>
            <a:ext cx="2647800" cy="4716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914400" y="3657600"/>
            <a:ext cx="469800" cy="1143000"/>
            <a:chOff x="914400" y="3657600"/>
            <a:chExt cx="469800" cy="114300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914400" y="4324320"/>
              <a:ext cx="4698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143000" y="3657600"/>
              <a:ext cx="0" cy="60948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71600" y="3657600"/>
            <a:ext cx="3809880" cy="1143000"/>
            <a:chOff x="1371600" y="3657600"/>
            <a:chExt cx="3809880" cy="1143000"/>
          </a:xfrm>
        </p:grpSpPr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1371600" y="4324320"/>
              <a:ext cx="4698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600200" y="4114800"/>
              <a:ext cx="0" cy="15228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0200" y="4114800"/>
              <a:ext cx="358128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81480" y="3657600"/>
              <a:ext cx="0" cy="4572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828800" y="4191120"/>
            <a:ext cx="7315200" cy="609480"/>
            <a:chOff x="1828800" y="4191120"/>
            <a:chExt cx="7315200" cy="609480"/>
          </a:xfrm>
        </p:grpSpPr>
        <p:pic>
          <p:nvPicPr>
            <p:cNvPr id="128" name="" descr=""/>
            <p:cNvPicPr/>
            <p:nvPr/>
          </p:nvPicPr>
          <p:blipFill>
            <a:blip r:embed="rId7"/>
            <a:stretch/>
          </p:blipFill>
          <p:spPr>
            <a:xfrm>
              <a:off x="1828800" y="4324320"/>
              <a:ext cx="4698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057400" y="4191120"/>
              <a:ext cx="0" cy="15228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7400" y="4191120"/>
              <a:ext cx="708660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810960" y="434340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1 sample per revolution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13480" y="495288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A little more than 1 sample/revolution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914400" y="5562720"/>
            <a:ext cx="46980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1816200" y="5562720"/>
            <a:ext cx="46980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1371600" y="5562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2286000" y="5562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87280" y="556272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2 samples per revolution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2"/>
          <a:stretch/>
        </p:blipFill>
        <p:spPr>
          <a:xfrm>
            <a:off x="914400" y="6153120"/>
            <a:ext cx="46980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3"/>
          <a:stretch/>
        </p:blipFill>
        <p:spPr>
          <a:xfrm>
            <a:off x="1371600" y="6172200"/>
            <a:ext cx="457200" cy="444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4"/>
          <a:stretch/>
        </p:blipFill>
        <p:spPr>
          <a:xfrm>
            <a:off x="1828800" y="6172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5"/>
          <a:stretch/>
        </p:blipFill>
        <p:spPr>
          <a:xfrm>
            <a:off x="2286000" y="6172200"/>
            <a:ext cx="463680" cy="450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6"/>
          <a:stretch/>
        </p:blipFill>
        <p:spPr>
          <a:xfrm>
            <a:off x="2743200" y="6172200"/>
            <a:ext cx="469800" cy="476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89800" y="609588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eb"/>
                </a:solidFill>
                <a:latin typeface="Arial"/>
              </a:rPr>
              <a:t>&gt;2 samples per revolution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Sampling is simple, now turn to: Reconstruction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Assume we have a bandlimited signal (e.g., a texture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Use filters for reconstru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61722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econstruction with box filter (nearest neighbor)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91440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econstruction with tent filter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110360" cy="310968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14120" y="4540320"/>
            <a:ext cx="3988080" cy="2317680"/>
            <a:chOff x="114120" y="4540320"/>
            <a:chExt cx="3988080" cy="2317680"/>
          </a:xfrm>
        </p:grpSpPr>
        <p:sp>
          <p:nvSpPr>
            <p:cNvPr id="152" name=""/>
            <p:cNvSpPr/>
            <p:nvPr/>
          </p:nvSpPr>
          <p:spPr>
            <a:xfrm>
              <a:off x="114120" y="5299200"/>
              <a:ext cx="10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32x32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eb"/>
                  </a:solidFill>
                  <a:latin typeface="Times New Roman"/>
                </a:rPr>
                <a:t>texture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447920" y="4540320"/>
              <a:ext cx="2654280" cy="2317680"/>
              <a:chOff x="1447920" y="4540320"/>
              <a:chExt cx="2654280" cy="231768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47920" y="4800600"/>
                <a:ext cx="2654280" cy="205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1983600" y="4540320"/>
                <a:ext cx="173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600" spc="-1" strike="noStrike">
                    <a:solidFill>
                      <a:srgbClr val="ffffeb"/>
                    </a:solidFill>
                    <a:latin typeface="Arial"/>
                  </a:rPr>
                  <a:t>Nearest neighbor</a:t>
                </a:r>
                <a:endParaRPr b="0" lang="en-US" sz="16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4800600" y="4540320"/>
            <a:ext cx="2654280" cy="2317680"/>
            <a:chOff x="4800600" y="4540320"/>
            <a:chExt cx="2654280" cy="2317680"/>
          </a:xfrm>
        </p:grpSpPr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4800600" y="4800600"/>
              <a:ext cx="2654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770440" y="454032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eb"/>
                  </a:solidFill>
                  <a:latin typeface="Arial"/>
                </a:rPr>
                <a:t>Linear</a:t>
              </a:r>
              <a:endParaRPr b="0" lang="en-US" sz="16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9b"/>
                </a:solidFill>
                <a:latin typeface="Arial"/>
              </a:rPr>
              <a:t>Reconstruction with sinc filter</a:t>
            </a:r>
            <a:endParaRPr b="1" lang="en-US" sz="3600" spc="-1" strike="noStrike">
              <a:solidFill>
                <a:srgbClr val="ffff9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In theory, the ideal filt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eb"/>
                </a:solidFill>
                <a:latin typeface="Arial"/>
              </a:rPr>
              <a:t>Not practical (infinite extension, negative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85960" y="1447920"/>
            <a:ext cx="825804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7:00:51Z</dcterms:created>
  <dc:creator>Tomas Moller</dc:creator>
  <dc:description/>
  <dc:language>en-US</dc:language>
  <cp:lastModifiedBy>Tomas Akenine-Möller</cp:lastModifiedBy>
  <cp:lastPrinted>2000-03-14T19:25:07Z</cp:lastPrinted>
  <dcterms:modified xsi:type="dcterms:W3CDTF">2005-12-14T07:25:33Z</dcterms:modified>
  <cp:revision>160</cp:revision>
  <dc:subject/>
  <dc:title>CS248</dc:title>
</cp:coreProperties>
</file>