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1.wmf" ContentType="image/x-wmf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4.jpeg" ContentType="image/jpeg"/>
  <Override PartName="/ppt/media/image7.jpeg" ContentType="image/jpeg"/>
  <Override PartName="/ppt/media/image12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80E358-96D8-4123-9823-E9AAD5C45B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001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040" y="3995280"/>
            <a:ext cx="8001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08EAF5-0793-4740-B13E-7AB470184A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13720" y="144792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040" y="399528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13720" y="399528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21A61A-AD2F-40D7-8E43-DA75D76C7A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257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19440" y="1447920"/>
            <a:ext cx="257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24840" y="1447920"/>
            <a:ext cx="257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040" y="3995280"/>
            <a:ext cx="257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19440" y="3995280"/>
            <a:ext cx="257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24840" y="3995280"/>
            <a:ext cx="257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9544AE-15CA-46D8-BB91-C921135298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1D96B5-8039-44B1-9136-47D69353A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040" y="1447920"/>
            <a:ext cx="80010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31287D-8DD8-4503-91BF-647DBCAE1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001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E560E2-F26B-484E-A037-4F790FF7E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04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13720" y="1447920"/>
            <a:ext cx="3904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EAE7CB-3060-47E7-8A3B-F5A6E27B4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5501EA-80A8-4A70-B348-FFE770734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90360" y="1519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0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C33591-3336-4B81-8FD6-7CE7FDA44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3720" y="1447920"/>
            <a:ext cx="3904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040" y="399528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A984B2-C6D7-4770-9C11-D05BCA783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040" y="1447920"/>
            <a:ext cx="80010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8B1E42-696D-4378-8AAD-F0CA72E301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04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13720" y="144792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013720" y="399528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C1A973-C94F-49FB-B975-D3ACB7C92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13720" y="144792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040" y="3995280"/>
            <a:ext cx="8001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FEB882-0FE1-4D01-AE0D-7839E61FC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001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040" y="3995280"/>
            <a:ext cx="8001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D828AF-AFC5-4605-AA4A-27DAF588E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13720" y="144792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040" y="399528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013720" y="399528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E163C7-4AEE-488B-8EAF-C0259F7B0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257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19440" y="1447920"/>
            <a:ext cx="257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324840" y="1447920"/>
            <a:ext cx="257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040" y="3995280"/>
            <a:ext cx="257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19440" y="3995280"/>
            <a:ext cx="257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324840" y="3995280"/>
            <a:ext cx="257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C25F11-9D4F-4744-A943-20A28B57C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001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667D57-46F8-461D-A296-C2E4969DCF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04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13720" y="1447920"/>
            <a:ext cx="3904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C394A9-FB69-438E-AE3E-08BCF6B2BF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531C2C-D14A-48CC-9E5E-3258A77EE0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90360" y="1519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0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5B17C7-249F-4E09-8B6B-6C1013BF79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1447920"/>
            <a:ext cx="3904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040" y="399528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62629F-4109-4A8A-9206-E5D2292BE5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04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13720" y="144792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13720" y="399528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C3DAEE-E133-4A4E-A41F-FB1C164343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13720" y="144792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040" y="3995280"/>
            <a:ext cx="8001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570C4A-E6EE-431A-AC28-A8D6A1D8AA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838080" cy="6858000"/>
          </a:xfrm>
          <a:prstGeom prst="rect">
            <a:avLst/>
          </a:prstGeom>
          <a:solidFill>
            <a:srgbClr val="2535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0"/>
            <a:ext cx="2514600" cy="1676520"/>
          </a:xfrm>
          <a:prstGeom prst="rect">
            <a:avLst/>
          </a:prstGeom>
          <a:solidFill>
            <a:srgbClr val="2535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38080" y="1371600"/>
            <a:ext cx="5105520" cy="6094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b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914040" y="1447920"/>
            <a:ext cx="8001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eb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6248160" y="6550560"/>
            <a:ext cx="28191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82b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82be"/>
                </a:solidFill>
                <a:latin typeface="Arial"/>
              </a:rPr>
              <a:t>Tomas Akenine-M</a:t>
            </a:r>
            <a:r>
              <a:rPr b="0" lang="en-US" sz="1400" spc="-1" strike="noStrike">
                <a:solidFill>
                  <a:srgbClr val="5a82be"/>
                </a:solidFill>
                <a:latin typeface="Arial"/>
                <a:ea typeface="Arial"/>
              </a:rPr>
              <a:t>ő</a:t>
            </a:r>
            <a:r>
              <a:rPr b="0" lang="en-US" sz="1400" spc="-1" strike="noStrike">
                <a:solidFill>
                  <a:srgbClr val="5a82be"/>
                </a:solidFill>
                <a:latin typeface="Arial"/>
              </a:rPr>
              <a:t>ller </a:t>
            </a:r>
            <a:r>
              <a:rPr b="0" lang="en-US" sz="1400" spc="-1" strike="noStrike">
                <a:solidFill>
                  <a:srgbClr val="5a82be"/>
                </a:solidFill>
                <a:latin typeface="Arial"/>
                <a:ea typeface="Arial"/>
              </a:rPr>
              <a:t>©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33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3C774-8F18-4CAE-9D92-3CD2B6C6690B}" type="slidenum">
              <a:rPr b="1" lang="en-US" sz="2600" spc="-1" strike="noStrike">
                <a:solidFill>
                  <a:srgbClr val="336699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2535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46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dt" idx="3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ftr" idx="4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e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eb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5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33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D0E94-40F7-4B7D-A1B0-3C63EBC22623}" type="slidenum">
              <a:rPr b="1" lang="en-US" sz="2600" spc="-1" strike="noStrike">
                <a:solidFill>
                  <a:srgbClr val="336699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eb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b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0b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eb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eb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eb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eb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ffeb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eb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eb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eb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eb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eb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eb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eb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99"/>
                </a:solidFill>
                <a:latin typeface="Arial"/>
              </a:rPr>
              <a:t>Shadows and Reflections             in Real Time</a:t>
            </a: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673520" y="3428640"/>
            <a:ext cx="44704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0b"/>
                </a:solidFill>
                <a:latin typeface="Arial"/>
              </a:rPr>
              <a:t>Tomas Akenine-Möller</a:t>
            </a:r>
            <a:endParaRPr b="0" lang="en-US" sz="2000" spc="-1" strike="noStrike">
              <a:solidFill>
                <a:srgbClr val="ffff0b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0b"/>
                </a:solidFill>
                <a:latin typeface="Arial"/>
              </a:rPr>
              <a:t>Department of Computer Engineering</a:t>
            </a:r>
            <a:endParaRPr b="0" lang="en-US" sz="2000" spc="-1" strike="noStrike">
              <a:solidFill>
                <a:srgbClr val="ffff0b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0b"/>
                </a:solidFill>
                <a:latin typeface="Arial"/>
              </a:rPr>
              <a:t>Chalmers University of Technology</a:t>
            </a:r>
            <a:endParaRPr b="0" lang="en-US" sz="2000" spc="-1" strike="noStrike">
              <a:solidFill>
                <a:srgbClr val="ffff0b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37000" y="6172200"/>
            <a:ext cx="518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eb"/>
                </a:solidFill>
                <a:latin typeface="Arial"/>
              </a:rPr>
              <a:t>Slides co-developed with Eric Haines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ffff9b"/>
                </a:solidFill>
                <a:latin typeface="Arial"/>
              </a:rPr>
              <a:t>Two major algorithms that can render shadows onto arbitrary geometry</a:t>
            </a:r>
            <a:endParaRPr b="1" lang="en-US" sz="32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4040" y="129492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Shadow mapping and shadow volumes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ffffeb"/>
                </a:solidFill>
                <a:latin typeface="Arial"/>
              </a:rPr>
              <a:t>Focus on shadow volumes, because currently most popular, and works on most hardware</a:t>
            </a:r>
            <a:endParaRPr b="0" lang="en-US" sz="26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Works in real time…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Shadow mapping is used in Pixar’s rendering software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Render from light’s                                        view (white is far                                      and black is near)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5181480" y="3867120"/>
            <a:ext cx="3962520" cy="29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990720" y="15228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b"/>
                </a:solidFill>
                <a:latin typeface="Arial"/>
              </a:rPr>
              <a:t>Using the Shadow Map</a:t>
            </a:r>
            <a:endParaRPr b="0" lang="en-US" sz="36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1447920"/>
            <a:ext cx="800100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When scene is viewed, check viewed location in light's shadow buffer</a:t>
            </a:r>
            <a:endParaRPr b="0" lang="en-US" sz="3200" spc="-1" strike="noStrike">
              <a:solidFill>
                <a:srgbClr val="ffffeb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eb"/>
                </a:solidFill>
                <a:latin typeface="Arial"/>
              </a:rPr>
              <a:t>If point's depth is (epsilon) greater than shadow depth, object is in shadow.</a:t>
            </a:r>
            <a:endParaRPr b="0" lang="en-US" sz="26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3886200"/>
            <a:ext cx="228600" cy="228600"/>
          </a:xfrm>
          <a:prstGeom prst="irregularSeal1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2666880" y="5715000"/>
            <a:ext cx="685800" cy="457200"/>
            <a:chOff x="2666880" y="5715000"/>
            <a:chExt cx="685800" cy="457200"/>
          </a:xfrm>
        </p:grpSpPr>
        <p:grpSp>
          <p:nvGrpSpPr>
            <p:cNvPr id="179" name=""/>
            <p:cNvGrpSpPr/>
            <p:nvPr/>
          </p:nvGrpSpPr>
          <p:grpSpPr>
            <a:xfrm>
              <a:off x="2666880" y="5715000"/>
              <a:ext cx="685800" cy="457200"/>
              <a:chOff x="2666880" y="5715000"/>
              <a:chExt cx="685800" cy="457200"/>
            </a:xfrm>
          </p:grpSpPr>
          <p:sp>
            <p:nvSpPr>
              <p:cNvPr id="180" name=""/>
              <p:cNvSpPr/>
              <p:nvPr/>
            </p:nvSpPr>
            <p:spPr>
              <a:xfrm flipH="1">
                <a:off x="2666880" y="5715000"/>
                <a:ext cx="514080" cy="457200"/>
              </a:xfrm>
              <a:prstGeom prst="line">
                <a:avLst/>
              </a:prstGeom>
              <a:ln w="255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flipV="1">
                <a:off x="2666880" y="5969160"/>
                <a:ext cx="685800" cy="203040"/>
              </a:xfrm>
              <a:prstGeom prst="line">
                <a:avLst/>
              </a:prstGeom>
              <a:ln w="255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</p:grpSp>
        <p:sp>
          <p:nvSpPr>
            <p:cNvPr id="182" name=""/>
            <p:cNvSpPr/>
            <p:nvPr/>
          </p:nvSpPr>
          <p:spPr>
            <a:xfrm>
              <a:off x="3095640" y="5797800"/>
              <a:ext cx="182160" cy="200880"/>
            </a:xfrm>
            <a:custGeom>
              <a:avLst/>
              <a:gdLst/>
              <a:ahLst/>
              <a:rect l="l" t="t" r="r" b="b"/>
              <a:pathLst>
                <a:path w="408" h="464">
                  <a:moveTo>
                    <a:pt x="0" y="0"/>
                  </a:moveTo>
                  <a:cubicBezTo>
                    <a:pt x="88" y="4"/>
                    <a:pt x="176" y="8"/>
                    <a:pt x="240" y="48"/>
                  </a:cubicBezTo>
                  <a:cubicBezTo>
                    <a:pt x="304" y="88"/>
                    <a:pt x="360" y="176"/>
                    <a:pt x="384" y="240"/>
                  </a:cubicBezTo>
                  <a:cubicBezTo>
                    <a:pt x="408" y="304"/>
                    <a:pt x="384" y="464"/>
                    <a:pt x="384" y="432"/>
                  </a:cubicBezTo>
                </a:path>
              </a:pathLst>
            </a:custGeom>
            <a:noFill/>
            <a:ln w="28440">
              <a:solidFill>
                <a:srgbClr val="8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rot="19946400">
              <a:off x="3181320" y="5818320"/>
              <a:ext cx="64080" cy="145440"/>
            </a:xfrm>
            <a:prstGeom prst="ellipse">
              <a:avLst/>
            </a:prstGeom>
            <a:solidFill>
              <a:srgbClr val="2535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4800600" y="4800600"/>
            <a:ext cx="838080" cy="1371600"/>
          </a:xfrm>
          <a:prstGeom prst="line">
            <a:avLst/>
          </a:prstGeom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800600" y="3505320"/>
            <a:ext cx="0" cy="1295280"/>
          </a:xfrm>
          <a:prstGeom prst="line">
            <a:avLst/>
          </a:prstGeom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276720" y="4952880"/>
            <a:ext cx="1600200" cy="914400"/>
          </a:xfrm>
          <a:prstGeom prst="line">
            <a:avLst/>
          </a:prstGeom>
          <a:ln w="19080">
            <a:solidFill>
              <a:srgbClr val="00cc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286000" y="3505320"/>
            <a:ext cx="0" cy="1143000"/>
          </a:xfrm>
          <a:prstGeom prst="line">
            <a:avLst/>
          </a:prstGeom>
          <a:ln w="10152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523880" y="3962520"/>
            <a:ext cx="2438640" cy="152280"/>
          </a:xfrm>
          <a:prstGeom prst="line">
            <a:avLst/>
          </a:prstGeom>
          <a:ln w="936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523880" y="4038480"/>
            <a:ext cx="1828800" cy="762120"/>
          </a:xfrm>
          <a:prstGeom prst="line">
            <a:avLst/>
          </a:prstGeom>
          <a:ln w="936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992880" y="4570560"/>
            <a:ext cx="16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Arial"/>
              </a:rPr>
              <a:t>shadow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Arial"/>
              </a:rPr>
              <a:t>depth map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523880" y="4038480"/>
            <a:ext cx="4114800" cy="2133720"/>
          </a:xfrm>
          <a:prstGeom prst="line">
            <a:avLst/>
          </a:prstGeom>
          <a:ln w="936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1523880" y="3505320"/>
            <a:ext cx="3276720" cy="457200"/>
          </a:xfrm>
          <a:prstGeom prst="line">
            <a:avLst/>
          </a:prstGeom>
          <a:ln w="936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286000" y="3854520"/>
            <a:ext cx="0" cy="183960"/>
          </a:xfrm>
          <a:prstGeom prst="line">
            <a:avLst/>
          </a:prstGeom>
          <a:ln w="25560">
            <a:solidFill>
              <a:srgbClr val="00008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286000" y="4343400"/>
            <a:ext cx="0" cy="88920"/>
          </a:xfrm>
          <a:prstGeom prst="line">
            <a:avLst/>
          </a:prstGeom>
          <a:ln w="25560">
            <a:solidFill>
              <a:srgbClr val="00008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 flipV="1">
            <a:off x="1510920" y="3981600"/>
            <a:ext cx="3365640" cy="97128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3352680" y="4114800"/>
            <a:ext cx="609840" cy="685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4038480"/>
            <a:ext cx="0" cy="304920"/>
          </a:xfrm>
          <a:prstGeom prst="line">
            <a:avLst/>
          </a:prstGeom>
          <a:ln w="25560">
            <a:solidFill>
              <a:srgbClr val="ff0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260680" y="3884040"/>
            <a:ext cx="3449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Arial"/>
              </a:rPr>
              <a:t>For each pixel, compare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Arial"/>
              </a:rPr>
              <a:t>distance to light     with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Arial"/>
              </a:rPr>
              <a:t>the depth     stored in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Arial"/>
              </a:rPr>
              <a:t>the shadow map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2169360" y="4119480"/>
            <a:ext cx="222120" cy="19224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 flipV="1">
            <a:off x="6956280" y="4760280"/>
            <a:ext cx="222480" cy="19188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4780800" y="4862520"/>
            <a:ext cx="222120" cy="192240"/>
          </a:xfrm>
          <a:prstGeom prst="star5">
            <a:avLst/>
          </a:prstGeom>
          <a:solidFill>
            <a:srgbClr val="cc99ff"/>
          </a:solidFill>
          <a:ln w="936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 flipV="1">
            <a:off x="7688160" y="4368240"/>
            <a:ext cx="222480" cy="191880"/>
          </a:xfrm>
          <a:prstGeom prst="star5">
            <a:avLst/>
          </a:prstGeom>
          <a:solidFill>
            <a:srgbClr val="cc99ff"/>
          </a:solidFill>
          <a:ln w="936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3444120" y="4467240"/>
            <a:ext cx="222120" cy="19224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990720" y="15228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b"/>
                </a:solidFill>
                <a:latin typeface="Arial"/>
              </a:rPr>
              <a:t>The Result</a:t>
            </a:r>
            <a:endParaRPr b="0" lang="en-US" sz="3600" spc="-1" strike="noStrike">
              <a:solidFill>
                <a:srgbClr val="ffffeb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1981080" y="1486080"/>
            <a:ext cx="6172200" cy="46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Shadow volumes</a:t>
            </a:r>
            <a:br>
              <a:rPr sz="3600"/>
            </a:b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Most popular method for real time</a:t>
            </a: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352680" y="4114800"/>
            <a:ext cx="609840" cy="685800"/>
          </a:xfrm>
          <a:custGeom>
            <a:avLst/>
            <a:gdLst/>
            <a:ahLst/>
            <a:rect l="l" t="t" r="r" b="b"/>
            <a:pathLst>
              <a:path w="384" h="432">
                <a:moveTo>
                  <a:pt x="0" y="144"/>
                </a:moveTo>
                <a:lnTo>
                  <a:pt x="384" y="0"/>
                </a:lnTo>
                <a:lnTo>
                  <a:pt x="0" y="432"/>
                </a:lnTo>
                <a:lnTo>
                  <a:pt x="0" y="144"/>
                </a:lnTo>
                <a:close/>
              </a:path>
            </a:pathLst>
          </a:custGeom>
          <a:solidFill>
            <a:srgbClr val="2535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914400" y="1447920"/>
            <a:ext cx="80010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Shadow volume concept</a:t>
            </a:r>
            <a:endParaRPr b="0" lang="en-US" sz="3200" spc="-1" strike="noStrike">
              <a:solidFill>
                <a:srgbClr val="ffffeb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Create volumes of space in shadow from each polygon in light.</a:t>
            </a:r>
            <a:endParaRPr b="0" lang="en-US" sz="3200" spc="-1" strike="noStrike">
              <a:solidFill>
                <a:srgbClr val="ffffeb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Each triangle creates 3 projecting quads</a:t>
            </a:r>
            <a:endParaRPr b="0" lang="en-US" sz="32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3352680" y="4114800"/>
            <a:ext cx="609840" cy="68580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4038480"/>
            <a:ext cx="1752480" cy="762120"/>
          </a:xfrm>
          <a:prstGeom prst="line">
            <a:avLst/>
          </a:prstGeom>
          <a:ln w="1908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4038480"/>
            <a:ext cx="2362320" cy="76320"/>
          </a:xfrm>
          <a:prstGeom prst="line">
            <a:avLst/>
          </a:prstGeom>
          <a:ln w="1908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352680" y="4800600"/>
            <a:ext cx="3048120" cy="1295280"/>
          </a:xfrm>
          <a:prstGeom prst="line">
            <a:avLst/>
          </a:prstGeom>
          <a:ln w="1908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962520" y="4114800"/>
            <a:ext cx="4114800" cy="0"/>
          </a:xfrm>
          <a:prstGeom prst="line">
            <a:avLst/>
          </a:prstGeom>
          <a:ln w="1908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3352680" y="4343400"/>
            <a:ext cx="0" cy="45720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352680" y="4114440"/>
            <a:ext cx="609840" cy="22860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600200" y="4038480"/>
            <a:ext cx="1752480" cy="304920"/>
          </a:xfrm>
          <a:prstGeom prst="line">
            <a:avLst/>
          </a:prstGeom>
          <a:ln w="1908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52680" y="4343400"/>
            <a:ext cx="4114800" cy="685800"/>
          </a:xfrm>
          <a:prstGeom prst="line">
            <a:avLst/>
          </a:prstGeom>
          <a:ln w="1908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506600" y="3932280"/>
            <a:ext cx="228600" cy="228600"/>
          </a:xfrm>
          <a:prstGeom prst="irregularSeal1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990720" y="15228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b"/>
                </a:solidFill>
                <a:latin typeface="Arial"/>
              </a:rPr>
              <a:t>Using the Volume</a:t>
            </a:r>
            <a:endParaRPr b="0" lang="en-US" sz="36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14400" y="1447920"/>
            <a:ext cx="80010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To test a point, count the number of polygons between it and the eye.</a:t>
            </a:r>
            <a:endParaRPr b="0" lang="en-US" sz="3200" spc="-1" strike="noStrike">
              <a:solidFill>
                <a:srgbClr val="ffffeb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If we look through more frontfacing than backfacing polygons, then in shadow.</a:t>
            </a:r>
            <a:endParaRPr b="0" lang="en-US" sz="32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3352680" y="4114800"/>
            <a:ext cx="609840" cy="68580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600200" y="4038480"/>
            <a:ext cx="1752480" cy="762120"/>
          </a:xfrm>
          <a:prstGeom prst="line">
            <a:avLst/>
          </a:prstGeom>
          <a:ln w="1908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600200" y="4038480"/>
            <a:ext cx="2362320" cy="76320"/>
          </a:xfrm>
          <a:prstGeom prst="line">
            <a:avLst/>
          </a:prstGeom>
          <a:ln w="1908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352680" y="4800600"/>
            <a:ext cx="3048120" cy="1295280"/>
          </a:xfrm>
          <a:prstGeom prst="line">
            <a:avLst/>
          </a:prstGeom>
          <a:ln w="1908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114800"/>
            <a:ext cx="4114800" cy="0"/>
          </a:xfrm>
          <a:prstGeom prst="line">
            <a:avLst/>
          </a:prstGeom>
          <a:ln w="1908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2666880" y="5715000"/>
            <a:ext cx="685800" cy="457200"/>
            <a:chOff x="2666880" y="5715000"/>
            <a:chExt cx="685800" cy="457200"/>
          </a:xfrm>
        </p:grpSpPr>
        <p:grpSp>
          <p:nvGrpSpPr>
            <p:cNvPr id="227" name=""/>
            <p:cNvGrpSpPr/>
            <p:nvPr/>
          </p:nvGrpSpPr>
          <p:grpSpPr>
            <a:xfrm>
              <a:off x="2666880" y="5715000"/>
              <a:ext cx="685800" cy="457200"/>
              <a:chOff x="2666880" y="5715000"/>
              <a:chExt cx="685800" cy="457200"/>
            </a:xfrm>
          </p:grpSpPr>
          <p:sp>
            <p:nvSpPr>
              <p:cNvPr id="228" name=""/>
              <p:cNvSpPr/>
              <p:nvPr/>
            </p:nvSpPr>
            <p:spPr>
              <a:xfrm flipH="1">
                <a:off x="2666880" y="5715000"/>
                <a:ext cx="514080" cy="457200"/>
              </a:xfrm>
              <a:prstGeom prst="line">
                <a:avLst/>
              </a:prstGeom>
              <a:ln w="255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flipV="1">
                <a:off x="2666880" y="5969160"/>
                <a:ext cx="685800" cy="203040"/>
              </a:xfrm>
              <a:prstGeom prst="line">
                <a:avLst/>
              </a:prstGeom>
              <a:ln w="255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</p:grpSp>
        <p:sp>
          <p:nvSpPr>
            <p:cNvPr id="230" name=""/>
            <p:cNvSpPr/>
            <p:nvPr/>
          </p:nvSpPr>
          <p:spPr>
            <a:xfrm>
              <a:off x="3095640" y="5797800"/>
              <a:ext cx="182160" cy="200880"/>
            </a:xfrm>
            <a:custGeom>
              <a:avLst/>
              <a:gdLst/>
              <a:ahLst/>
              <a:rect l="l" t="t" r="r" b="b"/>
              <a:pathLst>
                <a:path w="408" h="464">
                  <a:moveTo>
                    <a:pt x="0" y="0"/>
                  </a:moveTo>
                  <a:cubicBezTo>
                    <a:pt x="88" y="4"/>
                    <a:pt x="176" y="8"/>
                    <a:pt x="240" y="48"/>
                  </a:cubicBezTo>
                  <a:cubicBezTo>
                    <a:pt x="304" y="88"/>
                    <a:pt x="360" y="176"/>
                    <a:pt x="384" y="240"/>
                  </a:cubicBezTo>
                  <a:cubicBezTo>
                    <a:pt x="408" y="304"/>
                    <a:pt x="384" y="464"/>
                    <a:pt x="384" y="432"/>
                  </a:cubicBezTo>
                </a:path>
              </a:pathLst>
            </a:custGeom>
            <a:noFill/>
            <a:ln w="28440">
              <a:solidFill>
                <a:srgbClr val="8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rot="19946400">
              <a:off x="3181320" y="5818320"/>
              <a:ext cx="64080" cy="145440"/>
            </a:xfrm>
            <a:prstGeom prst="ellipse">
              <a:avLst/>
            </a:prstGeom>
            <a:solidFill>
              <a:srgbClr val="2535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4800600" y="4800600"/>
            <a:ext cx="838080" cy="137160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800600" y="3505320"/>
            <a:ext cx="0" cy="129528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3276720" y="3809520"/>
            <a:ext cx="1523880" cy="2057400"/>
          </a:xfrm>
          <a:prstGeom prst="line">
            <a:avLst/>
          </a:prstGeom>
          <a:ln w="19080">
            <a:solidFill>
              <a:srgbClr val="ffff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3276720" y="4952880"/>
            <a:ext cx="1600200" cy="914400"/>
          </a:xfrm>
          <a:prstGeom prst="line">
            <a:avLst/>
          </a:prstGeom>
          <a:ln w="19080">
            <a:solidFill>
              <a:srgbClr val="ffff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276720" y="5867280"/>
            <a:ext cx="2209680" cy="76320"/>
          </a:xfrm>
          <a:prstGeom prst="line">
            <a:avLst/>
          </a:prstGeom>
          <a:ln w="19080">
            <a:solidFill>
              <a:srgbClr val="ffff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986800" y="556164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rontfacing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970600" y="3732840"/>
            <a:ext cx="163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backfacing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5943600" y="3733920"/>
            <a:ext cx="0" cy="38088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5867280" y="5943600"/>
            <a:ext cx="152640" cy="30492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495680" y="4038480"/>
            <a:ext cx="152640" cy="152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22840" y="495288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299120" y="516240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06600" y="3932280"/>
            <a:ext cx="228600" cy="228600"/>
          </a:xfrm>
          <a:prstGeom prst="irregularSeal1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Shadow volume algorithm uses stencil buffer</a:t>
            </a: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14040" y="129492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Stencil what?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Is just another buffer (often 8 bits per pixel)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When rendering to it, we can add, subtract, etc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Then, the resulting image can be used to mask off subsequent rendering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-76680" y="5257800"/>
            <a:ext cx="2743560" cy="1523880"/>
            <a:chOff x="-76680" y="5257800"/>
            <a:chExt cx="2743560" cy="1523880"/>
          </a:xfrm>
        </p:grpSpPr>
        <p:sp>
          <p:nvSpPr>
            <p:cNvPr id="248" name=""/>
            <p:cNvSpPr/>
            <p:nvPr/>
          </p:nvSpPr>
          <p:spPr>
            <a:xfrm>
              <a:off x="914400" y="5257800"/>
              <a:ext cx="1752480" cy="1523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-76680" y="5451480"/>
              <a:ext cx="10296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400" spc="-1" strike="noStrike">
                  <a:solidFill>
                    <a:srgbClr val="ffffeb"/>
                  </a:solidFill>
                  <a:latin typeface="Times New Roman"/>
                </a:rPr>
                <a:t>Stencil</a:t>
              </a: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400" spc="-1" strike="noStrike">
                  <a:solidFill>
                    <a:srgbClr val="ffffeb"/>
                  </a:solidFill>
                  <a:latin typeface="Times New Roman"/>
                </a:rPr>
                <a:t>Buffer</a:t>
              </a: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400" spc="-1" strike="noStrike">
                  <a:solidFill>
                    <a:srgbClr val="ffffeb"/>
                  </a:solidFill>
                  <a:latin typeface="Times New Roman"/>
                </a:rPr>
                <a:t>Mask</a:t>
              </a: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243080" y="5257800"/>
              <a:ext cx="1143000" cy="1447920"/>
            </a:xfrm>
            <a:prstGeom prst="upArrow">
              <a:avLst>
                <a:gd name="adj1" fmla="val 50000"/>
                <a:gd name="adj2" fmla="val 31669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6781680" y="5257800"/>
            <a:ext cx="2286000" cy="1531800"/>
            <a:chOff x="6781680" y="5257800"/>
            <a:chExt cx="2286000" cy="1531800"/>
          </a:xfrm>
        </p:grpSpPr>
        <p:sp>
          <p:nvSpPr>
            <p:cNvPr id="252" name=""/>
            <p:cNvSpPr/>
            <p:nvPr/>
          </p:nvSpPr>
          <p:spPr>
            <a:xfrm>
              <a:off x="7315200" y="5257800"/>
              <a:ext cx="1752480" cy="1523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pic>
          <p:nvPicPr>
            <p:cNvPr id="253" name="" descr=""/>
            <p:cNvPicPr/>
            <p:nvPr/>
          </p:nvPicPr>
          <p:blipFill>
            <a:blip r:embed="rId1"/>
            <a:stretch/>
          </p:blipFill>
          <p:spPr>
            <a:xfrm>
              <a:off x="7391520" y="5257800"/>
              <a:ext cx="1676160" cy="153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"/>
            <p:cNvSpPr/>
            <p:nvPr/>
          </p:nvSpPr>
          <p:spPr>
            <a:xfrm flipV="1">
              <a:off x="7315200" y="5257800"/>
              <a:ext cx="838080" cy="533520"/>
            </a:xfrm>
            <a:prstGeom prst="rtTriangl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315200" y="5638680"/>
              <a:ext cx="609480" cy="11430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458200" y="5638680"/>
              <a:ext cx="609480" cy="11430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 flipV="1">
              <a:off x="8153280" y="5257800"/>
              <a:ext cx="914400" cy="533520"/>
            </a:xfrm>
            <a:prstGeom prst="rtTriangl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rot="16200000">
              <a:off x="6581160" y="5762880"/>
              <a:ext cx="86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400" spc="-1" strike="noStrike">
                  <a:solidFill>
                    <a:srgbClr val="ffffeb"/>
                  </a:solidFill>
                  <a:latin typeface="Times New Roman"/>
                </a:rPr>
                <a:t>result</a:t>
              </a: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sp>
        <p:nvSpPr>
          <p:cNvPr id="259" name=""/>
          <p:cNvSpPr/>
          <p:nvPr/>
        </p:nvSpPr>
        <p:spPr>
          <a:xfrm>
            <a:off x="6095880" y="5943600"/>
            <a:ext cx="762120" cy="0"/>
          </a:xfrm>
          <a:prstGeom prst="line">
            <a:avLst/>
          </a:prstGeom>
          <a:ln w="7632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2764440" y="5257800"/>
            <a:ext cx="3026880" cy="1531800"/>
            <a:chOff x="2764440" y="5257800"/>
            <a:chExt cx="3026880" cy="1531800"/>
          </a:xfrm>
        </p:grpSpPr>
        <p:sp>
          <p:nvSpPr>
            <p:cNvPr id="261" name=""/>
            <p:cNvSpPr/>
            <p:nvPr/>
          </p:nvSpPr>
          <p:spPr>
            <a:xfrm>
              <a:off x="4038480" y="5257800"/>
              <a:ext cx="1752840" cy="1523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pic>
          <p:nvPicPr>
            <p:cNvPr id="262" name="" descr=""/>
            <p:cNvPicPr/>
            <p:nvPr/>
          </p:nvPicPr>
          <p:blipFill>
            <a:blip r:embed="rId2"/>
            <a:stretch/>
          </p:blipFill>
          <p:spPr>
            <a:xfrm>
              <a:off x="4114800" y="5257800"/>
              <a:ext cx="1676520" cy="153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>
              <a:off x="2764440" y="5527800"/>
              <a:ext cx="1349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400" spc="-1" strike="noStrike">
                  <a:solidFill>
                    <a:srgbClr val="ffffeb"/>
                  </a:solidFill>
                  <a:latin typeface="Times New Roman"/>
                </a:rPr>
                <a:t>Rendered</a:t>
              </a: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400" spc="-1" strike="noStrike">
                  <a:solidFill>
                    <a:srgbClr val="ffffeb"/>
                  </a:solidFill>
                  <a:latin typeface="Times New Roman"/>
                </a:rPr>
                <a:t>image</a:t>
              </a: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990720" y="15228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b"/>
                </a:solidFill>
                <a:latin typeface="Arial"/>
              </a:rPr>
              <a:t>How to implement shadow volumes with stencil buffer</a:t>
            </a:r>
            <a:endParaRPr b="0" lang="en-US" sz="36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914400" y="1447920"/>
            <a:ext cx="807732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A four pass process [Heidmann91]:</a:t>
            </a:r>
            <a:endParaRPr b="0" lang="en-US" sz="3200" spc="-1" strike="noStrike">
              <a:solidFill>
                <a:srgbClr val="ffffeb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eb"/>
                </a:solidFill>
                <a:latin typeface="Arial"/>
              </a:rPr>
              <a:t>1st Pass</a:t>
            </a:r>
            <a:r>
              <a:rPr b="0" lang="en-US" sz="2600" spc="-1" strike="noStrike">
                <a:solidFill>
                  <a:srgbClr val="ffffeb"/>
                </a:solidFill>
                <a:latin typeface="Arial"/>
              </a:rPr>
              <a:t>: render the scene with just ambient    lighting.</a:t>
            </a:r>
            <a:endParaRPr b="0" lang="en-US" sz="2600" spc="-1" strike="noStrike">
              <a:solidFill>
                <a:srgbClr val="ffffeb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eb"/>
                </a:solidFill>
                <a:latin typeface="Arial"/>
              </a:rPr>
              <a:t>Turn off updating Z-buffer and writing to color buffer (i.e. Z-compare, draw  to stencil only).</a:t>
            </a:r>
            <a:endParaRPr b="0" lang="en-US" sz="2600" spc="-1" strike="noStrike">
              <a:solidFill>
                <a:srgbClr val="ffffeb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eb"/>
                </a:solidFill>
                <a:latin typeface="Arial"/>
              </a:rPr>
              <a:t>2nd pass</a:t>
            </a:r>
            <a:r>
              <a:rPr b="0" lang="en-US" sz="2600" spc="-1" strike="noStrike">
                <a:solidFill>
                  <a:srgbClr val="ffffeb"/>
                </a:solidFill>
                <a:latin typeface="Arial"/>
              </a:rPr>
              <a:t>: render front facing shadow volume polygons to stencil buffer, incrementing count.</a:t>
            </a:r>
            <a:endParaRPr b="0" lang="en-US" sz="2600" spc="-1" strike="noStrike">
              <a:solidFill>
                <a:srgbClr val="ffffeb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eb"/>
                </a:solidFill>
                <a:latin typeface="Arial"/>
              </a:rPr>
              <a:t>3rd pass</a:t>
            </a:r>
            <a:r>
              <a:rPr b="0" lang="en-US" sz="2600" spc="-1" strike="noStrike">
                <a:solidFill>
                  <a:srgbClr val="ffffeb"/>
                </a:solidFill>
                <a:latin typeface="Arial"/>
              </a:rPr>
              <a:t>: render backfacing shadow volume polygons to stencil, decrementing.</a:t>
            </a:r>
            <a:endParaRPr b="0" lang="en-US" sz="2600" spc="-1" strike="noStrike">
              <a:solidFill>
                <a:srgbClr val="ffffeb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eb"/>
                </a:solidFill>
                <a:latin typeface="Arial"/>
              </a:rPr>
              <a:t>4th pass</a:t>
            </a:r>
            <a:r>
              <a:rPr b="0" lang="en-US" sz="2600" spc="-1" strike="noStrike">
                <a:solidFill>
                  <a:srgbClr val="ffffeb"/>
                </a:solidFill>
                <a:latin typeface="Arial"/>
              </a:rPr>
              <a:t>: render diffuse and specular where stencil buffer is 0.</a:t>
            </a:r>
            <a:endParaRPr b="0" lang="en-US" sz="2600" spc="-1" strike="noStrike">
              <a:solidFill>
                <a:srgbClr val="ffff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990720" y="15228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b"/>
                </a:solidFill>
                <a:latin typeface="Arial"/>
              </a:rPr>
              <a:t>Shadow Volume Example</a:t>
            </a:r>
            <a:endParaRPr b="0" lang="en-US" sz="36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910440" y="6400800"/>
            <a:ext cx="360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eb"/>
                </a:solidFill>
                <a:latin typeface="Arial"/>
              </a:rPr>
              <a:t>Image courtesy of NVIDIA Inc.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1752480" y="1539720"/>
            <a:ext cx="6324840" cy="47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1600200" y="4038480"/>
            <a:ext cx="2362320" cy="76320"/>
          </a:xfrm>
          <a:prstGeom prst="line">
            <a:avLst/>
          </a:prstGeom>
          <a:ln w="1908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352680" y="3657600"/>
            <a:ext cx="609840" cy="685800"/>
          </a:xfrm>
          <a:custGeom>
            <a:avLst/>
            <a:gdLst/>
            <a:ahLst/>
            <a:rect l="l" t="t" r="r" b="b"/>
            <a:pathLst>
              <a:path w="384" h="432">
                <a:moveTo>
                  <a:pt x="192" y="0"/>
                </a:moveTo>
                <a:lnTo>
                  <a:pt x="384" y="288"/>
                </a:lnTo>
                <a:lnTo>
                  <a:pt x="0" y="432"/>
                </a:lnTo>
                <a:lnTo>
                  <a:pt x="192" y="0"/>
                </a:lnTo>
                <a:close/>
              </a:path>
            </a:pathLst>
          </a:custGeom>
          <a:solidFill>
            <a:srgbClr val="25357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990720" y="15228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b"/>
                </a:solidFill>
                <a:latin typeface="Arial"/>
              </a:rPr>
              <a:t>Merging Volumes</a:t>
            </a:r>
            <a:endParaRPr b="0" lang="en-US" sz="36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14400" y="1447920"/>
            <a:ext cx="80010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Edge shared by two polygons facing the light creates front and backfacing quad.</a:t>
            </a:r>
            <a:endParaRPr b="0" lang="en-US" sz="32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4114800"/>
            <a:ext cx="609840" cy="685800"/>
          </a:xfrm>
          <a:custGeom>
            <a:avLst/>
            <a:gdLst/>
            <a:ahLst/>
            <a:rect l="l" t="t" r="r" b="b"/>
            <a:pathLst>
              <a:path w="384" h="432">
                <a:moveTo>
                  <a:pt x="0" y="144"/>
                </a:moveTo>
                <a:lnTo>
                  <a:pt x="384" y="0"/>
                </a:lnTo>
                <a:lnTo>
                  <a:pt x="0" y="432"/>
                </a:lnTo>
                <a:lnTo>
                  <a:pt x="0" y="144"/>
                </a:lnTo>
                <a:close/>
              </a:path>
            </a:pathLst>
          </a:custGeom>
          <a:solidFill>
            <a:srgbClr val="25357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3352680" y="4114800"/>
            <a:ext cx="609840" cy="68580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00200" y="4038480"/>
            <a:ext cx="1752480" cy="762120"/>
          </a:xfrm>
          <a:prstGeom prst="line">
            <a:avLst/>
          </a:prstGeom>
          <a:ln w="1908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4800600"/>
            <a:ext cx="3048120" cy="1295280"/>
          </a:xfrm>
          <a:prstGeom prst="line">
            <a:avLst/>
          </a:prstGeom>
          <a:ln w="1908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962520" y="4114800"/>
            <a:ext cx="4114800" cy="0"/>
          </a:xfrm>
          <a:prstGeom prst="line">
            <a:avLst/>
          </a:prstGeom>
          <a:ln w="1908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3352680" y="4343400"/>
            <a:ext cx="0" cy="45720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3352680" y="4114440"/>
            <a:ext cx="609840" cy="22860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600200" y="4038480"/>
            <a:ext cx="1752480" cy="304920"/>
          </a:xfrm>
          <a:prstGeom prst="line">
            <a:avLst/>
          </a:prstGeom>
          <a:ln w="1908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352680" y="4343400"/>
            <a:ext cx="4114800" cy="685800"/>
          </a:xfrm>
          <a:prstGeom prst="line">
            <a:avLst/>
          </a:prstGeom>
          <a:ln w="1908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3352320" y="3657600"/>
            <a:ext cx="304920" cy="68580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H="1" flipV="1">
            <a:off x="3657240" y="3657600"/>
            <a:ext cx="304920" cy="45720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1600200" y="3657600"/>
            <a:ext cx="2057400" cy="380880"/>
          </a:xfrm>
          <a:prstGeom prst="line">
            <a:avLst/>
          </a:prstGeom>
          <a:ln w="1908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506600" y="3932280"/>
            <a:ext cx="228600" cy="228600"/>
          </a:xfrm>
          <a:prstGeom prst="irregularSeal1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3657600" y="2971440"/>
            <a:ext cx="4114800" cy="685800"/>
          </a:xfrm>
          <a:prstGeom prst="line">
            <a:avLst/>
          </a:prstGeom>
          <a:ln w="1908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913680" y="5637240"/>
            <a:ext cx="399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Arial"/>
              </a:rPr>
              <a:t>This interior edge makes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Arial"/>
              </a:rPr>
              <a:t>two quads, which cancel out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4191120"/>
            <a:ext cx="304560" cy="1523880"/>
          </a:xfrm>
          <a:custGeom>
            <a:avLst/>
            <a:gdLst/>
            <a:ahLst/>
            <a:rect l="l" t="t" r="r" b="b"/>
            <a:pathLst>
              <a:path w="192" h="960">
                <a:moveTo>
                  <a:pt x="0" y="960"/>
                </a:moveTo>
                <a:cubicBezTo>
                  <a:pt x="96" y="752"/>
                  <a:pt x="192" y="544"/>
                  <a:pt x="192" y="384"/>
                </a:cubicBezTo>
                <a:cubicBezTo>
                  <a:pt x="192" y="224"/>
                  <a:pt x="96" y="88"/>
                  <a:pt x="0" y="0"/>
                </a:cubicBezTo>
              </a:path>
            </a:pathLst>
          </a:custGeom>
          <a:noFill/>
          <a:ln w="19080">
            <a:solidFill>
              <a:srgbClr val="ffffeb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990720" y="15228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b"/>
                </a:solidFill>
                <a:latin typeface="Arial"/>
              </a:rPr>
              <a:t>Silhouette Edges</a:t>
            </a:r>
            <a:endParaRPr b="0" lang="en-US" sz="36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219320" y="2666880"/>
            <a:ext cx="2666880" cy="2514600"/>
          </a:xfrm>
          <a:custGeom>
            <a:avLst/>
            <a:gdLst/>
            <a:ahLst/>
            <a:rect l="l" t="t" r="r" b="b"/>
            <a:pathLst>
              <a:path w="1680" h="1584">
                <a:moveTo>
                  <a:pt x="0" y="480"/>
                </a:moveTo>
                <a:lnTo>
                  <a:pt x="336" y="48"/>
                </a:lnTo>
                <a:lnTo>
                  <a:pt x="864" y="0"/>
                </a:lnTo>
                <a:lnTo>
                  <a:pt x="1344" y="192"/>
                </a:lnTo>
                <a:lnTo>
                  <a:pt x="1680" y="720"/>
                </a:lnTo>
                <a:lnTo>
                  <a:pt x="1536" y="1152"/>
                </a:lnTo>
                <a:lnTo>
                  <a:pt x="1200" y="1536"/>
                </a:lnTo>
                <a:lnTo>
                  <a:pt x="384" y="1584"/>
                </a:lnTo>
                <a:lnTo>
                  <a:pt x="96" y="1296"/>
                </a:lnTo>
                <a:lnTo>
                  <a:pt x="432" y="864"/>
                </a:lnTo>
                <a:lnTo>
                  <a:pt x="480" y="432"/>
                </a:lnTo>
                <a:lnTo>
                  <a:pt x="48" y="624"/>
                </a:lnTo>
                <a:lnTo>
                  <a:pt x="0" y="480"/>
                </a:lnTo>
                <a:close/>
              </a:path>
            </a:pathLst>
          </a:custGeom>
          <a:solidFill>
            <a:srgbClr val="25357e"/>
          </a:solidFill>
          <a:ln w="284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752480" y="2743200"/>
            <a:ext cx="228600" cy="60948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1219320" y="3352680"/>
            <a:ext cx="761760" cy="7632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2590920" y="2666880"/>
            <a:ext cx="0" cy="45720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H="1" flipV="1">
            <a:off x="2590920" y="3123720"/>
            <a:ext cx="304560" cy="68580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2362320" y="3124080"/>
            <a:ext cx="228600" cy="60984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362320" y="3733920"/>
            <a:ext cx="533160" cy="7596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H="1" flipV="1">
            <a:off x="2362320" y="3733560"/>
            <a:ext cx="304560" cy="60948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2209680" y="3733560"/>
            <a:ext cx="152640" cy="53316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V="1">
            <a:off x="1905120" y="4266720"/>
            <a:ext cx="304560" cy="38124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H="1" flipV="1">
            <a:off x="2209320" y="4267080"/>
            <a:ext cx="304920" cy="60984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2895120" y="3352680"/>
            <a:ext cx="304920" cy="45720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 flipV="1">
            <a:off x="2895480" y="3809880"/>
            <a:ext cx="533520" cy="15264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2666880" y="4267080"/>
            <a:ext cx="457200" cy="7632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 flipV="1">
            <a:off x="2666520" y="4343400"/>
            <a:ext cx="304920" cy="38088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1981080" y="3123720"/>
            <a:ext cx="609840" cy="22860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752480" y="2743200"/>
            <a:ext cx="838440" cy="38088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H="1" flipV="1">
            <a:off x="2590560" y="3123720"/>
            <a:ext cx="609480" cy="22860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3200400" y="2971800"/>
            <a:ext cx="152280" cy="38088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200400" y="3352680"/>
            <a:ext cx="685800" cy="45720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200400" y="3352680"/>
            <a:ext cx="228600" cy="60984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V="1">
            <a:off x="3429000" y="3809880"/>
            <a:ext cx="457200" cy="15264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429000" y="3962520"/>
            <a:ext cx="228600" cy="53316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V="1">
            <a:off x="2590920" y="2971440"/>
            <a:ext cx="761760" cy="15228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H="1" flipV="1">
            <a:off x="1980720" y="3352320"/>
            <a:ext cx="381240" cy="38124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H="1">
            <a:off x="1905120" y="3733920"/>
            <a:ext cx="457200" cy="30456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905120" y="4038480"/>
            <a:ext cx="304560" cy="22860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2514600" y="4267080"/>
            <a:ext cx="0" cy="609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1371600" y="4647960"/>
            <a:ext cx="533520" cy="7596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H="1">
            <a:off x="1828800" y="4648320"/>
            <a:ext cx="76320" cy="53316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514600" y="4267080"/>
            <a:ext cx="0" cy="609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905120" y="4648320"/>
            <a:ext cx="609480" cy="22860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1828440" y="4876920"/>
            <a:ext cx="685800" cy="30456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09680" y="4267080"/>
            <a:ext cx="457200" cy="7632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H="1">
            <a:off x="2514240" y="4343400"/>
            <a:ext cx="152280" cy="53352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 flipV="1">
            <a:off x="2514240" y="4876560"/>
            <a:ext cx="609480" cy="22860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2666520" y="3809880"/>
            <a:ext cx="228600" cy="53352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95480" y="3809880"/>
            <a:ext cx="228600" cy="45720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H="1">
            <a:off x="3123720" y="3962520"/>
            <a:ext cx="304920" cy="30456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 flipV="1">
            <a:off x="3124080" y="4266720"/>
            <a:ext cx="533520" cy="22860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H="1">
            <a:off x="2971440" y="4267080"/>
            <a:ext cx="152280" cy="45720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2971800" y="4495320"/>
            <a:ext cx="685800" cy="22860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971800" y="4724280"/>
            <a:ext cx="152280" cy="38124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V="1">
            <a:off x="2514600" y="4724280"/>
            <a:ext cx="457200" cy="15264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905120" y="4038480"/>
            <a:ext cx="0" cy="60984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562720" y="2666880"/>
            <a:ext cx="2666880" cy="2514600"/>
          </a:xfrm>
          <a:custGeom>
            <a:avLst/>
            <a:gdLst/>
            <a:ahLst/>
            <a:rect l="l" t="t" r="r" b="b"/>
            <a:pathLst>
              <a:path w="1680" h="1584">
                <a:moveTo>
                  <a:pt x="0" y="480"/>
                </a:moveTo>
                <a:lnTo>
                  <a:pt x="336" y="48"/>
                </a:lnTo>
                <a:lnTo>
                  <a:pt x="864" y="0"/>
                </a:lnTo>
                <a:lnTo>
                  <a:pt x="1344" y="192"/>
                </a:lnTo>
                <a:lnTo>
                  <a:pt x="1680" y="720"/>
                </a:lnTo>
                <a:lnTo>
                  <a:pt x="1536" y="1152"/>
                </a:lnTo>
                <a:lnTo>
                  <a:pt x="1200" y="1536"/>
                </a:lnTo>
                <a:lnTo>
                  <a:pt x="384" y="1584"/>
                </a:lnTo>
                <a:lnTo>
                  <a:pt x="96" y="1296"/>
                </a:lnTo>
                <a:lnTo>
                  <a:pt x="432" y="864"/>
                </a:lnTo>
                <a:lnTo>
                  <a:pt x="480" y="432"/>
                </a:lnTo>
                <a:lnTo>
                  <a:pt x="48" y="624"/>
                </a:lnTo>
                <a:lnTo>
                  <a:pt x="0" y="480"/>
                </a:lnTo>
                <a:close/>
              </a:path>
            </a:pathLst>
          </a:custGeom>
          <a:solidFill>
            <a:srgbClr val="25357e"/>
          </a:solidFill>
          <a:ln w="284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191120" y="3962520"/>
            <a:ext cx="1066680" cy="0"/>
          </a:xfrm>
          <a:prstGeom prst="line">
            <a:avLst/>
          </a:prstGeom>
          <a:ln w="44280">
            <a:solidFill>
              <a:srgbClr val="ffffe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990720" y="1523160"/>
            <a:ext cx="815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From the light’s view, caster interior edges do not contribute to the shadow volume.</a:t>
            </a:r>
            <a:endParaRPr b="0" lang="en-US" sz="32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988920" y="5333040"/>
            <a:ext cx="815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Finding the silhouette edge gets rid of many useless shadow volume polygons.</a:t>
            </a:r>
            <a:endParaRPr b="0" lang="en-US" sz="3200" spc="-1" strike="noStrike">
              <a:solidFill>
                <a:srgbClr val="ffff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Why shadows?</a:t>
            </a: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4040" y="129492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More realism and atmosphere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914400" y="1860480"/>
            <a:ext cx="6746760" cy="50608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748520" y="6477120"/>
            <a:ext cx="325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eb"/>
                </a:solidFill>
                <a:latin typeface="Arial"/>
              </a:rPr>
              <a:t>Image courtesy of BioWare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332320" y="5562720"/>
            <a:ext cx="23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eb"/>
                </a:solidFill>
                <a:latin typeface="Arial"/>
              </a:rPr>
              <a:t>Neverwinter Nights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Planar reflections</a:t>
            </a: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001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We’ve already done reflections in curved surfaces with environment mapping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Does not work for planar surfaces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Planar reflections are important, because they too give clues about spatial relationships and increases realism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Based on law of reflection: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lvl="1" marL="735480" indent="-282960">
              <a:spcBef>
                <a:spcPts val="649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ffffeb"/>
                </a:solidFill>
                <a:latin typeface="Arial"/>
              </a:rPr>
              <a:t>Incoming angle is equal to outgoing angle</a:t>
            </a:r>
            <a:endParaRPr b="0" lang="en-US" sz="26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3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Planar reflections</a:t>
            </a: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040" y="1447560"/>
            <a:ext cx="80010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Assume plane is z=0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Then apply </a:t>
            </a:r>
            <a:r>
              <a:rPr b="1" lang="sv-SE" sz="3200" spc="-1" strike="noStrike">
                <a:solidFill>
                  <a:srgbClr val="ffffeb"/>
                </a:solidFill>
                <a:latin typeface="Courier New"/>
              </a:rPr>
              <a:t>glScalef(1,1,-1);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Effect: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1137960" y="3062160"/>
            <a:ext cx="6329520" cy="1670040"/>
            <a:chOff x="1137960" y="3062160"/>
            <a:chExt cx="6329520" cy="1670040"/>
          </a:xfrm>
        </p:grpSpPr>
        <p:sp>
          <p:nvSpPr>
            <p:cNvPr id="344" name=""/>
            <p:cNvSpPr/>
            <p:nvPr/>
          </p:nvSpPr>
          <p:spPr>
            <a:xfrm>
              <a:off x="1676520" y="4724280"/>
              <a:ext cx="5790960" cy="0"/>
            </a:xfrm>
            <a:prstGeom prst="line">
              <a:avLst/>
            </a:prstGeom>
            <a:ln w="127080">
              <a:solidFill>
                <a:srgbClr val="ffff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V="1">
              <a:off x="1752480" y="3657240"/>
              <a:ext cx="0" cy="1066680"/>
            </a:xfrm>
            <a:prstGeom prst="line">
              <a:avLst/>
            </a:prstGeom>
            <a:ln w="1908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137960" y="34704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400" spc="-1" strike="noStrike">
                  <a:solidFill>
                    <a:srgbClr val="ffffeb"/>
                  </a:solidFill>
                  <a:latin typeface="Times New Roman"/>
                </a:rPr>
                <a:t>z</a:t>
              </a: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017880" y="3062160"/>
              <a:ext cx="3676680" cy="1670040"/>
            </a:xfrm>
            <a:custGeom>
              <a:avLst/>
              <a:gdLst/>
              <a:ahLst/>
              <a:rect l="l" t="t" r="r" b="b"/>
              <a:pathLst>
                <a:path w="2316" h="1052">
                  <a:moveTo>
                    <a:pt x="711" y="1046"/>
                  </a:moveTo>
                  <a:cubicBezTo>
                    <a:pt x="772" y="1004"/>
                    <a:pt x="793" y="932"/>
                    <a:pt x="806" y="862"/>
                  </a:cubicBezTo>
                  <a:cubicBezTo>
                    <a:pt x="797" y="791"/>
                    <a:pt x="792" y="685"/>
                    <a:pt x="694" y="683"/>
                  </a:cubicBezTo>
                  <a:cubicBezTo>
                    <a:pt x="508" y="680"/>
                    <a:pt x="321" y="679"/>
                    <a:pt x="135" y="677"/>
                  </a:cubicBezTo>
                  <a:cubicBezTo>
                    <a:pt x="72" y="663"/>
                    <a:pt x="22" y="633"/>
                    <a:pt x="0" y="571"/>
                  </a:cubicBezTo>
                  <a:cubicBezTo>
                    <a:pt x="51" y="547"/>
                    <a:pt x="2" y="568"/>
                    <a:pt x="101" y="543"/>
                  </a:cubicBezTo>
                  <a:cubicBezTo>
                    <a:pt x="246" y="507"/>
                    <a:pt x="388" y="483"/>
                    <a:pt x="537" y="476"/>
                  </a:cubicBezTo>
                  <a:cubicBezTo>
                    <a:pt x="633" y="459"/>
                    <a:pt x="731" y="467"/>
                    <a:pt x="828" y="453"/>
                  </a:cubicBezTo>
                  <a:cubicBezTo>
                    <a:pt x="862" y="434"/>
                    <a:pt x="876" y="424"/>
                    <a:pt x="884" y="386"/>
                  </a:cubicBezTo>
                  <a:cubicBezTo>
                    <a:pt x="872" y="262"/>
                    <a:pt x="835" y="218"/>
                    <a:pt x="705" y="207"/>
                  </a:cubicBezTo>
                  <a:cubicBezTo>
                    <a:pt x="642" y="202"/>
                    <a:pt x="515" y="196"/>
                    <a:pt x="515" y="196"/>
                  </a:cubicBezTo>
                  <a:cubicBezTo>
                    <a:pt x="433" y="186"/>
                    <a:pt x="346" y="192"/>
                    <a:pt x="274" y="146"/>
                  </a:cubicBezTo>
                  <a:cubicBezTo>
                    <a:pt x="219" y="67"/>
                    <a:pt x="262" y="21"/>
                    <a:pt x="341" y="0"/>
                  </a:cubicBezTo>
                  <a:cubicBezTo>
                    <a:pt x="460" y="2"/>
                    <a:pt x="580" y="3"/>
                    <a:pt x="699" y="6"/>
                  </a:cubicBezTo>
                  <a:cubicBezTo>
                    <a:pt x="735" y="7"/>
                    <a:pt x="783" y="10"/>
                    <a:pt x="822" y="17"/>
                  </a:cubicBezTo>
                  <a:cubicBezTo>
                    <a:pt x="839" y="20"/>
                    <a:pt x="873" y="28"/>
                    <a:pt x="873" y="28"/>
                  </a:cubicBezTo>
                  <a:cubicBezTo>
                    <a:pt x="899" y="45"/>
                    <a:pt x="924" y="61"/>
                    <a:pt x="945" y="84"/>
                  </a:cubicBezTo>
                  <a:cubicBezTo>
                    <a:pt x="954" y="125"/>
                    <a:pt x="944" y="162"/>
                    <a:pt x="934" y="202"/>
                  </a:cubicBezTo>
                  <a:cubicBezTo>
                    <a:pt x="945" y="276"/>
                    <a:pt x="966" y="274"/>
                    <a:pt x="1035" y="286"/>
                  </a:cubicBezTo>
                  <a:cubicBezTo>
                    <a:pt x="1102" y="280"/>
                    <a:pt x="1146" y="275"/>
                    <a:pt x="1214" y="280"/>
                  </a:cubicBezTo>
                  <a:cubicBezTo>
                    <a:pt x="1246" y="333"/>
                    <a:pt x="1222" y="385"/>
                    <a:pt x="1236" y="448"/>
                  </a:cubicBezTo>
                  <a:cubicBezTo>
                    <a:pt x="1461" y="435"/>
                    <a:pt x="1681" y="396"/>
                    <a:pt x="1907" y="386"/>
                  </a:cubicBezTo>
                  <a:cubicBezTo>
                    <a:pt x="1960" y="390"/>
                    <a:pt x="2122" y="389"/>
                    <a:pt x="2198" y="425"/>
                  </a:cubicBezTo>
                  <a:cubicBezTo>
                    <a:pt x="2238" y="444"/>
                    <a:pt x="2279" y="515"/>
                    <a:pt x="2299" y="554"/>
                  </a:cubicBezTo>
                  <a:cubicBezTo>
                    <a:pt x="2316" y="647"/>
                    <a:pt x="2270" y="687"/>
                    <a:pt x="2187" y="705"/>
                  </a:cubicBezTo>
                  <a:cubicBezTo>
                    <a:pt x="2050" y="699"/>
                    <a:pt x="1915" y="683"/>
                    <a:pt x="1779" y="666"/>
                  </a:cubicBezTo>
                  <a:cubicBezTo>
                    <a:pt x="1702" y="641"/>
                    <a:pt x="1796" y="669"/>
                    <a:pt x="1667" y="649"/>
                  </a:cubicBezTo>
                  <a:cubicBezTo>
                    <a:pt x="1534" y="629"/>
                    <a:pt x="1413" y="619"/>
                    <a:pt x="1275" y="615"/>
                  </a:cubicBezTo>
                  <a:cubicBezTo>
                    <a:pt x="1193" y="617"/>
                    <a:pt x="1058" y="566"/>
                    <a:pt x="1029" y="643"/>
                  </a:cubicBezTo>
                  <a:cubicBezTo>
                    <a:pt x="1047" y="694"/>
                    <a:pt x="1083" y="722"/>
                    <a:pt x="1136" y="738"/>
                  </a:cubicBezTo>
                  <a:cubicBezTo>
                    <a:pt x="1161" y="757"/>
                    <a:pt x="1186" y="777"/>
                    <a:pt x="1208" y="800"/>
                  </a:cubicBezTo>
                  <a:cubicBezTo>
                    <a:pt x="1226" y="866"/>
                    <a:pt x="1201" y="902"/>
                    <a:pt x="1141" y="923"/>
                  </a:cubicBezTo>
                  <a:cubicBezTo>
                    <a:pt x="1134" y="929"/>
                    <a:pt x="1126" y="934"/>
                    <a:pt x="1119" y="940"/>
                  </a:cubicBezTo>
                  <a:cubicBezTo>
                    <a:pt x="1107" y="951"/>
                    <a:pt x="1085" y="973"/>
                    <a:pt x="1085" y="973"/>
                  </a:cubicBezTo>
                  <a:cubicBezTo>
                    <a:pt x="1077" y="999"/>
                    <a:pt x="1071" y="1026"/>
                    <a:pt x="1063" y="1052"/>
                  </a:cubicBezTo>
                  <a:cubicBezTo>
                    <a:pt x="714" y="1046"/>
                    <a:pt x="832" y="1046"/>
                    <a:pt x="711" y="104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sp>
        <p:nvSpPr>
          <p:cNvPr id="348" name=""/>
          <p:cNvSpPr/>
          <p:nvPr/>
        </p:nvSpPr>
        <p:spPr>
          <a:xfrm flipV="1">
            <a:off x="3048120" y="4723560"/>
            <a:ext cx="3676680" cy="1668600"/>
          </a:xfrm>
          <a:custGeom>
            <a:avLst/>
            <a:gdLst/>
            <a:ahLst/>
            <a:rect l="l" t="t" r="r" b="b"/>
            <a:pathLst>
              <a:path w="2316" h="1052">
                <a:moveTo>
                  <a:pt x="711" y="1046"/>
                </a:moveTo>
                <a:cubicBezTo>
                  <a:pt x="772" y="1004"/>
                  <a:pt x="793" y="932"/>
                  <a:pt x="806" y="862"/>
                </a:cubicBezTo>
                <a:cubicBezTo>
                  <a:pt x="797" y="791"/>
                  <a:pt x="792" y="685"/>
                  <a:pt x="694" y="683"/>
                </a:cubicBezTo>
                <a:cubicBezTo>
                  <a:pt x="508" y="680"/>
                  <a:pt x="321" y="679"/>
                  <a:pt x="135" y="677"/>
                </a:cubicBezTo>
                <a:cubicBezTo>
                  <a:pt x="72" y="663"/>
                  <a:pt x="22" y="633"/>
                  <a:pt x="0" y="571"/>
                </a:cubicBezTo>
                <a:cubicBezTo>
                  <a:pt x="51" y="547"/>
                  <a:pt x="2" y="568"/>
                  <a:pt x="101" y="543"/>
                </a:cubicBezTo>
                <a:cubicBezTo>
                  <a:pt x="246" y="507"/>
                  <a:pt x="388" y="483"/>
                  <a:pt x="537" y="476"/>
                </a:cubicBezTo>
                <a:cubicBezTo>
                  <a:pt x="633" y="459"/>
                  <a:pt x="731" y="467"/>
                  <a:pt x="828" y="453"/>
                </a:cubicBezTo>
                <a:cubicBezTo>
                  <a:pt x="862" y="434"/>
                  <a:pt x="876" y="424"/>
                  <a:pt x="884" y="386"/>
                </a:cubicBezTo>
                <a:cubicBezTo>
                  <a:pt x="872" y="262"/>
                  <a:pt x="835" y="218"/>
                  <a:pt x="705" y="207"/>
                </a:cubicBezTo>
                <a:cubicBezTo>
                  <a:pt x="642" y="202"/>
                  <a:pt x="515" y="196"/>
                  <a:pt x="515" y="196"/>
                </a:cubicBezTo>
                <a:cubicBezTo>
                  <a:pt x="433" y="186"/>
                  <a:pt x="346" y="192"/>
                  <a:pt x="274" y="146"/>
                </a:cubicBezTo>
                <a:cubicBezTo>
                  <a:pt x="219" y="67"/>
                  <a:pt x="262" y="21"/>
                  <a:pt x="341" y="0"/>
                </a:cubicBezTo>
                <a:cubicBezTo>
                  <a:pt x="460" y="2"/>
                  <a:pt x="580" y="3"/>
                  <a:pt x="699" y="6"/>
                </a:cubicBezTo>
                <a:cubicBezTo>
                  <a:pt x="735" y="7"/>
                  <a:pt x="783" y="10"/>
                  <a:pt x="822" y="17"/>
                </a:cubicBezTo>
                <a:cubicBezTo>
                  <a:pt x="839" y="20"/>
                  <a:pt x="873" y="28"/>
                  <a:pt x="873" y="28"/>
                </a:cubicBezTo>
                <a:cubicBezTo>
                  <a:pt x="899" y="45"/>
                  <a:pt x="924" y="61"/>
                  <a:pt x="945" y="84"/>
                </a:cubicBezTo>
                <a:cubicBezTo>
                  <a:pt x="954" y="125"/>
                  <a:pt x="944" y="162"/>
                  <a:pt x="934" y="202"/>
                </a:cubicBezTo>
                <a:cubicBezTo>
                  <a:pt x="945" y="276"/>
                  <a:pt x="966" y="274"/>
                  <a:pt x="1035" y="286"/>
                </a:cubicBezTo>
                <a:cubicBezTo>
                  <a:pt x="1102" y="280"/>
                  <a:pt x="1146" y="275"/>
                  <a:pt x="1214" y="280"/>
                </a:cubicBezTo>
                <a:cubicBezTo>
                  <a:pt x="1246" y="333"/>
                  <a:pt x="1222" y="385"/>
                  <a:pt x="1236" y="448"/>
                </a:cubicBezTo>
                <a:cubicBezTo>
                  <a:pt x="1461" y="435"/>
                  <a:pt x="1681" y="396"/>
                  <a:pt x="1907" y="386"/>
                </a:cubicBezTo>
                <a:cubicBezTo>
                  <a:pt x="1960" y="390"/>
                  <a:pt x="2122" y="389"/>
                  <a:pt x="2198" y="425"/>
                </a:cubicBezTo>
                <a:cubicBezTo>
                  <a:pt x="2238" y="444"/>
                  <a:pt x="2279" y="515"/>
                  <a:pt x="2299" y="554"/>
                </a:cubicBezTo>
                <a:cubicBezTo>
                  <a:pt x="2316" y="647"/>
                  <a:pt x="2270" y="687"/>
                  <a:pt x="2187" y="705"/>
                </a:cubicBezTo>
                <a:cubicBezTo>
                  <a:pt x="2050" y="699"/>
                  <a:pt x="1915" y="683"/>
                  <a:pt x="1779" y="666"/>
                </a:cubicBezTo>
                <a:cubicBezTo>
                  <a:pt x="1702" y="641"/>
                  <a:pt x="1796" y="669"/>
                  <a:pt x="1667" y="649"/>
                </a:cubicBezTo>
                <a:cubicBezTo>
                  <a:pt x="1534" y="629"/>
                  <a:pt x="1413" y="619"/>
                  <a:pt x="1275" y="615"/>
                </a:cubicBezTo>
                <a:cubicBezTo>
                  <a:pt x="1193" y="617"/>
                  <a:pt x="1058" y="566"/>
                  <a:pt x="1029" y="643"/>
                </a:cubicBezTo>
                <a:cubicBezTo>
                  <a:pt x="1047" y="694"/>
                  <a:pt x="1083" y="722"/>
                  <a:pt x="1136" y="738"/>
                </a:cubicBezTo>
                <a:cubicBezTo>
                  <a:pt x="1161" y="757"/>
                  <a:pt x="1186" y="777"/>
                  <a:pt x="1208" y="800"/>
                </a:cubicBezTo>
                <a:cubicBezTo>
                  <a:pt x="1226" y="866"/>
                  <a:pt x="1201" y="902"/>
                  <a:pt x="1141" y="923"/>
                </a:cubicBezTo>
                <a:cubicBezTo>
                  <a:pt x="1134" y="929"/>
                  <a:pt x="1126" y="934"/>
                  <a:pt x="1119" y="940"/>
                </a:cubicBezTo>
                <a:cubicBezTo>
                  <a:pt x="1107" y="951"/>
                  <a:pt x="1085" y="973"/>
                  <a:pt x="1085" y="973"/>
                </a:cubicBezTo>
                <a:cubicBezTo>
                  <a:pt x="1077" y="999"/>
                  <a:pt x="1071" y="1026"/>
                  <a:pt x="1063" y="1052"/>
                </a:cubicBezTo>
                <a:cubicBezTo>
                  <a:pt x="714" y="1046"/>
                  <a:pt x="832" y="1046"/>
                  <a:pt x="711" y="1046"/>
                </a:cubicBez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Planar reflections</a:t>
            </a: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0010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Backfacing becomes front facing!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Lights should be reflected as wel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Need to clip (using stencil buffer)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See example on clipping: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1"/>
          <a:stretch/>
        </p:blipFill>
        <p:spPr>
          <a:xfrm>
            <a:off x="1066680" y="3581280"/>
            <a:ext cx="2818080" cy="316872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2"/>
          <a:stretch/>
        </p:blipFill>
        <p:spPr>
          <a:xfrm>
            <a:off x="3962520" y="3581280"/>
            <a:ext cx="277164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Planar reflections</a:t>
            </a: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001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How should you render?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1) the ground plan polygon into the stencil buffer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2) the scaled (1,1,-1) model, but mask with stencil buffer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3) the ground plane (semi-transparent)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4) the unscaled mode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Final slide</a:t>
            </a:r>
            <a:br>
              <a:rPr sz="3600"/>
            </a:b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Another example</a:t>
            </a: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5410440" cy="377028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 rot="16200000">
            <a:off x="-2000520" y="3598200"/>
            <a:ext cx="507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eb"/>
                </a:solidFill>
                <a:latin typeface="Times New Roman"/>
              </a:rPr>
              <a:t>Image courtesy of Kasper Hoey Nielsen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14040" y="51811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3000"/>
          </a:bodyPr>
          <a:p>
            <a:pPr marL="181800" indent="-181800">
              <a:lnSpc>
                <a:spcPct val="90000"/>
              </a:lnSpc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Instead of the scale-trick, you can reflect the camera position and direction in the plane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marL="181800" indent="-181800">
              <a:lnSpc>
                <a:spcPct val="90000"/>
              </a:lnSpc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Then render reflection image from there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If we got time</a:t>
            </a: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001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Stencil shadow demo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Another example</a:t>
            </a: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143000" y="1433520"/>
            <a:ext cx="7238880" cy="54244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5983200" y="1660680"/>
            <a:ext cx="226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eb"/>
                </a:solidFill>
                <a:latin typeface="Arial"/>
              </a:rPr>
              <a:t>Blade of Darkness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135800" y="6461280"/>
            <a:ext cx="520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eb"/>
                </a:solidFill>
                <a:latin typeface="Arial"/>
              </a:rPr>
              <a:t>Image courtesy of Codemasters &amp; Rebel Act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Why shadows?</a:t>
            </a: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001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More clues about spatial relationships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Orientation &amp; gameplay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52280" y="2635200"/>
            <a:ext cx="4343400" cy="41450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724280" y="2635200"/>
            <a:ext cx="4343400" cy="41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"/>
          <p:cNvGrpSpPr/>
          <p:nvPr/>
        </p:nvGrpSpPr>
        <p:grpSpPr>
          <a:xfrm>
            <a:off x="762120" y="5791320"/>
            <a:ext cx="8229600" cy="535680"/>
            <a:chOff x="762120" y="5791320"/>
            <a:chExt cx="8229600" cy="535680"/>
          </a:xfrm>
        </p:grpSpPr>
        <p:sp>
          <p:nvSpPr>
            <p:cNvPr id="106" name=""/>
            <p:cNvSpPr/>
            <p:nvPr/>
          </p:nvSpPr>
          <p:spPr>
            <a:xfrm>
              <a:off x="762120" y="5791320"/>
              <a:ext cx="8229600" cy="152280"/>
            </a:xfrm>
            <a:prstGeom prst="rect">
              <a:avLst/>
            </a:prstGeom>
            <a:solidFill>
              <a:srgbClr val="00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435840" y="5867280"/>
              <a:ext cx="138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400" spc="-1" strike="noStrike">
                  <a:solidFill>
                    <a:srgbClr val="ffffeb"/>
                  </a:solidFill>
                  <a:latin typeface="Arial"/>
                </a:rPr>
                <a:t>Receiver</a:t>
              </a: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990720" y="15228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b"/>
                </a:solidFill>
                <a:latin typeface="Arial"/>
              </a:rPr>
              <a:t>Definitions</a:t>
            </a:r>
            <a:endParaRPr b="0" lang="en-US" sz="36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14400" y="1447920"/>
            <a:ext cx="8001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Light sources</a:t>
            </a:r>
            <a:endParaRPr b="0" lang="en-US" sz="3200" spc="-1" strike="noStrike">
              <a:solidFill>
                <a:srgbClr val="ffffeb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Shadow creators and receivers</a:t>
            </a:r>
            <a:endParaRPr b="0" lang="en-US" sz="3200" spc="-1" strike="noStrike">
              <a:solidFill>
                <a:srgbClr val="ffffeb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990360" y="2971800"/>
            <a:ext cx="3429360" cy="3048120"/>
            <a:chOff x="990360" y="2971800"/>
            <a:chExt cx="3429360" cy="3048120"/>
          </a:xfrm>
        </p:grpSpPr>
        <p:sp>
          <p:nvSpPr>
            <p:cNvPr id="111" name=""/>
            <p:cNvSpPr/>
            <p:nvPr/>
          </p:nvSpPr>
          <p:spPr>
            <a:xfrm flipH="1">
              <a:off x="990360" y="2971800"/>
              <a:ext cx="3429000" cy="28954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2895480" y="2971800"/>
              <a:ext cx="1524240" cy="304812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066680" y="5791320"/>
              <a:ext cx="1905120" cy="152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2212560" y="2743200"/>
            <a:ext cx="2283120" cy="459720"/>
            <a:chOff x="2212560" y="2743200"/>
            <a:chExt cx="2283120" cy="459720"/>
          </a:xfrm>
        </p:grpSpPr>
        <p:sp>
          <p:nvSpPr>
            <p:cNvPr id="115" name=""/>
            <p:cNvSpPr/>
            <p:nvPr/>
          </p:nvSpPr>
          <p:spPr>
            <a:xfrm>
              <a:off x="4343400" y="2895480"/>
              <a:ext cx="152280" cy="152640"/>
            </a:xfrm>
            <a:prstGeom prst="ellipse">
              <a:avLst/>
            </a:prstGeom>
            <a:solidFill>
              <a:srgbClr val="ffff0b"/>
            </a:solidFill>
            <a:ln w="9360">
              <a:solidFill>
                <a:srgbClr val="ffff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212560" y="2743200"/>
              <a:ext cx="184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400" spc="-1" strike="noStrike">
                  <a:solidFill>
                    <a:srgbClr val="ffffeb"/>
                  </a:solidFill>
                  <a:latin typeface="Arial"/>
                </a:rPr>
                <a:t>Light source</a:t>
              </a: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1543680" y="4038480"/>
            <a:ext cx="1885320" cy="1219320"/>
            <a:chOff x="1543680" y="4038480"/>
            <a:chExt cx="1885320" cy="1219320"/>
          </a:xfrm>
        </p:grpSpPr>
        <p:sp>
          <p:nvSpPr>
            <p:cNvPr id="118" name=""/>
            <p:cNvSpPr/>
            <p:nvPr/>
          </p:nvSpPr>
          <p:spPr>
            <a:xfrm>
              <a:off x="2514600" y="4343400"/>
              <a:ext cx="914400" cy="91440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543680" y="4038480"/>
              <a:ext cx="119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400" spc="-1" strike="noStrike">
                  <a:solidFill>
                    <a:srgbClr val="ffffeb"/>
                  </a:solidFill>
                  <a:latin typeface="Arial"/>
                </a:rPr>
                <a:t>Creator</a:t>
              </a: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4419720" y="2971800"/>
            <a:ext cx="4002120" cy="2971800"/>
            <a:chOff x="4419720" y="2971800"/>
            <a:chExt cx="4002120" cy="2971800"/>
          </a:xfrm>
        </p:grpSpPr>
        <p:grpSp>
          <p:nvGrpSpPr>
            <p:cNvPr id="121" name=""/>
            <p:cNvGrpSpPr/>
            <p:nvPr/>
          </p:nvGrpSpPr>
          <p:grpSpPr>
            <a:xfrm>
              <a:off x="4419720" y="2971800"/>
              <a:ext cx="4002120" cy="2971800"/>
              <a:chOff x="4419720" y="2971800"/>
              <a:chExt cx="4002120" cy="2971800"/>
            </a:xfrm>
          </p:grpSpPr>
          <p:sp>
            <p:nvSpPr>
              <p:cNvPr id="122" name=""/>
              <p:cNvSpPr/>
              <p:nvPr/>
            </p:nvSpPr>
            <p:spPr>
              <a:xfrm>
                <a:off x="6631920" y="3657600"/>
                <a:ext cx="17899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v-SE" sz="2400" spc="-1" strike="noStrike">
                    <a:solidFill>
                      <a:srgbClr val="ffffeb"/>
                    </a:solidFill>
                    <a:latin typeface="Arial"/>
                  </a:rPr>
                  <a:t>Creator and</a:t>
                </a: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v-SE" sz="2400" spc="-1" strike="noStrike">
                    <a:solidFill>
                      <a:srgbClr val="ffffeb"/>
                    </a:solidFill>
                    <a:latin typeface="Arial"/>
                  </a:rPr>
                  <a:t>receiver</a:t>
                </a: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20970600">
                <a:off x="4571640" y="3962520"/>
                <a:ext cx="2438280" cy="1295280"/>
              </a:xfrm>
              <a:custGeom>
                <a:avLst/>
                <a:gdLst/>
                <a:ahLst/>
                <a:rect l="l" t="t" r="r" b="b"/>
                <a:pathLst>
                  <a:path w="1400" h="848">
                    <a:moveTo>
                      <a:pt x="464" y="72"/>
                    </a:moveTo>
                    <a:cubicBezTo>
                      <a:pt x="368" y="144"/>
                      <a:pt x="0" y="424"/>
                      <a:pt x="128" y="552"/>
                    </a:cubicBezTo>
                    <a:cubicBezTo>
                      <a:pt x="256" y="680"/>
                      <a:pt x="1064" y="848"/>
                      <a:pt x="1232" y="840"/>
                    </a:cubicBezTo>
                    <a:cubicBezTo>
                      <a:pt x="1400" y="832"/>
                      <a:pt x="1256" y="552"/>
                      <a:pt x="1136" y="504"/>
                    </a:cubicBezTo>
                    <a:cubicBezTo>
                      <a:pt x="1016" y="456"/>
                      <a:pt x="584" y="616"/>
                      <a:pt x="512" y="552"/>
                    </a:cubicBezTo>
                    <a:cubicBezTo>
                      <a:pt x="440" y="488"/>
                      <a:pt x="712" y="208"/>
                      <a:pt x="704" y="120"/>
                    </a:cubicBezTo>
                    <a:cubicBezTo>
                      <a:pt x="696" y="32"/>
                      <a:pt x="560" y="0"/>
                      <a:pt x="464" y="72"/>
                    </a:cubicBezTo>
                    <a:close/>
                  </a:path>
                </a:pathLst>
              </a:custGeom>
              <a:solidFill>
                <a:srgbClr val="f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419720" y="2971800"/>
                <a:ext cx="533160" cy="289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419720" y="2971800"/>
                <a:ext cx="3809880" cy="2819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4952880" y="5791320"/>
                <a:ext cx="3276720" cy="152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4419720" y="2971800"/>
                <a:ext cx="1828800" cy="1676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</p:grpSp>
        <p:sp>
          <p:nvSpPr>
            <p:cNvPr id="128" name=""/>
            <p:cNvSpPr/>
            <p:nvPr/>
          </p:nvSpPr>
          <p:spPr>
            <a:xfrm>
              <a:off x="5486400" y="4648320"/>
              <a:ext cx="762120" cy="228600"/>
            </a:xfrm>
            <a:custGeom>
              <a:avLst/>
              <a:gdLst/>
              <a:ahLst/>
              <a:rect l="l" t="t" r="r" b="b"/>
              <a:pathLst>
                <a:path w="480" h="168">
                  <a:moveTo>
                    <a:pt x="0" y="144"/>
                  </a:moveTo>
                  <a:cubicBezTo>
                    <a:pt x="8" y="156"/>
                    <a:pt x="16" y="168"/>
                    <a:pt x="96" y="144"/>
                  </a:cubicBezTo>
                  <a:cubicBezTo>
                    <a:pt x="176" y="120"/>
                    <a:pt x="416" y="24"/>
                    <a:pt x="480" y="0"/>
                  </a:cubicBezTo>
                </a:path>
              </a:pathLst>
            </a:custGeom>
            <a:noFill/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990720" y="15228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Definitions</a:t>
            </a:r>
            <a:endParaRPr b="0" lang="en-US" sz="36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14400" y="1447920"/>
            <a:ext cx="8001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Light source types</a:t>
            </a:r>
            <a:endParaRPr b="0" lang="en-US" sz="3200" spc="-1" strike="noStrike">
              <a:solidFill>
                <a:srgbClr val="ffffeb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609480" y="2438280"/>
            <a:ext cx="3581640" cy="4269960"/>
            <a:chOff x="609480" y="2438280"/>
            <a:chExt cx="3581640" cy="4269960"/>
          </a:xfrm>
        </p:grpSpPr>
        <p:grpSp>
          <p:nvGrpSpPr>
            <p:cNvPr id="132" name=""/>
            <p:cNvGrpSpPr/>
            <p:nvPr/>
          </p:nvGrpSpPr>
          <p:grpSpPr>
            <a:xfrm>
              <a:off x="609480" y="2438280"/>
              <a:ext cx="3581640" cy="3353040"/>
              <a:chOff x="609480" y="2438280"/>
              <a:chExt cx="3581640" cy="3353040"/>
            </a:xfrm>
          </p:grpSpPr>
          <p:sp>
            <p:nvSpPr>
              <p:cNvPr id="133" name=""/>
              <p:cNvSpPr/>
              <p:nvPr/>
            </p:nvSpPr>
            <p:spPr>
              <a:xfrm>
                <a:off x="609480" y="5638680"/>
                <a:ext cx="3581640" cy="152640"/>
              </a:xfrm>
              <a:prstGeom prst="rect">
                <a:avLst/>
              </a:prstGeom>
              <a:solidFill>
                <a:srgbClr val="00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438280" y="3962520"/>
                <a:ext cx="914400" cy="914400"/>
              </a:xfrm>
              <a:prstGeom prst="ellipse">
                <a:avLst/>
              </a:prstGeom>
              <a:solidFill>
                <a:srgbClr val="f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3616200" y="2482920"/>
                <a:ext cx="76320" cy="75960"/>
              </a:xfrm>
              <a:prstGeom prst="ellipse">
                <a:avLst/>
              </a:prstGeom>
              <a:solidFill>
                <a:srgbClr val="ffff0b"/>
              </a:solidFill>
              <a:ln w="9360">
                <a:solidFill>
                  <a:srgbClr val="ffff0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flipH="1">
                <a:off x="3124080" y="2514600"/>
                <a:ext cx="533520" cy="3200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>
                <a:off x="1447920" y="2514600"/>
                <a:ext cx="2209680" cy="3200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467000" y="5638680"/>
                <a:ext cx="1676160" cy="152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295280" y="2438280"/>
                <a:ext cx="184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v-SE" sz="2400" spc="-1" strike="noStrike">
                    <a:solidFill>
                      <a:srgbClr val="ffffeb"/>
                    </a:solidFill>
                    <a:latin typeface="Arial"/>
                  </a:rPr>
                  <a:t>point source</a:t>
                </a: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1773720" y="6248520"/>
              <a:ext cx="104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400" spc="-1" strike="noStrike">
                  <a:solidFill>
                    <a:srgbClr val="ffffeb"/>
                  </a:solidFill>
                  <a:latin typeface="Arial"/>
                </a:rPr>
                <a:t>umbra</a:t>
              </a: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447920" y="5791320"/>
              <a:ext cx="838080" cy="533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2286000" y="5791320"/>
              <a:ext cx="838080" cy="533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4498920" y="2438280"/>
            <a:ext cx="3882960" cy="4269960"/>
            <a:chOff x="4498920" y="2438280"/>
            <a:chExt cx="3882960" cy="4269960"/>
          </a:xfrm>
        </p:grpSpPr>
        <p:grpSp>
          <p:nvGrpSpPr>
            <p:cNvPr id="144" name=""/>
            <p:cNvGrpSpPr/>
            <p:nvPr/>
          </p:nvGrpSpPr>
          <p:grpSpPr>
            <a:xfrm>
              <a:off x="4800600" y="2438280"/>
              <a:ext cx="3581280" cy="3353040"/>
              <a:chOff x="4800600" y="2438280"/>
              <a:chExt cx="3581280" cy="3353040"/>
            </a:xfrm>
          </p:grpSpPr>
          <p:grpSp>
            <p:nvGrpSpPr>
              <p:cNvPr id="145" name=""/>
              <p:cNvGrpSpPr/>
              <p:nvPr/>
            </p:nvGrpSpPr>
            <p:grpSpPr>
              <a:xfrm>
                <a:off x="4800600" y="2514600"/>
                <a:ext cx="3581280" cy="3276720"/>
                <a:chOff x="4800600" y="2514600"/>
                <a:chExt cx="3581280" cy="327672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4800600" y="5638680"/>
                  <a:ext cx="3581280" cy="152640"/>
                </a:xfrm>
                <a:prstGeom prst="rect">
                  <a:avLst/>
                </a:prstGeom>
                <a:solidFill>
                  <a:srgbClr val="00cc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629400" y="3962520"/>
                  <a:ext cx="914400" cy="914400"/>
                </a:xfrm>
                <a:prstGeom prst="ellipse">
                  <a:avLst/>
                </a:prstGeom>
                <a:solidFill>
                  <a:srgbClr val="fa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391520" y="2514600"/>
                  <a:ext cx="761760" cy="76320"/>
                </a:xfrm>
                <a:prstGeom prst="rect">
                  <a:avLst/>
                </a:prstGeom>
                <a:solidFill>
                  <a:srgbClr val="ffff0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 flipH="1">
                  <a:off x="7162560" y="2514600"/>
                  <a:ext cx="990360" cy="3200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6041880" y="5638680"/>
                  <a:ext cx="1143000" cy="1526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162920" y="5638680"/>
                  <a:ext cx="609480" cy="15264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cc66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>
                  <a:off x="5181480" y="5638680"/>
                  <a:ext cx="914400" cy="15264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00cc66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 flipH="1">
                  <a:off x="6019920" y="2514600"/>
                  <a:ext cx="1371600" cy="3200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 flipH="1">
                  <a:off x="5333760" y="2514600"/>
                  <a:ext cx="2819160" cy="3200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7391520" y="2514600"/>
                  <a:ext cx="228600" cy="3200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6" name=""/>
              <p:cNvSpPr/>
              <p:nvPr/>
            </p:nvSpPr>
            <p:spPr>
              <a:xfrm>
                <a:off x="5190480" y="2438280"/>
                <a:ext cx="178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v-SE" sz="2400" spc="-1" strike="noStrike">
                    <a:solidFill>
                      <a:srgbClr val="ffffeb"/>
                    </a:solidFill>
                    <a:latin typeface="Arial"/>
                  </a:rPr>
                  <a:t>area source</a:t>
                </a: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</p:grpSp>
        <p:sp>
          <p:nvSpPr>
            <p:cNvPr id="157" name=""/>
            <p:cNvSpPr/>
            <p:nvPr/>
          </p:nvSpPr>
          <p:spPr>
            <a:xfrm>
              <a:off x="6344280" y="6248520"/>
              <a:ext cx="104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400" spc="-1" strike="noStrike">
                  <a:solidFill>
                    <a:srgbClr val="ffffeb"/>
                  </a:solidFill>
                  <a:latin typeface="Arial"/>
                </a:rPr>
                <a:t>umbra</a:t>
              </a: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498920" y="6248520"/>
              <a:ext cx="155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400" spc="-1" strike="noStrike">
                  <a:solidFill>
                    <a:srgbClr val="ffffeb"/>
                  </a:solidFill>
                  <a:latin typeface="Arial"/>
                </a:rPr>
                <a:t>penumbra</a:t>
              </a: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5105160" y="5715000"/>
              <a:ext cx="22860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5105520" y="5715000"/>
              <a:ext cx="91440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019920" y="5715000"/>
              <a:ext cx="53316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6553080" y="5791320"/>
              <a:ext cx="60984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990720" y="15228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Example: hard vs soft shadows</a:t>
            </a:r>
            <a:endParaRPr b="0" lang="en-US" sz="3600" spc="-1" strike="noStrike">
              <a:solidFill>
                <a:srgbClr val="ffffeb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457200" y="1371600"/>
            <a:ext cx="4068720" cy="5029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4997520" y="1371600"/>
            <a:ext cx="40701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990720" y="15228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b"/>
                </a:solidFill>
                <a:latin typeface="Arial"/>
              </a:rPr>
              <a:t>Ways of thinking about shadows</a:t>
            </a:r>
            <a:endParaRPr b="0" lang="en-US" sz="36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14400" y="1447920"/>
            <a:ext cx="80010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As separate objects (like Peter Pan's shadow)</a:t>
            </a:r>
            <a:endParaRPr b="0" lang="en-US" sz="3200" spc="-1" strike="noStrike">
              <a:solidFill>
                <a:srgbClr val="ffffeb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As volumes of space that are dark</a:t>
            </a:r>
            <a:endParaRPr b="0" lang="en-US" sz="3200" spc="-1" strike="noStrike">
              <a:solidFill>
                <a:srgbClr val="ffffeb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As places not seen from a light source looking at the scene</a:t>
            </a:r>
            <a:endParaRPr b="0" lang="en-US" sz="3200" spc="-1" strike="noStrike">
              <a:solidFill>
                <a:srgbClr val="ffffeb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Note that we already "have shadows" for objects facing away from light</a:t>
            </a:r>
            <a:endParaRPr b="0" lang="en-US" sz="3200" spc="-1" strike="noStrike">
              <a:solidFill>
                <a:srgbClr val="ffff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Store precomputed shadows in textures</a:t>
            </a: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52280" y="1523880"/>
            <a:ext cx="6934320" cy="497052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69840" y="6454800"/>
            <a:ext cx="473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eb"/>
                </a:solidFill>
                <a:latin typeface="Arial"/>
              </a:rPr>
              <a:t>Images courtesy of Kasper H</a:t>
            </a:r>
            <a:r>
              <a:rPr b="0" lang="sv-SE" sz="2000" spc="-1" strike="noStrike">
                <a:solidFill>
                  <a:srgbClr val="ffffeb"/>
                </a:solidFill>
                <a:latin typeface="Arial"/>
                <a:ea typeface="Arial"/>
              </a:rPr>
              <a:t>ø</a:t>
            </a:r>
            <a:r>
              <a:rPr b="0" lang="sv-SE" sz="2000" spc="-1" strike="noStrike">
                <a:solidFill>
                  <a:srgbClr val="ffffeb"/>
                </a:solidFill>
                <a:latin typeface="Arial"/>
              </a:rPr>
              <a:t>y Nielsen.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7162920" y="1523880"/>
            <a:ext cx="190476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8T07:00:51Z</dcterms:created>
  <dc:creator>Tomas Moller</dc:creator>
  <dc:description/>
  <dc:language>en-US</dc:language>
  <cp:lastModifiedBy>Datorteknik</cp:lastModifiedBy>
  <cp:lastPrinted>2000-03-14T19:25:07Z</cp:lastPrinted>
  <dcterms:modified xsi:type="dcterms:W3CDTF">2002-04-25T14:00:25Z</dcterms:modified>
  <cp:revision>179</cp:revision>
  <dc:subject/>
  <dc:title>CS248</dc:title>
</cp:coreProperties>
</file>