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C520-A798-471E-8911-18832BDD3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B18B-7575-4820-AD35-F6A77F994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4A7D-1EF8-450E-AB93-867AC5999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24E4-0E3F-4DBB-98BC-1028B662C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3C74E-45A9-462C-8481-6781C15E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00A87-D1A5-47B9-B51E-A9B5B655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3F3F7-DBBE-4BA3-8F5A-1FDA830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084A-02B7-440C-BB59-896520CB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722C1-BDDC-4EE7-B884-DC03BAF3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AF006-5F60-4145-B8C8-26BE8562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61B98-1F17-43A1-A238-3FCFB8B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83EA-4A03-4B78-AD52-2768A09E9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2C6DD-EDF5-4929-802A-021A8B9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8EADC-5390-4AAE-91EA-A6480B5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5D606-2B0A-4692-AE0F-BE31C01A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774DE-15C6-420A-82F2-C781E63D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583F6-9646-4B93-98B9-D3ABDA90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DE52-3FA5-4542-A805-9F072DBFF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12D1-4CC1-4E24-AEE7-1E53AB51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5C5F-9FF9-4119-8DD2-8EB5880F5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7F9D-00BF-4FB4-B9E4-251064417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B26F-180A-4E17-A037-28A950C2C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FF9F-F87E-40C9-8853-67E8810D1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9AA9-81CC-446B-97A6-5A7F0CF5F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F459-603E-48AA-9F4F-79ADC5280A92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62F6-7C6B-4F02-9D05-D189DC978AA0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hyperlink" Target="file:///../demo1/demo1.exe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Visual Appearance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Chapter 4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’s lighting and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’s shading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ghting: the interaction between light and matt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hading: do lighting (at vertices) and determine pixel’s colors from thes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ree types of shading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Flat, Goraud, and Pho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6" name="shading_flat" descr=""/>
          <p:cNvPicPr/>
          <p:nvPr/>
        </p:nvPicPr>
        <p:blipFill>
          <a:blip r:embed="rId1"/>
          <a:stretch/>
        </p:blipFill>
        <p:spPr>
          <a:xfrm>
            <a:off x="0" y="4562640"/>
            <a:ext cx="3048120" cy="2295360"/>
          </a:xfrm>
          <a:prstGeom prst="rect">
            <a:avLst/>
          </a:prstGeom>
          <a:ln w="0">
            <a:noFill/>
          </a:ln>
        </p:spPr>
      </p:pic>
      <p:pic>
        <p:nvPicPr>
          <p:cNvPr id="187" name="shading_goraud" descr=""/>
          <p:cNvPicPr/>
          <p:nvPr/>
        </p:nvPicPr>
        <p:blipFill>
          <a:blip r:embed="rId2"/>
          <a:stretch/>
        </p:blipFill>
        <p:spPr>
          <a:xfrm>
            <a:off x="3048120" y="4562640"/>
            <a:ext cx="3047760" cy="2295360"/>
          </a:xfrm>
          <a:prstGeom prst="rect">
            <a:avLst/>
          </a:prstGeom>
          <a:ln w="0">
            <a:noFill/>
          </a:ln>
        </p:spPr>
      </p:pic>
      <p:pic>
        <p:nvPicPr>
          <p:cNvPr id="188" name="shading_phong" descr=""/>
          <p:cNvPicPr/>
          <p:nvPr/>
        </p:nvPicPr>
        <p:blipFill>
          <a:blip r:embed="rId3"/>
          <a:stretch/>
        </p:blipFill>
        <p:spPr>
          <a:xfrm>
            <a:off x="6095880" y="4584600"/>
            <a:ext cx="3054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o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e atmospheric effec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 little better realism 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Help in determining distanc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lor of fog:         color of surface: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5200" y="2971800"/>
                <a:ext cx="538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00960" y="2971800"/>
                <a:ext cx="5000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3657600"/>
                <a:ext cx="58197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3434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How to compute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f 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3 ways: linear, exponential, exponential-squared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Linear: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749680" y="5334120"/>
                <a:ext cx="2889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og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48002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ften just a matter of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hoosing fog colo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hoosing fog mode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urning it 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98" name="NOFOG" descr=""/>
          <p:cNvPicPr/>
          <p:nvPr/>
        </p:nvPicPr>
        <p:blipFill>
          <a:blip r:embed="rId1"/>
          <a:stretch/>
        </p:blipFill>
        <p:spPr>
          <a:xfrm>
            <a:off x="0" y="1349280"/>
            <a:ext cx="4495680" cy="2994120"/>
          </a:xfrm>
          <a:prstGeom prst="rect">
            <a:avLst/>
          </a:prstGeom>
          <a:ln w="0">
            <a:noFill/>
          </a:ln>
        </p:spPr>
      </p:pic>
      <p:pic>
        <p:nvPicPr>
          <p:cNvPr id="199" name="FOG" descr=""/>
          <p:cNvPicPr/>
          <p:nvPr/>
        </p:nvPicPr>
        <p:blipFill>
          <a:blip r:embed="rId2"/>
          <a:stretch/>
        </p:blipFill>
        <p:spPr>
          <a:xfrm>
            <a:off x="4572000" y="1330200"/>
            <a:ext cx="45626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amma corr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4419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input to gun is 0.5, then you don’t get 0.5 as output in intensit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249640" cy="281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2449800" cy="281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62720" y="1447920"/>
            <a:ext cx="2584440" cy="2819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14400" y="5410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stead, gamma correct that signal:     gives linear relationship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amma corr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intensity on scree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input voltage (electron gun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a,</a:t>
            </a:r>
            <a:r>
              <a:rPr b="0" i="1" lang="sv-SE" sz="3200" spc="-1" strike="noStrike">
                <a:solidFill>
                  <a:srgbClr val="ffffeb"/>
                </a:solidFill>
                <a:latin typeface="Symbol"/>
                <a:ea typeface="Symbol"/>
              </a:rPr>
              <a:t></a:t>
            </a: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and </a:t>
            </a:r>
            <a:r>
              <a:rPr b="0" i="1" lang="sv-SE" sz="3200" spc="-1" strike="noStrike">
                <a:solidFill>
                  <a:srgbClr val="ffffeb"/>
                </a:solidFill>
                <a:latin typeface="Symbol"/>
                <a:ea typeface="Symbol"/>
              </a:rPr>
              <a:t>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  </a:t>
            </a: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are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nstants for each syste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mmon gamma values: 2.3-2.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ing </a:t>
            </a:r>
            <a:r>
              <a:rPr b="0" lang="sv-SE" sz="3200" spc="-1" strike="noStrike">
                <a:solidFill>
                  <a:srgbClr val="ffffeb"/>
                </a:solidFill>
                <a:latin typeface="Symbol"/>
                <a:ea typeface="Symbol"/>
              </a:rPr>
              <a:t>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0, gamma correction i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1523880"/>
                <a:ext cx="28958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527120" y="5187960"/>
                <a:ext cx="1974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y is it important to care about gamma correction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ortability across platform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mage qualit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tur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nterpol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e solution is to put gamma correction in hardware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ansparency and alpha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nsparenc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Very simple in real-time context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tool: alpha blending (mix two colors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pha (</a:t>
            </a:r>
            <a:r>
              <a:rPr b="0" lang="sv-SE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) is another component in the frame buffer, or on triang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epresents the opacity 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1.0 is totally opaqu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0.0 is totally transparen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over operator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037400" y="5535720"/>
            <a:ext cx="4957200" cy="1324800"/>
            <a:chOff x="4037400" y="5535720"/>
            <a:chExt cx="4957200" cy="132480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4876920" y="5535720"/>
                  <a:ext cx="411768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αc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4037400" y="6400800"/>
              <a:ext cx="21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Rendered objec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095880" y="6172200"/>
              <a:ext cx="228600" cy="4572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ansparency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ed to sort the transparent object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ender back to fron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ots of different other blending mod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store RGB</a:t>
            </a:r>
            <a:r>
              <a:rPr b="0" lang="sv-SE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n textures as wel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wo way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Unmultipli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remultipli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verview of today’s lectur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fresher on simple lighting mode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lus some new stuff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o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amma corr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nsparency and 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ute lighting at vertices,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n interpolate over triang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41907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How compute lighting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e  could set colors per vertex manuall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or a </a:t>
            </a:r>
            <a:r>
              <a:rPr b="1" lang="sv-SE" sz="2800" spc="-1" strike="noStrike">
                <a:solidFill>
                  <a:srgbClr val="ffffeb"/>
                </a:solidFill>
                <a:latin typeface="Arial"/>
              </a:rPr>
              <a:t>little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more realism, compute lighting from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Light sourc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aterial properti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Geometrical relationship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1371600"/>
            <a:ext cx="8153640" cy="2590920"/>
            <a:chOff x="838080" y="1371600"/>
            <a:chExt cx="8153640" cy="2590920"/>
          </a:xfrm>
        </p:grpSpPr>
        <p:sp>
          <p:nvSpPr>
            <p:cNvPr id="96" name=""/>
            <p:cNvSpPr/>
            <p:nvPr/>
          </p:nvSpPr>
          <p:spPr>
            <a:xfrm>
              <a:off x="990720" y="2209680"/>
              <a:ext cx="114300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6680" y="3352680"/>
              <a:ext cx="106704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2209680"/>
              <a:ext cx="7596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990720" y="1752480"/>
              <a:ext cx="15228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66680" y="2971800"/>
              <a:ext cx="304920" cy="3808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133720" y="3276360"/>
              <a:ext cx="533160" cy="2286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38280" y="167652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2720" y="152388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371600"/>
              <a:ext cx="2590920" cy="259092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2590920"/>
              <a:ext cx="3808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9880" y="2362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2590920"/>
              <a:ext cx="381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7400" y="2209680"/>
              <a:ext cx="114300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3720" y="3352680"/>
              <a:ext cx="10666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7400" y="2209680"/>
              <a:ext cx="763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1371600"/>
              <a:ext cx="2133360" cy="259092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63920" y="1828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blu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9600" y="3352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red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81800" y="342900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115" name="tri_solid" descr=""/>
            <p:cNvPicPr/>
            <p:nvPr/>
          </p:nvPicPr>
          <p:blipFill>
            <a:blip r:embed="rId1"/>
            <a:stretch/>
          </p:blipFill>
          <p:spPr>
            <a:xfrm>
              <a:off x="7620120" y="19810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238880" y="2590920"/>
              <a:ext cx="381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48720" y="14479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fresher on light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iffuse component : </a:t>
            </a:r>
            <a:r>
              <a:rPr b="1" lang="sv-SE" sz="3600" spc="-1" strike="noStrike">
                <a:solidFill>
                  <a:srgbClr val="ffff9b"/>
                </a:solidFill>
                <a:latin typeface="Times New Roman"/>
              </a:rPr>
              <a:t>i</a:t>
            </a:r>
            <a:r>
              <a:rPr b="1" i="1" lang="sv-SE" sz="1800" spc="-1" strike="noStrike">
                <a:solidFill>
                  <a:srgbClr val="ffff9b"/>
                </a:solidFill>
                <a:latin typeface="Times New Roman"/>
              </a:rPr>
              <a:t>diff</a:t>
            </a:r>
            <a:endParaRPr b="1" lang="en-US" sz="18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=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i="1" lang="sv-SE" sz="1600" spc="-1" strike="noStrike">
                <a:solidFill>
                  <a:srgbClr val="ffffeb"/>
                </a:solidFill>
                <a:latin typeface="Times New Roman"/>
              </a:rPr>
              <a:t>amb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i="1" lang="sv-SE" sz="1600" spc="-1" strike="noStrike">
                <a:solidFill>
                  <a:srgbClr val="ffffeb"/>
                </a:solidFill>
                <a:latin typeface="Times New Roman"/>
              </a:rPr>
              <a:t>diff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i="1" lang="sv-SE" sz="1600" spc="-1" strike="noStrike">
                <a:solidFill>
                  <a:srgbClr val="ffffeb"/>
                </a:solidFill>
                <a:latin typeface="Times New Roman"/>
              </a:rPr>
              <a:t>spec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iffuse is Lambert’s law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81680" y="1981080"/>
                <a:ext cx="2409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" name="diffuse" descr=""/>
          <p:cNvPicPr/>
          <p:nvPr/>
        </p:nvPicPr>
        <p:blipFill>
          <a:blip r:embed="rId1"/>
          <a:stretch/>
        </p:blipFill>
        <p:spPr>
          <a:xfrm>
            <a:off x="76320" y="4267080"/>
            <a:ext cx="3962160" cy="2516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2514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hotons are scattered equally in all direction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23" name="diff_exp1" descr=""/>
          <p:cNvPicPr/>
          <p:nvPr/>
        </p:nvPicPr>
        <p:blipFill>
          <a:blip r:embed="rId2"/>
          <a:stretch/>
        </p:blipFill>
        <p:spPr>
          <a:xfrm>
            <a:off x="4229280" y="4114800"/>
            <a:ext cx="2247840" cy="2743200"/>
          </a:xfrm>
          <a:prstGeom prst="rect">
            <a:avLst/>
          </a:prstGeom>
          <a:ln w="0">
            <a:noFill/>
          </a:ln>
        </p:spPr>
      </p:pic>
      <p:pic>
        <p:nvPicPr>
          <p:cNvPr id="124" name="diff_exp2" descr=""/>
          <p:cNvPicPr/>
          <p:nvPr/>
        </p:nvPicPr>
        <p:blipFill>
          <a:blip r:embed="rId3"/>
          <a:stretch/>
        </p:blipFill>
        <p:spPr>
          <a:xfrm>
            <a:off x="6445080" y="4114800"/>
            <a:ext cx="269892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teapot_diff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73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143000" y="3505320"/>
                <a:ext cx="31352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ff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Light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pecular component : </a:t>
            </a:r>
            <a:r>
              <a:rPr b="1" lang="sv-SE" sz="3600" spc="-1" strike="noStrike">
                <a:solidFill>
                  <a:srgbClr val="ffff9b"/>
                </a:solidFill>
                <a:latin typeface="Times New Roman"/>
              </a:rPr>
              <a:t>i</a:t>
            </a:r>
            <a:r>
              <a:rPr b="1" i="1" lang="sv-SE" sz="1800" spc="-1" strike="noStrike">
                <a:solidFill>
                  <a:srgbClr val="ffff9b"/>
                </a:solidFill>
                <a:latin typeface="Times New Roman"/>
              </a:rPr>
              <a:t>spec</a:t>
            </a:r>
            <a:endParaRPr b="1" lang="en-US" sz="18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iffuse is dull (left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ecular: simulates a highligh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9" name="teapot_diff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2489040" cy="1493640"/>
          </a:xfrm>
          <a:prstGeom prst="rect">
            <a:avLst/>
          </a:prstGeom>
          <a:ln w="0">
            <a:noFill/>
          </a:ln>
        </p:spPr>
      </p:pic>
      <p:pic>
        <p:nvPicPr>
          <p:cNvPr id="130" name="teapot_full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2514600" cy="1508040"/>
          </a:xfrm>
          <a:prstGeom prst="rect">
            <a:avLst/>
          </a:prstGeom>
          <a:ln w="0">
            <a:noFill/>
          </a:ln>
        </p:spPr>
      </p:pic>
      <p:pic>
        <p:nvPicPr>
          <p:cNvPr id="131" name="specular" descr=""/>
          <p:cNvPicPr/>
          <p:nvPr/>
        </p:nvPicPr>
        <p:blipFill>
          <a:blip r:embed="rId3"/>
          <a:stretch/>
        </p:blipFill>
        <p:spPr>
          <a:xfrm>
            <a:off x="2209680" y="4208400"/>
            <a:ext cx="419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pecular component: Pho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hong specular highlight mod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2970360" cy="198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14400" y="18288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flect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l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round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n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71440" y="2362320"/>
                <a:ext cx="28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" name=""/>
          <p:cNvGrpSpPr/>
          <p:nvPr/>
        </p:nvGrpSpPr>
        <p:grpSpPr>
          <a:xfrm>
            <a:off x="5943600" y="1447920"/>
            <a:ext cx="3124080" cy="1635120"/>
            <a:chOff x="5943600" y="1447920"/>
            <a:chExt cx="3124080" cy="1635120"/>
          </a:xfrm>
        </p:grpSpPr>
        <p:sp>
          <p:nvSpPr>
            <p:cNvPr id="138" name=""/>
            <p:cNvSpPr/>
            <p:nvPr/>
          </p:nvSpPr>
          <p:spPr>
            <a:xfrm>
              <a:off x="5943600" y="2930760"/>
              <a:ext cx="3124080" cy="152280"/>
            </a:xfrm>
            <a:prstGeom prst="rect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391160" y="1940040"/>
              <a:ext cx="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1692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391160" y="2397240"/>
              <a:ext cx="91404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77680" y="20163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19520" y="1940040"/>
            <a:ext cx="972000" cy="989640"/>
            <a:chOff x="6419520" y="1940040"/>
            <a:chExt cx="972000" cy="989640"/>
          </a:xfrm>
        </p:grpSpPr>
        <p:sp>
          <p:nvSpPr>
            <p:cNvPr id="144" name=""/>
            <p:cNvSpPr/>
            <p:nvPr/>
          </p:nvSpPr>
          <p:spPr>
            <a:xfrm flipH="1" flipV="1">
              <a:off x="6477120" y="2396520"/>
              <a:ext cx="9144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19520" y="1940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477120" y="2930400"/>
            <a:ext cx="914400" cy="916920"/>
            <a:chOff x="6477120" y="2930400"/>
            <a:chExt cx="914400" cy="916920"/>
          </a:xfrm>
        </p:grpSpPr>
        <p:sp>
          <p:nvSpPr>
            <p:cNvPr id="147" name=""/>
            <p:cNvSpPr/>
            <p:nvPr/>
          </p:nvSpPr>
          <p:spPr>
            <a:xfrm flipH="1">
              <a:off x="6477120" y="2930400"/>
              <a:ext cx="914400" cy="533160"/>
            </a:xfrm>
            <a:prstGeom prst="line">
              <a:avLst/>
            </a:prstGeom>
            <a:ln cap="rnd" w="28440">
              <a:solidFill>
                <a:srgbClr val="00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840" y="33876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-</a:t>
              </a: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467320" y="2930040"/>
            <a:ext cx="1009800" cy="533520"/>
            <a:chOff x="5467320" y="2930040"/>
            <a:chExt cx="1009800" cy="533520"/>
          </a:xfrm>
        </p:grpSpPr>
        <p:sp>
          <p:nvSpPr>
            <p:cNvPr id="150" name=""/>
            <p:cNvSpPr/>
            <p:nvPr/>
          </p:nvSpPr>
          <p:spPr>
            <a:xfrm flipV="1">
              <a:off x="6477120" y="2930040"/>
              <a:ext cx="0" cy="533160"/>
            </a:xfrm>
            <a:prstGeom prst="line">
              <a:avLst/>
            </a:prstGeom>
            <a:ln cap="rnd" w="28440">
              <a:solidFill>
                <a:srgbClr val="00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67320" y="3036600"/>
                  <a:ext cx="93348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" name=""/>
          <p:cNvSpPr/>
          <p:nvPr/>
        </p:nvSpPr>
        <p:spPr>
          <a:xfrm flipV="1">
            <a:off x="6477120" y="2396880"/>
            <a:ext cx="0" cy="5331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91520" y="2397240"/>
            <a:ext cx="1752480" cy="532800"/>
            <a:chOff x="7391520" y="2397240"/>
            <a:chExt cx="1752480" cy="532800"/>
          </a:xfrm>
        </p:grpSpPr>
        <p:grpSp>
          <p:nvGrpSpPr>
            <p:cNvPr id="154" name=""/>
            <p:cNvGrpSpPr/>
            <p:nvPr/>
          </p:nvGrpSpPr>
          <p:grpSpPr>
            <a:xfrm>
              <a:off x="8534520" y="2397240"/>
              <a:ext cx="609480" cy="532800"/>
              <a:chOff x="8534520" y="2397240"/>
              <a:chExt cx="609480" cy="53280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8534520" y="2397240"/>
                <a:ext cx="0" cy="228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34520" y="262548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8610840" y="2473200"/>
                    <a:ext cx="533160" cy="34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8" name=""/>
            <p:cNvSpPr/>
            <p:nvPr/>
          </p:nvSpPr>
          <p:spPr>
            <a:xfrm flipH="1">
              <a:off x="7391520" y="2397240"/>
              <a:ext cx="9144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90720" y="2743200"/>
                <a:ext cx="42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e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i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14400" y="5638680"/>
                <a:ext cx="5715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e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i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ec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24320" y="3753000"/>
            <a:ext cx="4514760" cy="196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6248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ad about Blinns highlight formula: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n</a:t>
            </a:r>
            <a:r>
              <a:rPr b="1" lang="sv-SE" sz="32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h)</a:t>
            </a:r>
            <a:r>
              <a:rPr b="0" lang="sv-SE" sz="3200" spc="-1" strike="noStrike" baseline="30000">
                <a:solidFill>
                  <a:srgbClr val="ffffe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mbient component: </a:t>
            </a:r>
            <a:r>
              <a:rPr b="1" lang="sv-SE" sz="3600" spc="-1" strike="noStrike">
                <a:solidFill>
                  <a:srgbClr val="ffff9b"/>
                </a:solidFill>
                <a:latin typeface="Times New Roman"/>
              </a:rPr>
              <a:t>i</a:t>
            </a:r>
            <a:r>
              <a:rPr b="1" i="1" lang="sv-SE" sz="1800" spc="-1" strike="noStrike">
                <a:solidFill>
                  <a:srgbClr val="ffff9b"/>
                </a:solidFill>
                <a:latin typeface="Times New Roman"/>
              </a:rPr>
              <a:t>amb</a:t>
            </a:r>
            <a:endParaRPr b="1" lang="en-US" sz="18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d-hoc – tries to account for light coming from other surfa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Just add a constant color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62320" y="3200400"/>
                <a:ext cx="2958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Light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Times New Roman"/>
              </a:rPr>
              <a:t>i=i</a:t>
            </a:r>
            <a:r>
              <a:rPr b="1" i="1" lang="sv-SE" sz="1800" spc="-1" strike="noStrike">
                <a:solidFill>
                  <a:srgbClr val="ffff9b"/>
                </a:solidFill>
                <a:latin typeface="Times New Roman"/>
              </a:rPr>
              <a:t>amb</a:t>
            </a:r>
            <a:r>
              <a:rPr b="1" lang="sv-SE" sz="3600" spc="-1" strike="noStrike">
                <a:solidFill>
                  <a:srgbClr val="ffff9b"/>
                </a:solidFill>
                <a:latin typeface="Times New Roman"/>
              </a:rPr>
              <a:t>+i</a:t>
            </a:r>
            <a:r>
              <a:rPr b="1" i="1" lang="sv-SE" sz="1800" spc="-1" strike="noStrike">
                <a:solidFill>
                  <a:srgbClr val="ffff9b"/>
                </a:solidFill>
                <a:latin typeface="Times New Roman"/>
              </a:rPr>
              <a:t>diff</a:t>
            </a:r>
            <a:r>
              <a:rPr b="1" lang="sv-SE" sz="3600" spc="-1" strike="noStrike">
                <a:solidFill>
                  <a:srgbClr val="ffff9b"/>
                </a:solidFill>
                <a:latin typeface="Times New Roman"/>
              </a:rPr>
              <a:t>+i</a:t>
            </a:r>
            <a:r>
              <a:rPr b="1" i="1" lang="sv-SE" sz="1800" spc="-1" strike="noStrike">
                <a:solidFill>
                  <a:srgbClr val="ffff9b"/>
                </a:solidFill>
                <a:latin typeface="Times New Roman"/>
              </a:rPr>
              <a:t>spec</a:t>
            </a:r>
            <a:br>
              <a:rPr sz="1800"/>
            </a:br>
            <a:endParaRPr b="1" lang="en-US" sz="18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5409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is is just a hack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as little to do with how reality works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78640" y="1523880"/>
            <a:ext cx="2565360" cy="154008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657600" y="1523880"/>
            <a:ext cx="2894040" cy="1540080"/>
            <a:chOff x="3657600" y="1523880"/>
            <a:chExt cx="2894040" cy="154008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3657600" y="1523880"/>
              <a:ext cx="256536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198840" y="21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62120" y="1523880"/>
            <a:ext cx="2868480" cy="1524240"/>
            <a:chOff x="762120" y="1523880"/>
            <a:chExt cx="2868480" cy="152424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762120" y="1523880"/>
              <a:ext cx="2514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277800" y="21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693880" y="3124080"/>
            <a:ext cx="3909960" cy="2041560"/>
            <a:chOff x="2693880" y="3124080"/>
            <a:chExt cx="3909960" cy="2041560"/>
          </a:xfrm>
        </p:grpSpPr>
        <p:sp>
          <p:nvSpPr>
            <p:cNvPr id="176" name=""/>
            <p:cNvSpPr/>
            <p:nvPr/>
          </p:nvSpPr>
          <p:spPr>
            <a:xfrm>
              <a:off x="2693880" y="3962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3200400" y="3124080"/>
              <a:ext cx="3403440" cy="20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7093080" y="4292640"/>
            <a:ext cx="1800000" cy="1081080"/>
          </a:xfrm>
          <a:prstGeom prst="rect">
            <a:avLst/>
          </a:prstGeom>
          <a:solidFill>
            <a:srgbClr val="ffff0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DEMO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dditions to the lighting equ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pends on distance: 1/(a+bt+ct  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have more lights: just sum their respective contribu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ifferent light typ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40960" y="12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82" name="lights_typ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4000680" cy="1455840"/>
          </a:xfrm>
          <a:prstGeom prst="rect">
            <a:avLst/>
          </a:prstGeom>
          <a:ln w="0">
            <a:noFill/>
          </a:ln>
        </p:spPr>
      </p:pic>
      <p:pic>
        <p:nvPicPr>
          <p:cNvPr id="183" name="lights_ex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68580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3-03-19T18:58:43Z</dcterms:modified>
  <cp:revision>157</cp:revision>
  <dc:subject/>
  <dc:title>CS248</dc:title>
</cp:coreProperties>
</file>