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1AB2A-436D-42A3-B962-E72C5567BF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0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6EB0C-B900-4B71-A601-E4A2C1C41F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37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2E2D4-73E2-4DB1-A332-AC80CFAD6B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94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248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0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94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248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DA9A1-4CF9-4F1E-B6C9-564EA22051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CFE42-D4ED-4D0F-B825-F4466B7A8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753D4-95D3-4C78-A4F6-BE9918C5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12BB3-F13D-4ECD-902A-C06D6550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85536-0E94-42DB-9D80-DEDBC8DE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7377C-F7C5-41D9-8DC1-AFCC906B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360" y="1519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63916-F2DA-4EF5-923F-5EC01CEB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2C632-304B-4C15-B33E-DD300295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BFB7F-4E09-4D86-BA54-CF81EC61C9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137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9542C-2F2F-4D8F-9ECF-2E8A19E9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1A922-F3ED-49C0-96CB-B09DF392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0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0E7F1-C3E3-430E-BF97-085F008F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137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53F33-2E31-4EC5-90FA-90B1E633F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94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248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0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94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248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56211-281E-4DC2-96FA-09E116B1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7347B-E8C4-4020-ACF1-57D36198D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1443F-D257-4C16-915A-9EEBDAAA26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1D8FA-CAE8-4A46-8424-13E2B4E02B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360" y="1519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A197D-871F-4FD8-B8B9-DC30D92FC2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2AB19-B2EE-46E9-8CBA-723B8D759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37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ED820-F711-4787-B743-B9E022092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5F2F5-B780-4713-8DDF-4CC2B197C3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38080" cy="6858000"/>
          </a:xfrm>
          <a:prstGeom prst="rect">
            <a:avLst/>
          </a:prstGeom>
          <a:solidFill>
            <a:srgbClr val="25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0"/>
            <a:ext cx="2514600" cy="1676520"/>
          </a:xfrm>
          <a:prstGeom prst="rect">
            <a:avLst/>
          </a:prstGeom>
          <a:solidFill>
            <a:srgbClr val="25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1371600"/>
            <a:ext cx="5105520" cy="6094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eb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248160" y="6550560"/>
            <a:ext cx="28191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82b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82be"/>
                </a:solidFill>
                <a:latin typeface="Arial"/>
              </a:rPr>
              <a:t>Tomas Akenine-M</a:t>
            </a:r>
            <a:r>
              <a:rPr b="0" lang="en-US" sz="1400" spc="-1" strike="noStrike">
                <a:solidFill>
                  <a:srgbClr val="5a82be"/>
                </a:solidFill>
                <a:latin typeface="Arial"/>
                <a:ea typeface="Arial"/>
              </a:rPr>
              <a:t>ő</a:t>
            </a:r>
            <a:r>
              <a:rPr b="0" lang="en-US" sz="1400" spc="-1" strike="noStrike">
                <a:solidFill>
                  <a:srgbClr val="5a82be"/>
                </a:solidFill>
                <a:latin typeface="Arial"/>
              </a:rPr>
              <a:t>ller </a:t>
            </a:r>
            <a:r>
              <a:rPr b="0" lang="en-US" sz="1400" spc="-1" strike="noStrike">
                <a:solidFill>
                  <a:srgbClr val="5a82be"/>
                </a:solidFill>
                <a:latin typeface="Arial"/>
                <a:ea typeface="Arial"/>
              </a:rPr>
              <a:t>©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CC13-48F5-4812-A196-F84FD62AF53E}" type="slidenum">
              <a:rPr b="1" lang="en-US" sz="26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25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6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dt" idx="3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4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5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9CAB-F9AA-47E4-8D38-0C4BF095FDC5}" type="slidenum">
              <a:rPr b="1" lang="en-US" sz="26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b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eb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eb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6720" y="1197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9"/>
                </a:solidFill>
                <a:latin typeface="Arial"/>
              </a:rPr>
              <a:t>Triangle Strips &amp; Meshes </a:t>
            </a:r>
            <a:br>
              <a:rPr sz="3600"/>
            </a:br>
            <a:r>
              <a:rPr b="1" lang="sv-SE" sz="3600" spc="-1" strike="noStrike">
                <a:solidFill>
                  <a:srgbClr val="ffff99"/>
                </a:solidFill>
                <a:latin typeface="Arial"/>
              </a:rPr>
              <a:t>and</a:t>
            </a:r>
            <a:br>
              <a:rPr sz="3600"/>
            </a:br>
            <a:r>
              <a:rPr b="1" lang="sv-SE" sz="3600" spc="-1" strike="noStrike">
                <a:solidFill>
                  <a:srgbClr val="ffff99"/>
                </a:solidFill>
                <a:latin typeface="Arial"/>
              </a:rPr>
              <a:t>Pipeline optimization</a:t>
            </a:r>
            <a:br>
              <a:rPr sz="3600"/>
            </a:b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73520" y="3428640"/>
            <a:ext cx="44704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b"/>
                </a:solidFill>
                <a:latin typeface="Arial"/>
              </a:rPr>
              <a:t>Tomas Akenine-Möller</a:t>
            </a:r>
            <a:endParaRPr b="0" lang="en-US" sz="2000" spc="-1" strike="noStrike">
              <a:solidFill>
                <a:srgbClr val="ffff0b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b"/>
                </a:solidFill>
                <a:latin typeface="Arial"/>
              </a:rPr>
              <a:t>Department of Computer Engineering</a:t>
            </a:r>
            <a:endParaRPr b="0" lang="en-US" sz="2000" spc="-1" strike="noStrike">
              <a:solidFill>
                <a:srgbClr val="ffff0b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b"/>
                </a:solidFill>
                <a:latin typeface="Arial"/>
              </a:rPr>
              <a:t>Chalmers University of Technology</a:t>
            </a:r>
            <a:endParaRPr b="0" lang="en-US" sz="2000" spc="-1" strike="noStrike">
              <a:solidFill>
                <a:srgbClr val="ffff0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How to create triangle strips from a 3D model?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Manually 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only doable for small models, and not fun…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NVIDIAs </a:t>
            </a:r>
            <a:r>
              <a:rPr b="1" lang="sv-SE" sz="3200" spc="-1" strike="noStrike">
                <a:solidFill>
                  <a:srgbClr val="ffffeb"/>
                </a:solidFill>
                <a:latin typeface="Courier New"/>
              </a:rPr>
              <a:t>NVTriStripper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(on the web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Or make your own progra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Need to know triangle’s neighbors (page 278 for an algorithm for this)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Read section 7.4.3 in book, about the SGI algorithm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It’s quite simple to make a working strip-creator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To make a really good one is more work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Triangle meshe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Only specify each vertex once in a buff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hen send (e.g., 16 bit) indices to identify vertices in buff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Example: make a buffer of 100 unique vertice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A triangle is sent as 3 indices into this buffer: 97, 5, 32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n interesting thing is that we can send those indices in the triangle strip for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Vertex arrays (OpenGL) vertex buffers (DirectX)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99640" y="1412640"/>
            <a:ext cx="82090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riangle strips and vertex buffers are (often) fastest way to send triangles today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Store vertex data sequentially memory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Just pass the pointer to the API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he API itself then copies the data from memory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Avoids expensive copying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Can specify triangles as strips, single triangles, etc, etc.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Expensive to switch between vertex buffers, so use the technique with 4 degenerate triangles (presented previously) to connect disconnected triangles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Pipeline Optimization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Chapter 8: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”</a:t>
            </a:r>
            <a:r>
              <a:rPr b="0" i="1" lang="sv-SE" sz="3200" spc="-1" strike="noStrike">
                <a:solidFill>
                  <a:srgbClr val="ffffeb"/>
                </a:solidFill>
                <a:latin typeface="Arial"/>
              </a:rPr>
              <a:t>Premature optimization is the root of all evil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”, Donald Knuth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Make it run first, then optimiz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But only optimize where it makes any differenc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his lecture deals with finding bottleneck, and how to make them go away (to another place, which we can optimize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Pipeline optimization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ry to make algorithmic changes first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Examples: culling techniques, spatial data structures for faster ray tracing.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When you’re (nearly) satisfied: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Turn to optimization techniques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That is, do this last!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Conceptual pipeline: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Application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Geometry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Rasterizer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We’ll look into techniques for optimizing each stage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Repeat: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The pipeline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Compare to: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eb"/>
                </a:solidFill>
                <a:latin typeface="Arial"/>
              </a:rPr>
              <a:t>Oil pipeline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eb"/>
                </a:solidFill>
                <a:latin typeface="Arial"/>
              </a:rPr>
              <a:t>Car building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eb"/>
                </a:solidFill>
                <a:latin typeface="Arial"/>
              </a:rPr>
              <a:t>Skilift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Stages execute in parallel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Always one stage (slowest) that is the bottleneck of the pipeline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The bottleneck determines throughput (i.e., maximum speed)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The bottleneck is the ”average bottleneck over a frame”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eb"/>
                </a:solidFill>
                <a:latin typeface="Arial"/>
              </a:rPr>
              <a:t>Cannot measure ”intra-frame” bottlenecks easily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Most important in optimization: find bottleneck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Then optimize that stage!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Finding the bottleneck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wo bottleneck location techniques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First technique: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Make a certain stage work less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If performance is the better, then that stage is the bottleneck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Second technique (similar):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Make the other two stages work less or (better) not at all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If performance is the same, then the stages not included above is the bottleneck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Complication: the bus between CPU and graphics card may be bottleneck (not a typical stage)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Application (CPU) stage is bottleneck?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Application (CPU) is bottleneck?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Use </a:t>
            </a:r>
            <a:r>
              <a:rPr b="1" lang="sv-SE" sz="2200" spc="-1" strike="noStrike">
                <a:solidFill>
                  <a:srgbClr val="ffffeb"/>
                </a:solidFill>
                <a:latin typeface="Courier New"/>
              </a:rPr>
              <a:t>top</a:t>
            </a: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 on Unix systems, TaskManager on Windows.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If your app uses (near) 100% of CPU time, then it is very likely that the application is the bottleneck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Make CPU do less work (e.g., turn off collision-detection)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Replace glVertex and glNormal with glColor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eb"/>
                </a:solidFill>
                <a:latin typeface="Arial"/>
              </a:rPr>
              <a:t>Makes the geometry and rasterizer do almost nothing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eb"/>
                </a:solidFill>
                <a:latin typeface="Arial"/>
              </a:rPr>
              <a:t>No vertices to transform, no normals to compute lighting for, no triangles to rasterize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Your program is then ”CPU-bound”, or ”CPU-limited”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Geometry stage is bottleneck?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rickiest stage to test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Because, if you change workload here, then the workload of application and rasterizer often changes as well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However, number of light sources only affects geometry stage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So, disable light sources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If performance goes up, then geometry is bottleneck, and program is ”transform-limited”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Another test: enable all light sources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If performance stays the same, then geometry stage is NOT the bottleneck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Another: test CPU and rasterizer instead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Rasterizer stage is bottleneck?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he easiest, and fastest to test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Simply, decrease the size of the window you render to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his does not change the workload for the application or the geometry stage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But the rasterizer needs to fill fewer pixels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If the performance goes up, then the program is ”fill-limited” or ”fill-bound”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You can also make the rasterizer work less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Turn of texturing, fog, blending, depth buffering etc (if your architecture have performance penalties for these)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alk about lower-level optimization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Higher-level optimization is ”better algorithms”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Example: not using a spatial data structure vs. using one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fter that pipeline optimization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A cookbook of tricks and techniques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One way of optimizing performance of the geometry stage is triangle strips and meshes.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Let’s turn to Optimization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Single-most important ”trick”: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36360" y="1483920"/>
            <a:ext cx="8459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ffffeb"/>
                </a:solidFill>
                <a:latin typeface="Arial"/>
              </a:rPr>
              <a:t>KNOW YOUR ARCHITECTURES!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Optimization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Optimize the bottleneck stag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Only put enough effort, so that the bottleneck stage moves.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Did you get enough performance?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Yes! Quit optimiz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NO! Continute optimize the new bottleneck (if it has moved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Illustration of optimization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040" y="2924280"/>
            <a:ext cx="80010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Height of bar is equal to time it takes for that stage for one image (frame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Highest bar is bottleneck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938880" y="1333440"/>
            <a:ext cx="2266200" cy="1737000"/>
            <a:chOff x="938880" y="1333440"/>
            <a:chExt cx="2266200" cy="1737000"/>
          </a:xfrm>
        </p:grpSpPr>
        <p:grpSp>
          <p:nvGrpSpPr>
            <p:cNvPr id="255" name=""/>
            <p:cNvGrpSpPr/>
            <p:nvPr/>
          </p:nvGrpSpPr>
          <p:grpSpPr>
            <a:xfrm>
              <a:off x="1979640" y="1476360"/>
              <a:ext cx="1225440" cy="1446840"/>
              <a:chOff x="1979640" y="1476360"/>
              <a:chExt cx="1225440" cy="1446840"/>
            </a:xfrm>
          </p:grpSpPr>
          <p:sp>
            <p:nvSpPr>
              <p:cNvPr id="256" name=""/>
              <p:cNvSpPr/>
              <p:nvPr/>
            </p:nvSpPr>
            <p:spPr>
              <a:xfrm>
                <a:off x="1979640" y="1765440"/>
                <a:ext cx="360360" cy="1150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413080" y="1476360"/>
                <a:ext cx="360360" cy="14400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844720" y="2052720"/>
                <a:ext cx="360360" cy="863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16200000">
                <a:off x="1864440" y="2492280"/>
                <a:ext cx="537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1400" spc="-1" strike="noStrike">
                    <a:solidFill>
                      <a:srgbClr val="ffffeb"/>
                    </a:solidFill>
                    <a:latin typeface="Arial"/>
                  </a:rPr>
                  <a:t>APP</a:t>
                </a:r>
                <a:endParaRPr b="0" lang="en-US" sz="1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6200000">
                <a:off x="2204280" y="2407320"/>
                <a:ext cx="72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1400" spc="-1" strike="noStrike">
                    <a:solidFill>
                      <a:srgbClr val="ffffeb"/>
                    </a:solidFill>
                    <a:latin typeface="Arial"/>
                  </a:rPr>
                  <a:t>GEOM</a:t>
                </a:r>
                <a:endParaRPr b="0" lang="en-US" sz="1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16200000">
                <a:off x="2670840" y="2433600"/>
                <a:ext cx="654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1400" spc="-1" strike="noStrike">
                    <a:solidFill>
                      <a:srgbClr val="ffffeb"/>
                    </a:solidFill>
                    <a:latin typeface="Arial"/>
                  </a:rPr>
                  <a:t>RAST</a:t>
                </a:r>
                <a:endParaRPr b="0" lang="en-US" sz="1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938880" y="1333440"/>
              <a:ext cx="897480" cy="1737000"/>
              <a:chOff x="938880" y="1333440"/>
              <a:chExt cx="897480" cy="1737000"/>
            </a:xfrm>
          </p:grpSpPr>
          <p:sp>
            <p:nvSpPr>
              <p:cNvPr id="263" name=""/>
              <p:cNvSpPr/>
              <p:nvPr/>
            </p:nvSpPr>
            <p:spPr>
              <a:xfrm>
                <a:off x="938880" y="2492280"/>
                <a:ext cx="596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1200" spc="-1" strike="noStrike">
                    <a:solidFill>
                      <a:srgbClr val="ffffeb"/>
                    </a:solidFill>
                    <a:latin typeface="Arial"/>
                  </a:rPr>
                  <a:t>10 ms</a:t>
                </a:r>
                <a:endParaRPr b="0" lang="en-US" sz="12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950040" y="1333440"/>
                <a:ext cx="886320" cy="1737000"/>
                <a:chOff x="950040" y="1333440"/>
                <a:chExt cx="886320" cy="1737000"/>
              </a:xfrm>
            </p:grpSpPr>
            <p:sp>
              <p:nvSpPr>
                <p:cNvPr id="265" name=""/>
                <p:cNvSpPr/>
                <p:nvPr/>
              </p:nvSpPr>
              <p:spPr>
                <a:xfrm flipH="1">
                  <a:off x="1476000" y="2916360"/>
                  <a:ext cx="360360" cy="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H="1">
                  <a:off x="1476000" y="2629080"/>
                  <a:ext cx="360360" cy="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H="1">
                  <a:off x="1476000" y="2341800"/>
                  <a:ext cx="360360" cy="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H="1">
                  <a:off x="1476000" y="2052720"/>
                  <a:ext cx="360360" cy="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>
                  <a:off x="1476000" y="1765440"/>
                  <a:ext cx="360360" cy="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H="1">
                  <a:off x="1476000" y="1476360"/>
                  <a:ext cx="360360" cy="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981000" y="2793960"/>
                  <a:ext cx="5115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v-SE" sz="1200" spc="-1" strike="noStrike">
                      <a:solidFill>
                        <a:srgbClr val="ffffeb"/>
                      </a:solidFill>
                      <a:latin typeface="Arial"/>
                    </a:rPr>
                    <a:t>0 ms</a:t>
                  </a:r>
                  <a:endParaRPr b="0" lang="en-US" sz="12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950040" y="2197080"/>
                  <a:ext cx="5968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v-SE" sz="1200" spc="-1" strike="noStrike">
                      <a:solidFill>
                        <a:srgbClr val="ffffeb"/>
                      </a:solidFill>
                      <a:latin typeface="Arial"/>
                    </a:rPr>
                    <a:t>20 ms</a:t>
                  </a:r>
                  <a:endParaRPr b="0" lang="en-US" sz="12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950040" y="1908360"/>
                  <a:ext cx="5968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v-SE" sz="1200" spc="-1" strike="noStrike">
                      <a:solidFill>
                        <a:srgbClr val="ffffeb"/>
                      </a:solidFill>
                      <a:latin typeface="Arial"/>
                    </a:rPr>
                    <a:t>30 ms</a:t>
                  </a:r>
                  <a:endParaRPr b="0" lang="en-US" sz="12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950040" y="1621080"/>
                  <a:ext cx="5968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v-SE" sz="1200" spc="-1" strike="noStrike">
                      <a:solidFill>
                        <a:srgbClr val="ffffeb"/>
                      </a:solidFill>
                      <a:latin typeface="Arial"/>
                    </a:rPr>
                    <a:t>40 ms</a:t>
                  </a:r>
                  <a:endParaRPr b="0" lang="en-US" sz="12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950040" y="1333440"/>
                  <a:ext cx="5968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v-SE" sz="1200" spc="-1" strike="noStrike">
                      <a:solidFill>
                        <a:srgbClr val="ffffeb"/>
                      </a:solidFill>
                      <a:latin typeface="Arial"/>
                    </a:rPr>
                    <a:t>50 ms</a:t>
                  </a:r>
                  <a:endParaRPr b="0" lang="en-US" sz="12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76" name=""/>
          <p:cNvGrpSpPr/>
          <p:nvPr/>
        </p:nvGrpSpPr>
        <p:grpSpPr>
          <a:xfrm>
            <a:off x="6339600" y="1341360"/>
            <a:ext cx="2264760" cy="1737000"/>
            <a:chOff x="6339600" y="1341360"/>
            <a:chExt cx="2264760" cy="1737000"/>
          </a:xfrm>
        </p:grpSpPr>
        <p:grpSp>
          <p:nvGrpSpPr>
            <p:cNvPr id="277" name=""/>
            <p:cNvGrpSpPr/>
            <p:nvPr/>
          </p:nvGrpSpPr>
          <p:grpSpPr>
            <a:xfrm>
              <a:off x="7378920" y="1773360"/>
              <a:ext cx="1225440" cy="1157760"/>
              <a:chOff x="7378920" y="1773360"/>
              <a:chExt cx="1225440" cy="1157760"/>
            </a:xfrm>
          </p:grpSpPr>
          <p:sp>
            <p:nvSpPr>
              <p:cNvPr id="278" name=""/>
              <p:cNvSpPr/>
              <p:nvPr/>
            </p:nvSpPr>
            <p:spPr>
              <a:xfrm>
                <a:off x="7378920" y="1773360"/>
                <a:ext cx="360360" cy="1150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812360" y="2060640"/>
                <a:ext cx="360360" cy="8636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244000" y="2060640"/>
                <a:ext cx="360360" cy="863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6200000">
                <a:off x="7263720" y="2500200"/>
                <a:ext cx="537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1400" spc="-1" strike="noStrike">
                    <a:solidFill>
                      <a:srgbClr val="ffffeb"/>
                    </a:solidFill>
                    <a:latin typeface="Arial"/>
                  </a:rPr>
                  <a:t>APP</a:t>
                </a:r>
                <a:endParaRPr b="0" lang="en-US" sz="1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6200000">
                <a:off x="7603560" y="2415240"/>
                <a:ext cx="72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1400" spc="-1" strike="noStrike">
                    <a:solidFill>
                      <a:srgbClr val="ffffeb"/>
                    </a:solidFill>
                    <a:latin typeface="Arial"/>
                  </a:rPr>
                  <a:t>GEOM</a:t>
                </a:r>
                <a:endParaRPr b="0" lang="en-US" sz="1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6200000">
                <a:off x="8070120" y="2441520"/>
                <a:ext cx="654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1400" spc="-1" strike="noStrike">
                    <a:solidFill>
                      <a:srgbClr val="ffffeb"/>
                    </a:solidFill>
                    <a:latin typeface="Arial"/>
                  </a:rPr>
                  <a:t>RAST</a:t>
                </a:r>
                <a:endParaRPr b="0" lang="en-US" sz="1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339600" y="1341360"/>
              <a:ext cx="897480" cy="1737000"/>
              <a:chOff x="6339600" y="1341360"/>
              <a:chExt cx="897480" cy="1737000"/>
            </a:xfrm>
          </p:grpSpPr>
          <p:sp>
            <p:nvSpPr>
              <p:cNvPr id="285" name=""/>
              <p:cNvSpPr/>
              <p:nvPr/>
            </p:nvSpPr>
            <p:spPr>
              <a:xfrm>
                <a:off x="6339600" y="2500200"/>
                <a:ext cx="596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1200" spc="-1" strike="noStrike">
                    <a:solidFill>
                      <a:srgbClr val="ffffeb"/>
                    </a:solidFill>
                    <a:latin typeface="Arial"/>
                  </a:rPr>
                  <a:t>10 ms</a:t>
                </a:r>
                <a:endParaRPr b="0" lang="en-US" sz="12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grpSp>
            <p:nvGrpSpPr>
              <p:cNvPr id="286" name=""/>
              <p:cNvGrpSpPr/>
              <p:nvPr/>
            </p:nvGrpSpPr>
            <p:grpSpPr>
              <a:xfrm>
                <a:off x="6350760" y="1341360"/>
                <a:ext cx="886320" cy="1737000"/>
                <a:chOff x="6350760" y="1341360"/>
                <a:chExt cx="886320" cy="1737000"/>
              </a:xfrm>
            </p:grpSpPr>
            <p:sp>
              <p:nvSpPr>
                <p:cNvPr id="287" name=""/>
                <p:cNvSpPr/>
                <p:nvPr/>
              </p:nvSpPr>
              <p:spPr>
                <a:xfrm flipH="1">
                  <a:off x="6876720" y="2924280"/>
                  <a:ext cx="360360" cy="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H="1">
                  <a:off x="6876720" y="2637000"/>
                  <a:ext cx="360360" cy="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6876720" y="2349720"/>
                  <a:ext cx="360360" cy="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H="1">
                  <a:off x="6876720" y="2060640"/>
                  <a:ext cx="360360" cy="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>
                  <a:off x="6876720" y="1773360"/>
                  <a:ext cx="360360" cy="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876720" y="1484280"/>
                  <a:ext cx="360360" cy="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381720" y="2801880"/>
                  <a:ext cx="5115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v-SE" sz="1200" spc="-1" strike="noStrike">
                      <a:solidFill>
                        <a:srgbClr val="ffffeb"/>
                      </a:solidFill>
                      <a:latin typeface="Arial"/>
                    </a:rPr>
                    <a:t>0 ms</a:t>
                  </a:r>
                  <a:endParaRPr b="0" lang="en-US" sz="12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6350760" y="2205000"/>
                  <a:ext cx="5968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v-SE" sz="1200" spc="-1" strike="noStrike">
                      <a:solidFill>
                        <a:srgbClr val="ffffeb"/>
                      </a:solidFill>
                      <a:latin typeface="Arial"/>
                    </a:rPr>
                    <a:t>20 ms</a:t>
                  </a:r>
                  <a:endParaRPr b="0" lang="en-US" sz="12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350760" y="1916280"/>
                  <a:ext cx="5968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v-SE" sz="1200" spc="-1" strike="noStrike">
                      <a:solidFill>
                        <a:srgbClr val="ffffeb"/>
                      </a:solidFill>
                      <a:latin typeface="Arial"/>
                    </a:rPr>
                    <a:t>30 ms</a:t>
                  </a:r>
                  <a:endParaRPr b="0" lang="en-US" sz="12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350760" y="1629000"/>
                  <a:ext cx="5968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v-SE" sz="1200" spc="-1" strike="noStrike">
                      <a:solidFill>
                        <a:srgbClr val="ffffeb"/>
                      </a:solidFill>
                      <a:latin typeface="Arial"/>
                    </a:rPr>
                    <a:t>40 ms</a:t>
                  </a:r>
                  <a:endParaRPr b="0" lang="en-US" sz="12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350760" y="1341360"/>
                  <a:ext cx="5968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v-SE" sz="1200" spc="-1" strike="noStrike">
                      <a:solidFill>
                        <a:srgbClr val="ffffeb"/>
                      </a:solidFill>
                      <a:latin typeface="Arial"/>
                    </a:rPr>
                    <a:t>50 ms</a:t>
                  </a:r>
                  <a:endParaRPr b="0" lang="en-US" sz="12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8" name=""/>
          <p:cNvGrpSpPr/>
          <p:nvPr/>
        </p:nvGrpSpPr>
        <p:grpSpPr>
          <a:xfrm>
            <a:off x="3634920" y="1503360"/>
            <a:ext cx="1945080" cy="846000"/>
            <a:chOff x="3634920" y="1503360"/>
            <a:chExt cx="1945080" cy="846000"/>
          </a:xfrm>
        </p:grpSpPr>
        <p:sp>
          <p:nvSpPr>
            <p:cNvPr id="299" name=""/>
            <p:cNvSpPr/>
            <p:nvPr/>
          </p:nvSpPr>
          <p:spPr>
            <a:xfrm>
              <a:off x="3780000" y="2349360"/>
              <a:ext cx="1800000" cy="0"/>
            </a:xfrm>
            <a:prstGeom prst="line">
              <a:avLst/>
            </a:prstGeom>
            <a:ln w="5724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634920" y="1503360"/>
              <a:ext cx="1936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ffffeb"/>
                  </a:solidFill>
                  <a:latin typeface="Arial"/>
                </a:rPr>
                <a:t>Optimize 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ffffeb"/>
                  </a:solidFill>
                  <a:latin typeface="Arial"/>
                </a:rPr>
                <a:t>geometry stage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900000" y="4579920"/>
            <a:ext cx="8001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fter optimization: bottleneck has moved to APP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No use in optimizing GEOM, turn to optimizing APP instead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Application optimization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Some general idea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52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wo major ways: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Efficient code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eb"/>
                </a:solidFill>
                <a:latin typeface="Arial"/>
              </a:rPr>
              <a:t>Use fewer instructions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eb"/>
                </a:solidFill>
                <a:latin typeface="Arial"/>
              </a:rPr>
              <a:t>Use more efficient instructions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eb"/>
                </a:solidFill>
                <a:latin typeface="Arial"/>
              </a:rPr>
              <a:t>Recode algorithmically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Efficient memory access pattern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But first: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Turn on optimiziation flags in compiler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Code profilers are very useful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eb"/>
                </a:solidFill>
                <a:latin typeface="Arial"/>
              </a:rPr>
              <a:t>Helps finding the places where most of the time is spent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eb"/>
                </a:solidFill>
                <a:latin typeface="Arial"/>
              </a:rPr>
              <a:t>It is (often) useless to optimize code that uses 1% of the time, or code only used in preprocessing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his is time consuming stuff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Detailed code optimization &amp; profiling out of scope…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Don’t do for your project…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3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Various code optimization trick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SIMD intstructions sets are perfect for vector operations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Often 2-4 operations are performed in parallell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SSE, SSE2, 3DNow! are examples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Division is an expensive operation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Between 4-39 times slower that most other instructions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Example of good usage: normalize a vector, </a:t>
            </a:r>
            <a:r>
              <a:rPr b="1" lang="sv-SE" sz="2200" spc="-1" strike="noStrike">
                <a:solidFill>
                  <a:srgbClr val="ffffeb"/>
                </a:solidFill>
                <a:latin typeface="Times New Roman"/>
              </a:rPr>
              <a:t>v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eb"/>
                </a:solidFill>
                <a:latin typeface="Times New Roman"/>
              </a:rPr>
              <a:t>Instead of </a:t>
            </a:r>
            <a:r>
              <a:rPr b="1" lang="sv-SE" sz="18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1800" spc="-1" strike="noStrike">
                <a:solidFill>
                  <a:srgbClr val="ffffeb"/>
                </a:solidFill>
                <a:latin typeface="Times New Roman"/>
              </a:rPr>
              <a:t>=(</a:t>
            </a:r>
            <a:r>
              <a:rPr b="0" i="1" lang="sv-SE" sz="18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i="1" lang="sv-SE" sz="1800" spc="-1" strike="noStrike" baseline="-25000">
                <a:solidFill>
                  <a:srgbClr val="ffffeb"/>
                </a:solidFill>
                <a:latin typeface="Times New Roman"/>
              </a:rPr>
              <a:t>x</a:t>
            </a:r>
            <a:r>
              <a:rPr b="0" lang="sv-SE" sz="1800" spc="-1" strike="noStrike">
                <a:solidFill>
                  <a:srgbClr val="ffffeb"/>
                </a:solidFill>
                <a:latin typeface="Times New Roman"/>
              </a:rPr>
              <a:t>/</a:t>
            </a:r>
            <a:r>
              <a:rPr b="0" i="1" lang="sv-SE" sz="1800" spc="-1" strike="noStrike">
                <a:solidFill>
                  <a:srgbClr val="ffffeb"/>
                </a:solidFill>
                <a:latin typeface="Times New Roman"/>
              </a:rPr>
              <a:t>d,v</a:t>
            </a:r>
            <a:r>
              <a:rPr b="0" i="1" lang="sv-SE" sz="1800" spc="-1" strike="noStrike" baseline="-25000">
                <a:solidFill>
                  <a:srgbClr val="ffffeb"/>
                </a:solidFill>
                <a:latin typeface="Times New Roman"/>
              </a:rPr>
              <a:t>y</a:t>
            </a:r>
            <a:r>
              <a:rPr b="0" lang="sv-SE" sz="1800" spc="-1" strike="noStrike">
                <a:solidFill>
                  <a:srgbClr val="ffffeb"/>
                </a:solidFill>
                <a:latin typeface="Times New Roman"/>
              </a:rPr>
              <a:t>/</a:t>
            </a:r>
            <a:r>
              <a:rPr b="0" i="1" lang="sv-SE" sz="1800" spc="-1" strike="noStrike">
                <a:solidFill>
                  <a:srgbClr val="ffffeb"/>
                </a:solidFill>
                <a:latin typeface="Times New Roman"/>
              </a:rPr>
              <a:t>d,v</a:t>
            </a:r>
            <a:r>
              <a:rPr b="0" i="1" lang="sv-SE" sz="1800" spc="-1" strike="noStrike" baseline="-25000">
                <a:solidFill>
                  <a:srgbClr val="ffffeb"/>
                </a:solidFill>
                <a:latin typeface="Times New Roman"/>
              </a:rPr>
              <a:t>z</a:t>
            </a:r>
            <a:r>
              <a:rPr b="0" lang="sv-SE" sz="1800" spc="-1" strike="noStrike">
                <a:solidFill>
                  <a:srgbClr val="ffffeb"/>
                </a:solidFill>
                <a:latin typeface="Times New Roman"/>
              </a:rPr>
              <a:t>/</a:t>
            </a:r>
            <a:r>
              <a:rPr b="0" i="1" lang="sv-SE" sz="1800" spc="-1" strike="noStrike">
                <a:solidFill>
                  <a:srgbClr val="ffffeb"/>
                </a:solidFill>
                <a:latin typeface="Times New Roman"/>
              </a:rPr>
              <a:t>d</a:t>
            </a:r>
            <a:r>
              <a:rPr b="0" lang="sv-SE" sz="1800" spc="-1" strike="noStrike">
                <a:solidFill>
                  <a:srgbClr val="ffffeb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800" spc="-1" strike="noStrike">
                <a:solidFill>
                  <a:srgbClr val="ffffeb"/>
                </a:solidFill>
                <a:latin typeface="Times New Roman"/>
              </a:rPr>
              <a:t>d</a:t>
            </a:r>
            <a:r>
              <a:rPr b="0" lang="sv-SE" sz="1800" spc="-1" strike="noStrike">
                <a:solidFill>
                  <a:srgbClr val="ffffeb"/>
                </a:solidFill>
                <a:latin typeface="Times New Roman"/>
              </a:rPr>
              <a:t>=</a:t>
            </a:r>
            <a:r>
              <a:rPr b="1" lang="sv-SE" sz="18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1" lang="sv-SE" sz="1800" spc="-1" strike="noStrike" baseline="30000">
                <a:solidFill>
                  <a:srgbClr val="ffffeb"/>
                </a:solidFill>
                <a:latin typeface="Times New Roman"/>
              </a:rPr>
              <a:t>.</a:t>
            </a:r>
            <a:r>
              <a:rPr b="1" lang="sv-SE" sz="1800" spc="-1" strike="noStrike">
                <a:solidFill>
                  <a:srgbClr val="ffffeb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800" spc="-1" strike="noStrike">
                <a:solidFill>
                  <a:srgbClr val="ffffeb"/>
                </a:solidFill>
                <a:latin typeface="Times New Roman"/>
              </a:rPr>
              <a:t>i</a:t>
            </a:r>
            <a:r>
              <a:rPr b="0" lang="sv-SE" sz="1800" spc="-1" strike="noStrike">
                <a:solidFill>
                  <a:srgbClr val="ffffeb"/>
                </a:solidFill>
                <a:latin typeface="Times New Roman"/>
              </a:rPr>
              <a:t>=1/</a:t>
            </a:r>
            <a:r>
              <a:rPr b="0" i="1" lang="sv-SE" sz="1800" spc="-1" strike="noStrike">
                <a:solidFill>
                  <a:srgbClr val="ffffeb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1800" spc="-1" strike="noStrike">
                <a:solidFill>
                  <a:srgbClr val="ffffeb"/>
                </a:solidFill>
                <a:latin typeface="Times New Roman"/>
              </a:rPr>
              <a:t>=</a:t>
            </a:r>
            <a:r>
              <a:rPr b="1" lang="sv-SE" sz="18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1800" spc="-1" strike="noStrike">
                <a:solidFill>
                  <a:srgbClr val="ffffeb"/>
                </a:solidFill>
                <a:latin typeface="Times New Roman"/>
              </a:rPr>
              <a:t>*</a:t>
            </a:r>
            <a:r>
              <a:rPr b="0" i="1" lang="sv-SE" sz="1800" spc="-1" strike="noStrike">
                <a:solidFill>
                  <a:srgbClr val="ffffeb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On some CPUs there are low-precision reciprocal (1/x) and square root reciprocal (1/sqrt(x))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More code optimization trick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Conditional branches are often expensive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If you can avoid </a:t>
            </a:r>
            <a:r>
              <a:rPr b="1" lang="sv-SE" sz="2200" spc="-1" strike="noStrike">
                <a:solidFill>
                  <a:srgbClr val="ffffeb"/>
                </a:solidFill>
                <a:latin typeface="Courier New"/>
              </a:rPr>
              <a:t>if</a:t>
            </a: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-cases, to that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However, sometimes branch prediction on CPUs work remarkably well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Math functions, such as, sin, cos, tan, sqrt, exp, etc are expensive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Sometimes a rough approximation is sufficient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If so, use first few terms in Taylor series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Inline code is good (avoids function calls)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eb"/>
                </a:solidFill>
                <a:latin typeface="Courier New"/>
              </a:rPr>
              <a:t>float</a:t>
            </a: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 (32 bits) is faster than </a:t>
            </a:r>
            <a:r>
              <a:rPr b="1" lang="sv-SE" sz="2800" spc="-1" strike="noStrike">
                <a:solidFill>
                  <a:srgbClr val="ffffeb"/>
                </a:solidFill>
                <a:latin typeface="Courier New"/>
              </a:rPr>
              <a:t>double</a:t>
            </a: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 (64 bits)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Also less data is sent down the pipeline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More code optimization trick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ry different strategies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Compiler optimization is hard to predict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E.g., sometimes  </a:t>
            </a:r>
            <a:r>
              <a:rPr b="1" lang="sv-SE" sz="2200" spc="-1" strike="noStrike">
                <a:solidFill>
                  <a:srgbClr val="ffffeb"/>
                </a:solidFill>
                <a:latin typeface="Courier New"/>
              </a:rPr>
              <a:t>--counter;</a:t>
            </a: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 is faster than     </a:t>
            </a:r>
            <a:r>
              <a:rPr b="1" lang="sv-SE" sz="2200" spc="-1" strike="noStrike">
                <a:solidFill>
                  <a:srgbClr val="ffffeb"/>
                </a:solidFill>
                <a:latin typeface="Courier New"/>
              </a:rPr>
              <a:t>counter--;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Use </a:t>
            </a:r>
            <a:r>
              <a:rPr b="1" lang="sv-SE" sz="2800" spc="-1" strike="noStrike">
                <a:solidFill>
                  <a:srgbClr val="ffffeb"/>
                </a:solidFill>
                <a:latin typeface="Courier New"/>
              </a:rPr>
              <a:t>const</a:t>
            </a: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 in C and C++ to help to compiler with optimization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hese often incur a overhead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Dynamic casting (C++)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Virtual methods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Inherited constructors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Passing </a:t>
            </a:r>
            <a:r>
              <a:rPr b="1" lang="sv-SE" sz="2200" spc="-1" strike="noStrike">
                <a:solidFill>
                  <a:srgbClr val="ffffeb"/>
                </a:solidFill>
                <a:latin typeface="Courier New"/>
              </a:rPr>
              <a:t>struct</a:t>
            </a: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’s by value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Memory optimization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Be aware of memory hierarchy (caches) in a modern comput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Bad memory access pattern can ruin performanc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his is not really about using less memory, though that can help…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More memory optimization trick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If memory is accesses sequentially in program, then store data in that order in memory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Tex coords #0, position #0, tex coords #1, position #1, tex coords #2, position #2, etc.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Cache prefetching is nic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But hard to control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eb"/>
                </a:solidFill>
                <a:latin typeface="Courier New"/>
              </a:rPr>
              <a:t>malloc()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and </a:t>
            </a:r>
            <a:r>
              <a:rPr b="1" lang="sv-SE" sz="3200" spc="-1" strike="noStrike">
                <a:solidFill>
                  <a:srgbClr val="ffffeb"/>
                </a:solidFill>
                <a:latin typeface="Courier New"/>
              </a:rPr>
              <a:t>free()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may be slow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Sometimes better to allocate memory to a pool at startup of program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More memory optimization trick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Align data with size of cache line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Example: on most (if not all) Pentiums, the cache line size if 32 bytes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Now, assume that it takes 30 bytes to store a vertex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Padding with another 2 bytes </a:t>
            </a:r>
            <a:r>
              <a:rPr b="0" lang="sv-SE" sz="2200" spc="-1" strike="noStrike">
                <a:solidFill>
                  <a:srgbClr val="ffffeb"/>
                </a:solidFill>
                <a:latin typeface="Wingdings"/>
                <a:ea typeface="Wingdings"/>
              </a:rPr>
              <a:t></a:t>
            </a: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 32 bytes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This will very likely give better cache performance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Following pointers (linked list) is expensive (if memory is allocated arbitrarily)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Does not use coherence well that cache usually exploits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That is, the address after the one we just used is likely to be used soon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Paper by Smits on ray tracing shows this.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Triangle strips and meshe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What’s the point?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We can send a triangle to the rendering pipeline by sending 3 vertice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The triangle after uses another 3 vertices, and so on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Not efficient…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riangle strips and meshes are bett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Uses locality in geometrical data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[Read about triangle fans in the book]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Geometry stage optimization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Geometry stage does per-vertex op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Best way to optimize: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Triangle strips!!!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Lighting optimization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Spot lights expensive, point light cheaper, directional light cheapest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Disable lighting if possible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Use as few light sources as possible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If you use </a:t>
            </a:r>
            <a:r>
              <a:rPr b="0" lang="sv-SE" sz="2600" spc="-1" strike="noStrike">
                <a:solidFill>
                  <a:srgbClr val="ffffeb"/>
                </a:solidFill>
                <a:latin typeface="Times New Roman"/>
              </a:rPr>
              <a:t>1/d</a:t>
            </a:r>
            <a:r>
              <a:rPr b="0" lang="sv-SE" sz="2600" spc="-1" strike="noStrike" baseline="30000">
                <a:solidFill>
                  <a:srgbClr val="ffffeb"/>
                </a:solidFill>
                <a:latin typeface="Times New Roman"/>
              </a:rPr>
              <a:t>2</a:t>
            </a: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 fallof, then if d&gt;10 (example), disable light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5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500"/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0" dur="500"/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Geometry stage optimization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Normals must be normalized to get correct lighting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Normalize them before, and disable normalizing if possible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Lighting can be computed for both sides of a triangle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If not needed, disable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If light sources are static with respect to geometry, and material is only diffuse 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Then precompute lighting on CPU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Send only precomputed colors (not normals)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Rasterizer stage optimization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Rasterizer stage does per-pixel op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imple way: turn on backface culling if possibl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urn off Z-buffering if possibl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Example: after screen clear, draw large background polygon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Using polygon-aligned BSP trees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Draw in front-to-back ord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ry disable features: texture filtering mode, fog, blending, multisampl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1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Rasterizer stage optimization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o make rasterization faster, need to rasterize fewer (or cheaper) pixel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Make window smaller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Or render to a smaller texture, and then enlarge texture onto screen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Depth complexity is number of times a pixel has been written to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Good for understanding behaviour of application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Examples follows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9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360" y="-54000"/>
            <a:ext cx="80010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Depth complexity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4716360" cy="39859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427640" y="2905200"/>
            <a:ext cx="471636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Overall optimization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General technique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52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Reduce number of primitives (polygon simplification algorithms can do this)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Preprocess geometry and data for your particular architecture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urn off features not in use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Even if no visible effect can be seen, there may be a performance drop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Depth buffering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Blending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Fog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Texturing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3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500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Overall optimization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52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Minimize state changes by grouping objects after stat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Example: objects with the same texture should be rendered together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If all pixels always are drawn, then avoid color buffer clea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Frame buffer reads are expensiv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Display lists may work fast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Precompile a list of primitives for faster rendering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OpenGL API supports this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2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5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0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5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0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6" dur="5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Balancing the pipeline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040" y="3284280"/>
            <a:ext cx="8001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he bottleneck stage sets the frame rate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herefore, the two other stages will be idle for some time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Also, to sync with monitor, there might be idle time for all stages (see book for example)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Exploit this time to make quality of images better if possible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938880" y="1333440"/>
            <a:ext cx="2266200" cy="1737000"/>
            <a:chOff x="938880" y="1333440"/>
            <a:chExt cx="2266200" cy="1737000"/>
          </a:xfrm>
        </p:grpSpPr>
        <p:grpSp>
          <p:nvGrpSpPr>
            <p:cNvPr id="334" name=""/>
            <p:cNvGrpSpPr/>
            <p:nvPr/>
          </p:nvGrpSpPr>
          <p:grpSpPr>
            <a:xfrm>
              <a:off x="1979640" y="1476360"/>
              <a:ext cx="1225440" cy="1446840"/>
              <a:chOff x="1979640" y="1476360"/>
              <a:chExt cx="1225440" cy="1446840"/>
            </a:xfrm>
          </p:grpSpPr>
          <p:sp>
            <p:nvSpPr>
              <p:cNvPr id="335" name=""/>
              <p:cNvSpPr/>
              <p:nvPr/>
            </p:nvSpPr>
            <p:spPr>
              <a:xfrm>
                <a:off x="1979640" y="1765440"/>
                <a:ext cx="360360" cy="1150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413080" y="1476360"/>
                <a:ext cx="360360" cy="14400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844720" y="2052720"/>
                <a:ext cx="360360" cy="863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200000">
                <a:off x="1864440" y="2492280"/>
                <a:ext cx="537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1400" spc="-1" strike="noStrike">
                    <a:solidFill>
                      <a:srgbClr val="ffffeb"/>
                    </a:solidFill>
                    <a:latin typeface="Arial"/>
                  </a:rPr>
                  <a:t>APP</a:t>
                </a:r>
                <a:endParaRPr b="0" lang="en-US" sz="1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6200000">
                <a:off x="2204280" y="2407320"/>
                <a:ext cx="72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1400" spc="-1" strike="noStrike">
                    <a:solidFill>
                      <a:srgbClr val="ffffeb"/>
                    </a:solidFill>
                    <a:latin typeface="Arial"/>
                  </a:rPr>
                  <a:t>GEOM</a:t>
                </a:r>
                <a:endParaRPr b="0" lang="en-US" sz="1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6200000">
                <a:off x="2670840" y="2433600"/>
                <a:ext cx="654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1400" spc="-1" strike="noStrike">
                    <a:solidFill>
                      <a:srgbClr val="ffffeb"/>
                    </a:solidFill>
                    <a:latin typeface="Arial"/>
                  </a:rPr>
                  <a:t>RAST</a:t>
                </a:r>
                <a:endParaRPr b="0" lang="en-US" sz="1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938880" y="1333440"/>
              <a:ext cx="897480" cy="1737000"/>
              <a:chOff x="938880" y="1333440"/>
              <a:chExt cx="897480" cy="1737000"/>
            </a:xfrm>
          </p:grpSpPr>
          <p:sp>
            <p:nvSpPr>
              <p:cNvPr id="342" name=""/>
              <p:cNvSpPr/>
              <p:nvPr/>
            </p:nvSpPr>
            <p:spPr>
              <a:xfrm>
                <a:off x="938880" y="2492280"/>
                <a:ext cx="596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1200" spc="-1" strike="noStrike">
                    <a:solidFill>
                      <a:srgbClr val="ffffeb"/>
                    </a:solidFill>
                    <a:latin typeface="Arial"/>
                  </a:rPr>
                  <a:t>10 ms</a:t>
                </a:r>
                <a:endParaRPr b="0" lang="en-US" sz="12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grpSp>
            <p:nvGrpSpPr>
              <p:cNvPr id="343" name=""/>
              <p:cNvGrpSpPr/>
              <p:nvPr/>
            </p:nvGrpSpPr>
            <p:grpSpPr>
              <a:xfrm>
                <a:off x="950040" y="1333440"/>
                <a:ext cx="886320" cy="1737000"/>
                <a:chOff x="950040" y="1333440"/>
                <a:chExt cx="886320" cy="1737000"/>
              </a:xfrm>
            </p:grpSpPr>
            <p:sp>
              <p:nvSpPr>
                <p:cNvPr id="344" name=""/>
                <p:cNvSpPr/>
                <p:nvPr/>
              </p:nvSpPr>
              <p:spPr>
                <a:xfrm flipH="1">
                  <a:off x="1476000" y="2916360"/>
                  <a:ext cx="360360" cy="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>
                  <a:off x="1476000" y="2629080"/>
                  <a:ext cx="360360" cy="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>
                  <a:off x="1476000" y="2341800"/>
                  <a:ext cx="360360" cy="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flipH="1">
                  <a:off x="1476000" y="2052720"/>
                  <a:ext cx="360360" cy="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H="1">
                  <a:off x="1476000" y="1765440"/>
                  <a:ext cx="360360" cy="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>
                  <a:off x="1476000" y="1476360"/>
                  <a:ext cx="360360" cy="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981000" y="2793960"/>
                  <a:ext cx="5115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v-SE" sz="1200" spc="-1" strike="noStrike">
                      <a:solidFill>
                        <a:srgbClr val="ffffeb"/>
                      </a:solidFill>
                      <a:latin typeface="Arial"/>
                    </a:rPr>
                    <a:t>0 ms</a:t>
                  </a:r>
                  <a:endParaRPr b="0" lang="en-US" sz="12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950040" y="2197080"/>
                  <a:ext cx="5968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v-SE" sz="1200" spc="-1" strike="noStrike">
                      <a:solidFill>
                        <a:srgbClr val="ffffeb"/>
                      </a:solidFill>
                      <a:latin typeface="Arial"/>
                    </a:rPr>
                    <a:t>20 ms</a:t>
                  </a:r>
                  <a:endParaRPr b="0" lang="en-US" sz="12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950040" y="1908360"/>
                  <a:ext cx="5968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v-SE" sz="1200" spc="-1" strike="noStrike">
                      <a:solidFill>
                        <a:srgbClr val="ffffeb"/>
                      </a:solidFill>
                      <a:latin typeface="Arial"/>
                    </a:rPr>
                    <a:t>30 ms</a:t>
                  </a:r>
                  <a:endParaRPr b="0" lang="en-US" sz="12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950040" y="1621080"/>
                  <a:ext cx="5968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v-SE" sz="1200" spc="-1" strike="noStrike">
                      <a:solidFill>
                        <a:srgbClr val="ffffeb"/>
                      </a:solidFill>
                      <a:latin typeface="Arial"/>
                    </a:rPr>
                    <a:t>40 ms</a:t>
                  </a:r>
                  <a:endParaRPr b="0" lang="en-US" sz="12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950040" y="1333440"/>
                  <a:ext cx="5968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v-SE" sz="1200" spc="-1" strike="noStrike">
                      <a:solidFill>
                        <a:srgbClr val="ffffeb"/>
                      </a:solidFill>
                      <a:latin typeface="Arial"/>
                    </a:rPr>
                    <a:t>50 ms</a:t>
                  </a:r>
                  <a:endParaRPr b="0" lang="en-US" sz="12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5" name=""/>
          <p:cNvGrpSpPr/>
          <p:nvPr/>
        </p:nvGrpSpPr>
        <p:grpSpPr>
          <a:xfrm>
            <a:off x="3419640" y="1333440"/>
            <a:ext cx="4608360" cy="1737000"/>
            <a:chOff x="3419640" y="1333440"/>
            <a:chExt cx="4608360" cy="1737000"/>
          </a:xfrm>
        </p:grpSpPr>
        <p:grpSp>
          <p:nvGrpSpPr>
            <p:cNvPr id="356" name=""/>
            <p:cNvGrpSpPr/>
            <p:nvPr/>
          </p:nvGrpSpPr>
          <p:grpSpPr>
            <a:xfrm>
              <a:off x="5761800" y="1333440"/>
              <a:ext cx="2266200" cy="1737000"/>
              <a:chOff x="5761800" y="1333440"/>
              <a:chExt cx="2266200" cy="173700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6802560" y="1476360"/>
                <a:ext cx="1225440" cy="1446840"/>
                <a:chOff x="6802560" y="1476360"/>
                <a:chExt cx="1225440" cy="144684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6802560" y="1765440"/>
                  <a:ext cx="360360" cy="1150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7236000" y="1476360"/>
                  <a:ext cx="360360" cy="14400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667640" y="2052720"/>
                  <a:ext cx="360360" cy="86364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rot="16200000">
                  <a:off x="6687360" y="2492280"/>
                  <a:ext cx="537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v-SE" sz="1400" spc="-1" strike="noStrike">
                      <a:solidFill>
                        <a:srgbClr val="ffffeb"/>
                      </a:solidFill>
                      <a:latin typeface="Arial"/>
                    </a:rPr>
                    <a:t>APP</a:t>
                  </a:r>
                  <a:endParaRPr b="0" lang="en-US" sz="1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rot="16200000">
                  <a:off x="7027200" y="2407320"/>
                  <a:ext cx="72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v-SE" sz="1400" spc="-1" strike="noStrike">
                      <a:solidFill>
                        <a:srgbClr val="ffffeb"/>
                      </a:solidFill>
                      <a:latin typeface="Arial"/>
                    </a:rPr>
                    <a:t>GEOM</a:t>
                  </a:r>
                  <a:endParaRPr b="0" lang="en-US" sz="1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rot="16200000">
                  <a:off x="7493760" y="2433600"/>
                  <a:ext cx="6548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v-SE" sz="1400" spc="-1" strike="noStrike">
                      <a:solidFill>
                        <a:srgbClr val="ffffeb"/>
                      </a:solidFill>
                      <a:latin typeface="Arial"/>
                    </a:rPr>
                    <a:t>RAST</a:t>
                  </a:r>
                  <a:endParaRPr b="0" lang="en-US" sz="1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5761800" y="1333440"/>
                <a:ext cx="897480" cy="1737000"/>
                <a:chOff x="5761800" y="1333440"/>
                <a:chExt cx="897480" cy="173700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5761800" y="2492280"/>
                  <a:ext cx="5968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v-SE" sz="1200" spc="-1" strike="noStrike">
                      <a:solidFill>
                        <a:srgbClr val="ffffeb"/>
                      </a:solidFill>
                      <a:latin typeface="Arial"/>
                    </a:rPr>
                    <a:t>10 ms</a:t>
                  </a:r>
                  <a:endParaRPr b="0" lang="en-US" sz="12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6" name=""/>
                <p:cNvGrpSpPr/>
                <p:nvPr/>
              </p:nvGrpSpPr>
              <p:grpSpPr>
                <a:xfrm>
                  <a:off x="5772960" y="1333440"/>
                  <a:ext cx="886320" cy="1737000"/>
                  <a:chOff x="5772960" y="1333440"/>
                  <a:chExt cx="886320" cy="1737000"/>
                </a:xfrm>
              </p:grpSpPr>
              <p:sp>
                <p:nvSpPr>
                  <p:cNvPr id="367" name=""/>
                  <p:cNvSpPr/>
                  <p:nvPr/>
                </p:nvSpPr>
                <p:spPr>
                  <a:xfrm flipH="1">
                    <a:off x="6298920" y="2916360"/>
                    <a:ext cx="360360" cy="0"/>
                  </a:xfrm>
                  <a:prstGeom prst="line">
                    <a:avLst/>
                  </a:prstGeom>
                  <a:ln w="9360">
                    <a:solidFill>
                      <a:srgbClr val="ffffe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flipH="1">
                    <a:off x="6298920" y="2629080"/>
                    <a:ext cx="360360" cy="0"/>
                  </a:xfrm>
                  <a:prstGeom prst="line">
                    <a:avLst/>
                  </a:prstGeom>
                  <a:ln w="9360">
                    <a:solidFill>
                      <a:srgbClr val="ffffe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>
                    <a:off x="6298920" y="2341800"/>
                    <a:ext cx="360360" cy="0"/>
                  </a:xfrm>
                  <a:prstGeom prst="line">
                    <a:avLst/>
                  </a:prstGeom>
                  <a:ln w="9360">
                    <a:solidFill>
                      <a:srgbClr val="ffffe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H="1">
                    <a:off x="6298920" y="2052720"/>
                    <a:ext cx="360360" cy="0"/>
                  </a:xfrm>
                  <a:prstGeom prst="line">
                    <a:avLst/>
                  </a:prstGeom>
                  <a:ln w="9360">
                    <a:solidFill>
                      <a:srgbClr val="ffffe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>
                    <a:off x="6298920" y="1765440"/>
                    <a:ext cx="360360" cy="0"/>
                  </a:xfrm>
                  <a:prstGeom prst="line">
                    <a:avLst/>
                  </a:prstGeom>
                  <a:ln w="9360">
                    <a:solidFill>
                      <a:srgbClr val="ffffe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>
                    <a:off x="6298920" y="1476360"/>
                    <a:ext cx="360360" cy="0"/>
                  </a:xfrm>
                  <a:prstGeom prst="line">
                    <a:avLst/>
                  </a:prstGeom>
                  <a:ln w="9360">
                    <a:solidFill>
                      <a:srgbClr val="ffffe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5803920" y="2793960"/>
                    <a:ext cx="5115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v-SE" sz="1200" spc="-1" strike="noStrike">
                        <a:solidFill>
                          <a:srgbClr val="ffffeb"/>
                        </a:solidFill>
                        <a:latin typeface="Arial"/>
                      </a:rPr>
                      <a:t>0 ms</a:t>
                    </a:r>
                    <a:endParaRPr b="0" lang="en-US" sz="12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5772960" y="2197080"/>
                    <a:ext cx="5968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v-SE" sz="1200" spc="-1" strike="noStrike">
                        <a:solidFill>
                          <a:srgbClr val="ffffeb"/>
                        </a:solidFill>
                        <a:latin typeface="Arial"/>
                      </a:rPr>
                      <a:t>20 ms</a:t>
                    </a:r>
                    <a:endParaRPr b="0" lang="en-US" sz="12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5772960" y="1908360"/>
                    <a:ext cx="5968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v-SE" sz="1200" spc="-1" strike="noStrike">
                        <a:solidFill>
                          <a:srgbClr val="ffffeb"/>
                        </a:solidFill>
                        <a:latin typeface="Arial"/>
                      </a:rPr>
                      <a:t>30 ms</a:t>
                    </a:r>
                    <a:endParaRPr b="0" lang="en-US" sz="12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5772960" y="1621080"/>
                    <a:ext cx="5968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v-SE" sz="1200" spc="-1" strike="noStrike">
                        <a:solidFill>
                          <a:srgbClr val="ffffeb"/>
                        </a:solidFill>
                        <a:latin typeface="Arial"/>
                      </a:rPr>
                      <a:t>40 ms</a:t>
                    </a:r>
                    <a:endParaRPr b="0" lang="en-US" sz="12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5772960" y="1333440"/>
                    <a:ext cx="5968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v-SE" sz="1200" spc="-1" strike="noStrike">
                        <a:solidFill>
                          <a:srgbClr val="ffffeb"/>
                        </a:solidFill>
                        <a:latin typeface="Arial"/>
                      </a:rPr>
                      <a:t>50 ms</a:t>
                    </a:r>
                    <a:endParaRPr b="0" lang="en-US" sz="12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78" name=""/>
            <p:cNvSpPr/>
            <p:nvPr/>
          </p:nvSpPr>
          <p:spPr>
            <a:xfrm>
              <a:off x="3419640" y="2276640"/>
              <a:ext cx="1944360" cy="0"/>
            </a:xfrm>
            <a:prstGeom prst="line">
              <a:avLst/>
            </a:prstGeom>
            <a:ln w="5724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39240" y="174780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Arial"/>
                </a:rPr>
                <a:t>balance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04000" y="1484280"/>
              <a:ext cx="360360" cy="289080"/>
            </a:xfrm>
            <a:prstGeom prst="rect">
              <a:avLst/>
            </a:prstGeom>
            <a:solidFill>
              <a:srgbClr val="c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67640" y="1484280"/>
              <a:ext cx="360360" cy="576360"/>
            </a:xfrm>
            <a:prstGeom prst="rect">
              <a:avLst/>
            </a:prstGeom>
            <a:solidFill>
              <a:srgbClr val="0000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8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3" dur="5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Balancing pipeline, how?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Increase number of triangles (affects all stages)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More lights, more expensive (geometry)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More realistic animation, more accurate collision detection (application)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More expensive texture filtering, blending, etc. (rasterizer)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If not fill-limited, increase window size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Note: there are FIFOs between stages (and at many other places too) to smooth out idleness of stages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More techniques in book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9" dur="indefinite" restart="never" nodeType="tmRoot">
          <p:childTnLst>
            <p:seq>
              <p:cTn id="1290" dur="indefinite" nodeType="mainSeq">
                <p:childTnLst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5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0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5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5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Multiprocessing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82296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urn to if application is bottleneck, and if you can afford it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wo major ways: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Multiprocessor pipelining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Parallel processing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826920" y="3789360"/>
            <a:ext cx="695016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6" dur="indefinite" restart="never" nodeType="tmRoot">
          <p:childTnLst>
            <p:seq>
              <p:cTn id="1327" dur="indefinite" nodeType="mainSeq">
                <p:childTnLst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0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3" dur="5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Example image of model consisting of triangle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97868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Note that triangles in general are connected to other triangles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3162240"/>
            <a:ext cx="4572000" cy="3579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43280" y="3162240"/>
            <a:ext cx="450072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In summary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Only do pipeline optimization after you have implemented good algorithms!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his is something one does for products that should be shippe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Don’t spend too much time on this for your project (unless you really really want to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However, most often good to use triangle strips!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Triangle strip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204640"/>
            <a:ext cx="8001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Without strips: 8 triangles * 3 vertices = 24 vertices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With strips: use 1 vertex per triangle instead of 3 !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771280" y="1484280"/>
            <a:ext cx="3457800" cy="665280"/>
            <a:chOff x="2771280" y="1484280"/>
            <a:chExt cx="3457800" cy="665280"/>
          </a:xfrm>
        </p:grpSpPr>
        <p:sp>
          <p:nvSpPr>
            <p:cNvPr id="102" name=""/>
            <p:cNvSpPr/>
            <p:nvPr/>
          </p:nvSpPr>
          <p:spPr>
            <a:xfrm rot="10800000">
              <a:off x="2771280" y="1484280"/>
              <a:ext cx="767880" cy="665280"/>
            </a:xfrm>
            <a:prstGeom prst="triangle">
              <a:avLst>
                <a:gd name="adj" fmla="val 50000"/>
              </a:avLst>
            </a:prstGeom>
            <a:solidFill>
              <a:srgbClr val="ffff0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55760" y="1484280"/>
              <a:ext cx="767880" cy="6652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0800000">
              <a:off x="3539160" y="1484280"/>
              <a:ext cx="767880" cy="665280"/>
            </a:xfrm>
            <a:prstGeom prst="triangle">
              <a:avLst>
                <a:gd name="adj" fmla="val 50000"/>
              </a:avLst>
            </a:prstGeom>
            <a:solidFill>
              <a:srgbClr val="ffff0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23640" y="1484280"/>
              <a:ext cx="767880" cy="6652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0800000">
              <a:off x="4309200" y="1484280"/>
              <a:ext cx="767880" cy="665280"/>
            </a:xfrm>
            <a:prstGeom prst="triangle">
              <a:avLst>
                <a:gd name="adj" fmla="val 50000"/>
              </a:avLst>
            </a:prstGeom>
            <a:solidFill>
              <a:srgbClr val="ffff0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93320" y="1484280"/>
              <a:ext cx="767880" cy="6652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0800000">
              <a:off x="5077080" y="1484280"/>
              <a:ext cx="767880" cy="665280"/>
            </a:xfrm>
            <a:prstGeom prst="triangle">
              <a:avLst>
                <a:gd name="adj" fmla="val 50000"/>
              </a:avLst>
            </a:prstGeom>
            <a:solidFill>
              <a:srgbClr val="ffff0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61200" y="1484280"/>
              <a:ext cx="767880" cy="6652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900000" y="5229360"/>
            <a:ext cx="80010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What we send to graphics hardware: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Startup cost: </a:t>
            </a:r>
            <a:r>
              <a:rPr b="1" lang="sv-SE" sz="24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2400" spc="-1" strike="noStrike" baseline="-25000">
                <a:solidFill>
                  <a:srgbClr val="ffffeb"/>
                </a:solidFill>
                <a:latin typeface="Times New Roman"/>
              </a:rPr>
              <a:t>0</a:t>
            </a: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lang="sv-SE" sz="24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2400" spc="-1" strike="noStrike" baseline="-25000">
                <a:solidFill>
                  <a:srgbClr val="ffffeb"/>
                </a:solidFill>
                <a:latin typeface="Times New Roman"/>
              </a:rPr>
              <a:t>1  </a:t>
            </a: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then </a:t>
            </a:r>
            <a:r>
              <a:rPr b="1" lang="sv-SE" sz="24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2400" spc="-1" strike="noStrike" baseline="-25000">
                <a:solidFill>
                  <a:srgbClr val="ffffeb"/>
                </a:solidFill>
                <a:latin typeface="Times New Roman"/>
              </a:rPr>
              <a:t>2 </a:t>
            </a:r>
            <a:r>
              <a:rPr b="0" lang="sv-SE" sz="2400" spc="-1" strike="noStrike">
                <a:solidFill>
                  <a:srgbClr val="ffffeb"/>
                </a:solidFill>
                <a:latin typeface="Times New Roman"/>
              </a:rPr>
              <a:t>(T0), </a:t>
            </a:r>
            <a:r>
              <a:rPr b="1" lang="sv-SE" sz="24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2400" spc="-1" strike="noStrike" baseline="-25000">
                <a:solidFill>
                  <a:srgbClr val="ffffeb"/>
                </a:solidFill>
                <a:latin typeface="Times New Roman"/>
              </a:rPr>
              <a:t>3 </a:t>
            </a:r>
            <a:r>
              <a:rPr b="0" lang="sv-SE" sz="2400" spc="-1" strike="noStrike">
                <a:solidFill>
                  <a:srgbClr val="ffffeb"/>
                </a:solidFill>
                <a:latin typeface="Times New Roman"/>
              </a:rPr>
              <a:t>(T1), </a:t>
            </a:r>
            <a:r>
              <a:rPr b="1" lang="sv-SE" sz="24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2400" spc="-1" strike="noStrike" baseline="-25000">
                <a:solidFill>
                  <a:srgbClr val="ffffeb"/>
                </a:solidFill>
                <a:latin typeface="Times New Roman"/>
              </a:rPr>
              <a:t>4 </a:t>
            </a:r>
            <a:r>
              <a:rPr b="0" lang="sv-SE" sz="2400" spc="-1" strike="noStrike">
                <a:solidFill>
                  <a:srgbClr val="ffffeb"/>
                </a:solidFill>
                <a:latin typeface="Times New Roman"/>
              </a:rPr>
              <a:t>(T2), </a:t>
            </a:r>
            <a:r>
              <a:rPr b="1" lang="sv-SE" sz="24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2400" spc="-1" strike="noStrike" baseline="-25000">
                <a:solidFill>
                  <a:srgbClr val="ffffeb"/>
                </a:solidFill>
                <a:latin typeface="Times New Roman"/>
              </a:rPr>
              <a:t>5 </a:t>
            </a:r>
            <a:r>
              <a:rPr b="0" lang="sv-SE" sz="2400" spc="-1" strike="noStrike">
                <a:solidFill>
                  <a:srgbClr val="ffffeb"/>
                </a:solidFill>
                <a:latin typeface="Times New Roman"/>
              </a:rPr>
              <a:t>(T3), </a:t>
            </a:r>
            <a:r>
              <a:rPr b="1" lang="sv-SE" sz="24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2400" spc="-1" strike="noStrike" baseline="-25000">
                <a:solidFill>
                  <a:srgbClr val="ffffeb"/>
                </a:solidFill>
                <a:latin typeface="Times New Roman"/>
              </a:rPr>
              <a:t>6 </a:t>
            </a:r>
            <a:r>
              <a:rPr b="0" lang="sv-SE" sz="2400" spc="-1" strike="noStrike">
                <a:solidFill>
                  <a:srgbClr val="ffffeb"/>
                </a:solidFill>
                <a:latin typeface="Times New Roman"/>
              </a:rPr>
              <a:t>(T4), </a:t>
            </a:r>
            <a:r>
              <a:rPr b="1" lang="sv-SE" sz="24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2400" spc="-1" strike="noStrike" baseline="-25000">
                <a:solidFill>
                  <a:srgbClr val="ffffeb"/>
                </a:solidFill>
                <a:latin typeface="Times New Roman"/>
              </a:rPr>
              <a:t>7 </a:t>
            </a:r>
            <a:r>
              <a:rPr b="0" lang="sv-SE" sz="2400" spc="-1" strike="noStrike">
                <a:solidFill>
                  <a:srgbClr val="ffffeb"/>
                </a:solidFill>
                <a:latin typeface="Times New Roman"/>
              </a:rPr>
              <a:t>(T5), </a:t>
            </a:r>
            <a:r>
              <a:rPr b="1" lang="sv-SE" sz="24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2400" spc="-1" strike="noStrike" baseline="-25000">
                <a:solidFill>
                  <a:srgbClr val="ffffeb"/>
                </a:solidFill>
                <a:latin typeface="Times New Roman"/>
              </a:rPr>
              <a:t>8 </a:t>
            </a:r>
            <a:r>
              <a:rPr b="0" lang="sv-SE" sz="2400" spc="-1" strike="noStrike">
                <a:solidFill>
                  <a:srgbClr val="ffffeb"/>
                </a:solidFill>
                <a:latin typeface="Times New Roman"/>
              </a:rPr>
              <a:t>(T6), </a:t>
            </a:r>
            <a:r>
              <a:rPr b="1" lang="sv-SE" sz="24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2400" spc="-1" strike="noStrike" baseline="-25000">
                <a:solidFill>
                  <a:srgbClr val="ffffeb"/>
                </a:solidFill>
                <a:latin typeface="Times New Roman"/>
              </a:rPr>
              <a:t>9 </a:t>
            </a:r>
            <a:r>
              <a:rPr b="0" lang="sv-SE" sz="2400" spc="-1" strike="noStrike">
                <a:solidFill>
                  <a:srgbClr val="ffffeb"/>
                </a:solidFill>
                <a:latin typeface="Times New Roman"/>
              </a:rPr>
              <a:t>(T7). 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9 vertices </a:t>
            </a:r>
            <a:r>
              <a:rPr b="0" lang="sv-SE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</a:t>
            </a: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 100*9/24= 37.5%   or 9/8=1.125 verts/tri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405080" y="3068640"/>
            <a:ext cx="1718280" cy="2191320"/>
            <a:chOff x="1405080" y="3068640"/>
            <a:chExt cx="1718280" cy="2191320"/>
          </a:xfrm>
        </p:grpSpPr>
        <p:grpSp>
          <p:nvGrpSpPr>
            <p:cNvPr id="112" name=""/>
            <p:cNvGrpSpPr/>
            <p:nvPr/>
          </p:nvGrpSpPr>
          <p:grpSpPr>
            <a:xfrm>
              <a:off x="1405080" y="3068640"/>
              <a:ext cx="1718280" cy="2191320"/>
              <a:chOff x="1405080" y="3068640"/>
              <a:chExt cx="1718280" cy="2191320"/>
            </a:xfrm>
          </p:grpSpPr>
          <p:sp>
            <p:nvSpPr>
              <p:cNvPr id="113" name=""/>
              <p:cNvSpPr/>
              <p:nvPr/>
            </p:nvSpPr>
            <p:spPr>
              <a:xfrm rot="10800000">
                <a:off x="1618920" y="3597120"/>
                <a:ext cx="1295280" cy="1121040"/>
              </a:xfrm>
              <a:prstGeom prst="triangle">
                <a:avLst>
                  <a:gd name="adj" fmla="val 50000"/>
                </a:avLst>
              </a:prstGeom>
              <a:solidFill>
                <a:srgbClr val="ffff0b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547640" y="3525840"/>
                <a:ext cx="144000" cy="144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195280" y="4676760"/>
                <a:ext cx="144000" cy="144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842920" y="352584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405080" y="3068640"/>
                <a:ext cx="42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v-SE" sz="2400" spc="-1" strike="noStrike">
                    <a:solidFill>
                      <a:srgbClr val="ffffeb"/>
                    </a:solidFill>
                    <a:latin typeface="Times New Roman"/>
                  </a:rPr>
                  <a:t>v</a:t>
                </a:r>
                <a:r>
                  <a:rPr b="0" lang="sv-SE" sz="2400" spc="-1" strike="noStrike" baseline="-25000">
                    <a:solidFill>
                      <a:srgbClr val="ffffeb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125440" y="4749840"/>
                <a:ext cx="42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v-SE" sz="2400" spc="-1" strike="noStrike">
                    <a:solidFill>
                      <a:srgbClr val="ffffeb"/>
                    </a:solidFill>
                    <a:latin typeface="Times New Roman"/>
                  </a:rPr>
                  <a:t>v</a:t>
                </a:r>
                <a:r>
                  <a:rPr b="0" lang="sv-SE" sz="2400" spc="-1" strike="noStrike" baseline="-25000">
                    <a:solidFill>
                      <a:srgbClr val="ffffeb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701800" y="3068640"/>
                <a:ext cx="42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v-SE" sz="2400" spc="-1" strike="noStrike">
                    <a:solidFill>
                      <a:srgbClr val="ffffeb"/>
                    </a:solidFill>
                    <a:latin typeface="Times New Roman"/>
                  </a:rPr>
                  <a:t>v</a:t>
                </a:r>
                <a:r>
                  <a:rPr b="0" lang="sv-SE" sz="2400" spc="-1" strike="noStrike" baseline="-25000">
                    <a:solidFill>
                      <a:srgbClr val="ffffeb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1963440" y="37638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T0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266920" y="3597120"/>
            <a:ext cx="1582200" cy="1637280"/>
            <a:chOff x="2266920" y="3597120"/>
            <a:chExt cx="1582200" cy="1637280"/>
          </a:xfrm>
        </p:grpSpPr>
        <p:grpSp>
          <p:nvGrpSpPr>
            <p:cNvPr id="122" name=""/>
            <p:cNvGrpSpPr/>
            <p:nvPr/>
          </p:nvGrpSpPr>
          <p:grpSpPr>
            <a:xfrm>
              <a:off x="2266920" y="3597120"/>
              <a:ext cx="1582200" cy="1637280"/>
              <a:chOff x="2266920" y="3597120"/>
              <a:chExt cx="1582200" cy="1637280"/>
            </a:xfrm>
          </p:grpSpPr>
          <p:sp>
            <p:nvSpPr>
              <p:cNvPr id="123" name=""/>
              <p:cNvSpPr/>
              <p:nvPr/>
            </p:nvSpPr>
            <p:spPr>
              <a:xfrm>
                <a:off x="2266920" y="3597120"/>
                <a:ext cx="1295280" cy="1121040"/>
              </a:xfrm>
              <a:prstGeom prst="triangle">
                <a:avLst>
                  <a:gd name="adj" fmla="val 50000"/>
                </a:avLst>
              </a:prstGeom>
              <a:solidFill>
                <a:srgbClr val="00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427560" y="4724280"/>
                <a:ext cx="42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v-SE" sz="2400" spc="-1" strike="noStrike">
                    <a:solidFill>
                      <a:srgbClr val="ffffeb"/>
                    </a:solidFill>
                    <a:latin typeface="Times New Roman"/>
                  </a:rPr>
                  <a:t>v</a:t>
                </a:r>
                <a:r>
                  <a:rPr b="0" lang="sv-SE" sz="2400" spc="-1" strike="noStrike" baseline="-25000">
                    <a:solidFill>
                      <a:srgbClr val="ffffeb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490920" y="4678200"/>
                <a:ext cx="144360" cy="144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2611440" y="40514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916360" y="3068640"/>
            <a:ext cx="1504080" cy="1649160"/>
            <a:chOff x="2916360" y="3068640"/>
            <a:chExt cx="1504080" cy="1649160"/>
          </a:xfrm>
        </p:grpSpPr>
        <p:grpSp>
          <p:nvGrpSpPr>
            <p:cNvPr id="128" name=""/>
            <p:cNvGrpSpPr/>
            <p:nvPr/>
          </p:nvGrpSpPr>
          <p:grpSpPr>
            <a:xfrm>
              <a:off x="2916360" y="3068640"/>
              <a:ext cx="1504080" cy="1649160"/>
              <a:chOff x="2916360" y="3068640"/>
              <a:chExt cx="1504080" cy="1649160"/>
            </a:xfrm>
          </p:grpSpPr>
          <p:sp>
            <p:nvSpPr>
              <p:cNvPr id="129" name=""/>
              <p:cNvSpPr/>
              <p:nvPr/>
            </p:nvSpPr>
            <p:spPr>
              <a:xfrm rot="10800000">
                <a:off x="2916360" y="3597120"/>
                <a:ext cx="1295280" cy="1120680"/>
              </a:xfrm>
              <a:prstGeom prst="triangle">
                <a:avLst>
                  <a:gd name="adj" fmla="val 50000"/>
                </a:avLst>
              </a:prstGeom>
              <a:solidFill>
                <a:srgbClr val="ffff0b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140000" y="3525840"/>
                <a:ext cx="144000" cy="144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998880" y="3068640"/>
                <a:ext cx="42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v-SE" sz="2400" spc="-1" strike="noStrike">
                    <a:solidFill>
                      <a:srgbClr val="ffffeb"/>
                    </a:solidFill>
                    <a:latin typeface="Times New Roman"/>
                  </a:rPr>
                  <a:t>v</a:t>
                </a:r>
                <a:r>
                  <a:rPr b="0" lang="sv-SE" sz="2400" spc="-1" strike="noStrike" baseline="-25000">
                    <a:solidFill>
                      <a:srgbClr val="ffffeb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3278160" y="37638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564000" y="3571920"/>
            <a:ext cx="1582200" cy="1637280"/>
            <a:chOff x="3564000" y="3571920"/>
            <a:chExt cx="1582200" cy="1637280"/>
          </a:xfrm>
        </p:grpSpPr>
        <p:grpSp>
          <p:nvGrpSpPr>
            <p:cNvPr id="134" name=""/>
            <p:cNvGrpSpPr/>
            <p:nvPr/>
          </p:nvGrpSpPr>
          <p:grpSpPr>
            <a:xfrm>
              <a:off x="3564000" y="3571920"/>
              <a:ext cx="1582200" cy="1637280"/>
              <a:chOff x="3564000" y="3571920"/>
              <a:chExt cx="1582200" cy="1637280"/>
            </a:xfrm>
          </p:grpSpPr>
          <p:sp>
            <p:nvSpPr>
              <p:cNvPr id="135" name=""/>
              <p:cNvSpPr/>
              <p:nvPr/>
            </p:nvSpPr>
            <p:spPr>
              <a:xfrm>
                <a:off x="3564000" y="3571920"/>
                <a:ext cx="1295280" cy="1121040"/>
              </a:xfrm>
              <a:prstGeom prst="triangle">
                <a:avLst>
                  <a:gd name="adj" fmla="val 50000"/>
                </a:avLst>
              </a:prstGeom>
              <a:solidFill>
                <a:srgbClr val="00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724640" y="4699080"/>
                <a:ext cx="42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v-SE" sz="2400" spc="-1" strike="noStrike">
                    <a:solidFill>
                      <a:srgbClr val="ffffeb"/>
                    </a:solidFill>
                    <a:latin typeface="Times New Roman"/>
                  </a:rPr>
                  <a:t>v</a:t>
                </a:r>
                <a:r>
                  <a:rPr b="0" lang="sv-SE" sz="2400" spc="-1" strike="noStrike" baseline="-25000">
                    <a:solidFill>
                      <a:srgbClr val="ffffeb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88000" y="4653000"/>
                <a:ext cx="144360" cy="144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06720" y="40766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T3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211640" y="3068640"/>
            <a:ext cx="1504080" cy="1649160"/>
            <a:chOff x="4211640" y="3068640"/>
            <a:chExt cx="1504080" cy="1649160"/>
          </a:xfrm>
        </p:grpSpPr>
        <p:grpSp>
          <p:nvGrpSpPr>
            <p:cNvPr id="140" name=""/>
            <p:cNvGrpSpPr/>
            <p:nvPr/>
          </p:nvGrpSpPr>
          <p:grpSpPr>
            <a:xfrm>
              <a:off x="4211640" y="3068640"/>
              <a:ext cx="1504080" cy="1649160"/>
              <a:chOff x="4211640" y="3068640"/>
              <a:chExt cx="1504080" cy="1649160"/>
            </a:xfrm>
          </p:grpSpPr>
          <p:sp>
            <p:nvSpPr>
              <p:cNvPr id="141" name=""/>
              <p:cNvSpPr/>
              <p:nvPr/>
            </p:nvSpPr>
            <p:spPr>
              <a:xfrm rot="10800000">
                <a:off x="4211640" y="3597120"/>
                <a:ext cx="1295280" cy="1120680"/>
              </a:xfrm>
              <a:prstGeom prst="triangle">
                <a:avLst>
                  <a:gd name="adj" fmla="val 50000"/>
                </a:avLst>
              </a:prstGeom>
              <a:solidFill>
                <a:srgbClr val="ffff0b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35280" y="3525840"/>
                <a:ext cx="144000" cy="144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294160" y="3068640"/>
                <a:ext cx="42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v-SE" sz="2400" spc="-1" strike="noStrike">
                    <a:solidFill>
                      <a:srgbClr val="ffffeb"/>
                    </a:solidFill>
                    <a:latin typeface="Times New Roman"/>
                  </a:rPr>
                  <a:t>v</a:t>
                </a:r>
                <a:r>
                  <a:rPr b="0" lang="sv-SE" sz="2400" spc="-1" strike="noStrike" baseline="-25000">
                    <a:solidFill>
                      <a:srgbClr val="ffffeb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4555800" y="37893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T4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859280" y="3571920"/>
            <a:ext cx="1582200" cy="1637280"/>
            <a:chOff x="4859280" y="3571920"/>
            <a:chExt cx="1582200" cy="1637280"/>
          </a:xfrm>
        </p:grpSpPr>
        <p:grpSp>
          <p:nvGrpSpPr>
            <p:cNvPr id="146" name=""/>
            <p:cNvGrpSpPr/>
            <p:nvPr/>
          </p:nvGrpSpPr>
          <p:grpSpPr>
            <a:xfrm>
              <a:off x="4859280" y="3571920"/>
              <a:ext cx="1582200" cy="1637280"/>
              <a:chOff x="4859280" y="3571920"/>
              <a:chExt cx="1582200" cy="1637280"/>
            </a:xfrm>
          </p:grpSpPr>
          <p:sp>
            <p:nvSpPr>
              <p:cNvPr id="147" name=""/>
              <p:cNvSpPr/>
              <p:nvPr/>
            </p:nvSpPr>
            <p:spPr>
              <a:xfrm>
                <a:off x="4859280" y="3571920"/>
                <a:ext cx="1295280" cy="1121040"/>
              </a:xfrm>
              <a:prstGeom prst="triangle">
                <a:avLst>
                  <a:gd name="adj" fmla="val 50000"/>
                </a:avLst>
              </a:prstGeom>
              <a:solidFill>
                <a:srgbClr val="00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019920" y="4699080"/>
                <a:ext cx="42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v-SE" sz="2400" spc="-1" strike="noStrike">
                    <a:solidFill>
                      <a:srgbClr val="ffffeb"/>
                    </a:solidFill>
                    <a:latin typeface="Times New Roman"/>
                  </a:rPr>
                  <a:t>v</a:t>
                </a:r>
                <a:r>
                  <a:rPr b="0" lang="sv-SE" sz="2400" spc="-1" strike="noStrike" baseline="-25000">
                    <a:solidFill>
                      <a:srgbClr val="ffffeb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083280" y="4653000"/>
                <a:ext cx="144360" cy="144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5221080" y="40766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T5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5506560" y="3068640"/>
            <a:ext cx="1505160" cy="1649160"/>
            <a:chOff x="5506560" y="3068640"/>
            <a:chExt cx="1505160" cy="1649160"/>
          </a:xfrm>
        </p:grpSpPr>
        <p:grpSp>
          <p:nvGrpSpPr>
            <p:cNvPr id="152" name=""/>
            <p:cNvGrpSpPr/>
            <p:nvPr/>
          </p:nvGrpSpPr>
          <p:grpSpPr>
            <a:xfrm>
              <a:off x="5506560" y="3068640"/>
              <a:ext cx="1505160" cy="1649160"/>
              <a:chOff x="5506560" y="3068640"/>
              <a:chExt cx="1505160" cy="1649160"/>
            </a:xfrm>
          </p:grpSpPr>
          <p:sp>
            <p:nvSpPr>
              <p:cNvPr id="153" name=""/>
              <p:cNvSpPr/>
              <p:nvPr/>
            </p:nvSpPr>
            <p:spPr>
              <a:xfrm rot="10800000">
                <a:off x="5506560" y="3597120"/>
                <a:ext cx="1295640" cy="1120680"/>
              </a:xfrm>
              <a:prstGeom prst="triangle">
                <a:avLst>
                  <a:gd name="adj" fmla="val 50000"/>
                </a:avLst>
              </a:prstGeom>
              <a:solidFill>
                <a:srgbClr val="ffff0b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730920" y="352584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590160" y="3068640"/>
                <a:ext cx="42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v-SE" sz="2400" spc="-1" strike="noStrike">
                    <a:solidFill>
                      <a:srgbClr val="ffffeb"/>
                    </a:solidFill>
                    <a:latin typeface="Times New Roman"/>
                  </a:rPr>
                  <a:t>v</a:t>
                </a:r>
                <a:r>
                  <a:rPr b="0" lang="sv-SE" sz="2400" spc="-1" strike="noStrike" baseline="-25000">
                    <a:solidFill>
                      <a:srgbClr val="ffffeb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5922720" y="37893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T6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149880" y="3571920"/>
            <a:ext cx="1582200" cy="1637280"/>
            <a:chOff x="6149880" y="3571920"/>
            <a:chExt cx="1582200" cy="1637280"/>
          </a:xfrm>
        </p:grpSpPr>
        <p:grpSp>
          <p:nvGrpSpPr>
            <p:cNvPr id="158" name=""/>
            <p:cNvGrpSpPr/>
            <p:nvPr/>
          </p:nvGrpSpPr>
          <p:grpSpPr>
            <a:xfrm>
              <a:off x="6149880" y="3571920"/>
              <a:ext cx="1582200" cy="1637280"/>
              <a:chOff x="6149880" y="3571920"/>
              <a:chExt cx="1582200" cy="1637280"/>
            </a:xfrm>
          </p:grpSpPr>
          <p:sp>
            <p:nvSpPr>
              <p:cNvPr id="159" name=""/>
              <p:cNvSpPr/>
              <p:nvPr/>
            </p:nvSpPr>
            <p:spPr>
              <a:xfrm>
                <a:off x="6149880" y="3571920"/>
                <a:ext cx="1295280" cy="1121040"/>
              </a:xfrm>
              <a:prstGeom prst="triangle">
                <a:avLst>
                  <a:gd name="adj" fmla="val 50000"/>
                </a:avLst>
              </a:prstGeom>
              <a:solidFill>
                <a:srgbClr val="00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310520" y="4699080"/>
                <a:ext cx="42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v-SE" sz="2400" spc="-1" strike="noStrike">
                    <a:solidFill>
                      <a:srgbClr val="ffffeb"/>
                    </a:solidFill>
                    <a:latin typeface="Times New Roman"/>
                  </a:rPr>
                  <a:t>v</a:t>
                </a:r>
                <a:r>
                  <a:rPr b="0" lang="sv-SE" sz="2400" spc="-1" strike="noStrike" baseline="-25000">
                    <a:solidFill>
                      <a:srgbClr val="ffffeb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373880" y="4653000"/>
                <a:ext cx="144360" cy="144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6499080" y="40766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T7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Triangle strip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9 vertices instead of 24  </a:t>
            </a:r>
            <a:r>
              <a:rPr b="0" lang="sv-SE" sz="2800" spc="-1" strike="noStrike">
                <a:solidFill>
                  <a:srgbClr val="ffffeb"/>
                </a:solidFill>
                <a:latin typeface="Wingdings"/>
                <a:ea typeface="Wingdings"/>
              </a:rPr>
              <a:t></a:t>
            </a: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100*9/24= 37.5% of data  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9/8=1.125 vertices/tri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We can expect the geometry stage to run almost 3 times faster!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OpenGL: </a:t>
            </a:r>
            <a:r>
              <a:rPr b="1" lang="sv-SE" sz="2800" spc="-1" strike="noStrike">
                <a:solidFill>
                  <a:srgbClr val="ffffeb"/>
                </a:solidFill>
                <a:latin typeface="Courier New"/>
              </a:rPr>
              <a:t>glBegin(GL_TRIANGLE_STRIP);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Definition of triangle strip makes orientation change between neighboring triangles in strip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619280" y="5356080"/>
            <a:ext cx="5974920" cy="1149120"/>
            <a:chOff x="1619280" y="5356080"/>
            <a:chExt cx="5974920" cy="1149120"/>
          </a:xfrm>
        </p:grpSpPr>
        <p:grpSp>
          <p:nvGrpSpPr>
            <p:cNvPr id="166" name=""/>
            <p:cNvGrpSpPr/>
            <p:nvPr/>
          </p:nvGrpSpPr>
          <p:grpSpPr>
            <a:xfrm>
              <a:off x="1619280" y="5356080"/>
              <a:ext cx="5974920" cy="1149120"/>
              <a:chOff x="1619280" y="5356080"/>
              <a:chExt cx="5974920" cy="1149120"/>
            </a:xfrm>
          </p:grpSpPr>
          <p:sp>
            <p:nvSpPr>
              <p:cNvPr id="167" name=""/>
              <p:cNvSpPr/>
              <p:nvPr/>
            </p:nvSpPr>
            <p:spPr>
              <a:xfrm rot="10800000">
                <a:off x="1619280" y="5356080"/>
                <a:ext cx="1326960" cy="1149120"/>
              </a:xfrm>
              <a:prstGeom prst="triangle">
                <a:avLst>
                  <a:gd name="adj" fmla="val 50000"/>
                </a:avLst>
              </a:prstGeom>
              <a:solidFill>
                <a:srgbClr val="ffff0b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282760" y="5356080"/>
                <a:ext cx="1326600" cy="1149120"/>
              </a:xfrm>
              <a:prstGeom prst="triangle">
                <a:avLst>
                  <a:gd name="adj" fmla="val 50000"/>
                </a:avLst>
              </a:prstGeom>
              <a:solidFill>
                <a:srgbClr val="00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0800000">
                <a:off x="2945880" y="5356080"/>
                <a:ext cx="1326600" cy="1149120"/>
              </a:xfrm>
              <a:prstGeom prst="triangle">
                <a:avLst>
                  <a:gd name="adj" fmla="val 50000"/>
                </a:avLst>
              </a:prstGeom>
              <a:solidFill>
                <a:srgbClr val="ffff0b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609720" y="5356080"/>
                <a:ext cx="1326600" cy="1149120"/>
              </a:xfrm>
              <a:prstGeom prst="triangle">
                <a:avLst>
                  <a:gd name="adj" fmla="val 50000"/>
                </a:avLst>
              </a:prstGeom>
              <a:solidFill>
                <a:srgbClr val="00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0800000">
                <a:off x="4276440" y="5356080"/>
                <a:ext cx="1326600" cy="1149120"/>
              </a:xfrm>
              <a:prstGeom prst="triangle">
                <a:avLst>
                  <a:gd name="adj" fmla="val 50000"/>
                </a:avLst>
              </a:prstGeom>
              <a:solidFill>
                <a:srgbClr val="ffff0b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940280" y="5356080"/>
                <a:ext cx="1326600" cy="1149120"/>
              </a:xfrm>
              <a:prstGeom prst="triangle">
                <a:avLst>
                  <a:gd name="adj" fmla="val 50000"/>
                </a:avLst>
              </a:prstGeom>
              <a:solidFill>
                <a:srgbClr val="00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0800000">
                <a:off x="5603760" y="5356080"/>
                <a:ext cx="1326960" cy="1149120"/>
              </a:xfrm>
              <a:prstGeom prst="triangle">
                <a:avLst>
                  <a:gd name="adj" fmla="val 50000"/>
                </a:avLst>
              </a:prstGeom>
              <a:solidFill>
                <a:srgbClr val="ffff0b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267240" y="5356080"/>
                <a:ext cx="1326960" cy="1149120"/>
              </a:xfrm>
              <a:prstGeom prst="triangle">
                <a:avLst>
                  <a:gd name="adj" fmla="val 50000"/>
                </a:avLst>
              </a:prstGeom>
              <a:solidFill>
                <a:srgbClr val="00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 flipV="1">
              <a:off x="1981080" y="5446800"/>
              <a:ext cx="503280" cy="50328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360 h 503280"/>
                <a:gd name="textAreaBottom" fmla="*/ 50400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00360" y="5877000"/>
              <a:ext cx="503280" cy="50328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95640" y="5877000"/>
              <a:ext cx="503280" cy="50328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64000" y="5877000"/>
              <a:ext cx="503280" cy="50328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61080" y="5878440"/>
              <a:ext cx="503280" cy="50328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348000" y="5445000"/>
              <a:ext cx="503280" cy="50328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360 h 503280"/>
                <a:gd name="textAreaBottom" fmla="*/ 50400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4716360" y="5445000"/>
              <a:ext cx="503280" cy="50328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360 h 503280"/>
                <a:gd name="textAreaBottom" fmla="*/ 50400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6012000" y="5445000"/>
              <a:ext cx="503280" cy="50328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360 h 503280"/>
                <a:gd name="textAreaBottom" fmla="*/ 50400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Swaps in triangle strip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1341360"/>
            <a:ext cx="80010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What can we do for this case?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08000" y="1771560"/>
            <a:ext cx="5040360" cy="21621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900000" y="3895560"/>
            <a:ext cx="800100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Implement a swap!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Startup cost: </a:t>
            </a:r>
            <a:r>
              <a:rPr b="1" lang="sv-SE" sz="24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2400" spc="-1" strike="noStrike" baseline="-25000">
                <a:solidFill>
                  <a:srgbClr val="ffffeb"/>
                </a:solidFill>
                <a:latin typeface="Times New Roman"/>
              </a:rPr>
              <a:t>0</a:t>
            </a: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lang="sv-SE" sz="24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2400" spc="-1" strike="noStrike" baseline="-25000">
                <a:solidFill>
                  <a:srgbClr val="ffffeb"/>
                </a:solidFill>
                <a:latin typeface="Times New Roman"/>
              </a:rPr>
              <a:t>1  </a:t>
            </a: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then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1" lang="sv-SE" sz="20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2000" spc="-1" strike="noStrike" baseline="-25000">
                <a:solidFill>
                  <a:srgbClr val="ffffeb"/>
                </a:solidFill>
                <a:latin typeface="Times New Roman"/>
              </a:rPr>
              <a:t>2 </a:t>
            </a:r>
            <a:r>
              <a:rPr b="0" lang="sv-SE" sz="2000" spc="-1" strike="noStrike">
                <a:solidFill>
                  <a:srgbClr val="ffffeb"/>
                </a:solidFill>
                <a:latin typeface="Times New Roman"/>
              </a:rPr>
              <a:t>(T0)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ffffeb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eb"/>
                </a:solidFill>
                <a:latin typeface="Times New Roman"/>
              </a:rPr>
              <a:t> </a:t>
            </a:r>
            <a:r>
              <a:rPr b="1" lang="sv-SE" sz="20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2000" spc="-1" strike="noStrike" baseline="-25000">
                <a:solidFill>
                  <a:srgbClr val="ffffeb"/>
                </a:solidFill>
                <a:latin typeface="Times New Roman"/>
              </a:rPr>
              <a:t>3 </a:t>
            </a:r>
            <a:r>
              <a:rPr b="0" lang="sv-SE" sz="2000" spc="-1" strike="noStrike">
                <a:solidFill>
                  <a:srgbClr val="ffffeb"/>
                </a:solidFill>
                <a:latin typeface="Times New Roman"/>
              </a:rPr>
              <a:t>(T1)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ffffeb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eb"/>
                </a:solidFill>
                <a:latin typeface="Times New Roman"/>
              </a:rPr>
              <a:t> </a:t>
            </a:r>
            <a:r>
              <a:rPr b="1" lang="sv-SE" sz="20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2000" spc="-1" strike="noStrike" baseline="-25000">
                <a:solidFill>
                  <a:srgbClr val="ffffeb"/>
                </a:solidFill>
                <a:latin typeface="Times New Roman"/>
              </a:rPr>
              <a:t>2</a:t>
            </a:r>
            <a:r>
              <a:rPr b="0" lang="sv-SE" sz="2000" spc="-1" strike="noStrike">
                <a:solidFill>
                  <a:srgbClr val="ffffeb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ffffeb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eb"/>
                </a:solidFill>
                <a:latin typeface="Times New Roman"/>
              </a:rPr>
              <a:t> </a:t>
            </a:r>
            <a:r>
              <a:rPr b="1" lang="sv-SE" sz="20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2000" spc="-1" strike="noStrike" baseline="-25000">
                <a:solidFill>
                  <a:srgbClr val="ffffeb"/>
                </a:solidFill>
                <a:latin typeface="Times New Roman"/>
              </a:rPr>
              <a:t>4 </a:t>
            </a:r>
            <a:r>
              <a:rPr b="0" lang="sv-SE" sz="2000" spc="-1" strike="noStrike">
                <a:solidFill>
                  <a:srgbClr val="ffffeb"/>
                </a:solidFill>
                <a:latin typeface="Times New Roman"/>
              </a:rPr>
              <a:t>(T2)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ffffeb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eb"/>
                </a:solidFill>
                <a:latin typeface="Times New Roman"/>
              </a:rPr>
              <a:t> </a:t>
            </a:r>
            <a:r>
              <a:rPr b="1" lang="sv-SE" sz="20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2000" spc="-1" strike="noStrike" baseline="-25000">
                <a:solidFill>
                  <a:srgbClr val="ffffeb"/>
                </a:solidFill>
                <a:latin typeface="Times New Roman"/>
              </a:rPr>
              <a:t>5 </a:t>
            </a:r>
            <a:r>
              <a:rPr b="0" lang="sv-SE" sz="2000" spc="-1" strike="noStrike">
                <a:solidFill>
                  <a:srgbClr val="ffffeb"/>
                </a:solidFill>
                <a:latin typeface="Times New Roman"/>
              </a:rPr>
              <a:t>(T3), </a:t>
            </a:r>
            <a:r>
              <a:rPr b="1" lang="sv-SE" sz="20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2000" spc="-1" strike="noStrike" baseline="-25000">
                <a:solidFill>
                  <a:srgbClr val="ffffeb"/>
                </a:solidFill>
                <a:latin typeface="Times New Roman"/>
              </a:rPr>
              <a:t>6 </a:t>
            </a:r>
            <a:r>
              <a:rPr b="0" lang="sv-SE" sz="2000" spc="-1" strike="noStrike">
                <a:solidFill>
                  <a:srgbClr val="ffffeb"/>
                </a:solidFill>
                <a:latin typeface="Times New Roman"/>
              </a:rPr>
              <a:t>(T4)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Degenerate triangle (0-area): </a:t>
            </a:r>
            <a:r>
              <a:rPr b="1" lang="sv-SE" sz="24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2400" spc="-1" strike="noStrike" baseline="-25000">
                <a:solidFill>
                  <a:srgbClr val="ffffeb"/>
                </a:solidFill>
                <a:latin typeface="Times New Roman"/>
              </a:rPr>
              <a:t>2, </a:t>
            </a:r>
            <a:r>
              <a:rPr b="1" lang="sv-SE" sz="24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2400" spc="-1" strike="noStrike" baseline="-25000">
                <a:solidFill>
                  <a:srgbClr val="ffffeb"/>
                </a:solidFill>
                <a:latin typeface="Times New Roman"/>
              </a:rPr>
              <a:t>3, </a:t>
            </a:r>
            <a:r>
              <a:rPr b="1" lang="sv-SE" sz="24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2400" spc="-1" strike="noStrike" baseline="-25000">
                <a:solidFill>
                  <a:srgbClr val="ffffeb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Swaps…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8121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Cost of degenerate                                     triangle is 1 extra vertex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Still cheaper than restarting triangle strip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his example: 8 sent vertices / 5 triangles =     1.6 vertices/triangle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Restarting triangle strip costs more: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4 vertices (2 triangles) +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5 vertices (3 triangles)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Swaps…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1341000"/>
            <a:ext cx="80010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Also, hardware determines degenerate triangles efficiently and skips these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Can use swaps to connect non-connected triangles too 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The idea is to avoid API call overhead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Hardware needs caches for this to be efficient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050840" y="3357720"/>
            <a:ext cx="5901840" cy="2190960"/>
            <a:chOff x="1050840" y="3357720"/>
            <a:chExt cx="5901840" cy="2190960"/>
          </a:xfrm>
        </p:grpSpPr>
        <p:grpSp>
          <p:nvGrpSpPr>
            <p:cNvPr id="193" name=""/>
            <p:cNvGrpSpPr/>
            <p:nvPr/>
          </p:nvGrpSpPr>
          <p:grpSpPr>
            <a:xfrm>
              <a:off x="1050840" y="3357720"/>
              <a:ext cx="1718280" cy="2190960"/>
              <a:chOff x="1050840" y="3357720"/>
              <a:chExt cx="1718280" cy="2190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1050840" y="3357720"/>
                <a:ext cx="1718280" cy="2190960"/>
                <a:chOff x="1050840" y="3357720"/>
                <a:chExt cx="1718280" cy="2190960"/>
              </a:xfrm>
            </p:grpSpPr>
            <p:sp>
              <p:nvSpPr>
                <p:cNvPr id="195" name=""/>
                <p:cNvSpPr/>
                <p:nvPr/>
              </p:nvSpPr>
              <p:spPr>
                <a:xfrm rot="10800000">
                  <a:off x="1264680" y="3885480"/>
                  <a:ext cx="1295280" cy="1120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0b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193400" y="3814560"/>
                  <a:ext cx="144000" cy="144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841040" y="4965480"/>
                  <a:ext cx="144000" cy="144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488680" y="3814560"/>
                  <a:ext cx="144360" cy="144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050840" y="3357720"/>
                  <a:ext cx="421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v-SE" sz="2400" spc="-1" strike="noStrike">
                      <a:solidFill>
                        <a:srgbClr val="ffffeb"/>
                      </a:solidFill>
                      <a:latin typeface="Times New Roman"/>
                    </a:rPr>
                    <a:t>v</a:t>
                  </a:r>
                  <a:r>
                    <a:rPr b="0" lang="sv-SE" sz="2400" spc="-1" strike="noStrike" baseline="-25000">
                      <a:solidFill>
                        <a:srgbClr val="ffffeb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771200" y="5038560"/>
                  <a:ext cx="421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v-SE" sz="2400" spc="-1" strike="noStrike">
                      <a:solidFill>
                        <a:srgbClr val="ffffeb"/>
                      </a:solidFill>
                      <a:latin typeface="Times New Roman"/>
                    </a:rPr>
                    <a:t>v</a:t>
                  </a:r>
                  <a:r>
                    <a:rPr b="0" lang="sv-SE" sz="2400" spc="-1" strike="noStrike" baseline="-25000">
                      <a:solidFill>
                        <a:srgbClr val="ffffeb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347560" y="3357720"/>
                  <a:ext cx="421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v-SE" sz="2400" spc="-1" strike="noStrike">
                      <a:solidFill>
                        <a:srgbClr val="ffffeb"/>
                      </a:solidFill>
                      <a:latin typeface="Times New Roman"/>
                    </a:rPr>
                    <a:t>v</a:t>
                  </a:r>
                  <a:r>
                    <a:rPr b="0" lang="sv-SE" sz="2400" spc="-1" strike="noStrike" baseline="-25000">
                      <a:solidFill>
                        <a:srgbClr val="ffffeb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" name=""/>
              <p:cNvSpPr/>
              <p:nvPr/>
            </p:nvSpPr>
            <p:spPr>
              <a:xfrm>
                <a:off x="1609200" y="405252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Times New Roman"/>
                  </a:rPr>
                  <a:t>T0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1913040" y="3886200"/>
              <a:ext cx="1582200" cy="1636920"/>
              <a:chOff x="1913040" y="3886200"/>
              <a:chExt cx="1582200" cy="163692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1913040" y="3886200"/>
                <a:ext cx="1582200" cy="1636920"/>
                <a:chOff x="1913040" y="3886200"/>
                <a:chExt cx="1582200" cy="16369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913040" y="3886200"/>
                  <a:ext cx="1295280" cy="1120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073680" y="5013000"/>
                  <a:ext cx="421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v-SE" sz="2400" spc="-1" strike="noStrike">
                      <a:solidFill>
                        <a:srgbClr val="ffffeb"/>
                      </a:solidFill>
                      <a:latin typeface="Times New Roman"/>
                    </a:rPr>
                    <a:t>v</a:t>
                  </a:r>
                  <a:r>
                    <a:rPr b="0" lang="sv-SE" sz="2400" spc="-1" strike="noStrike" baseline="-25000">
                      <a:solidFill>
                        <a:srgbClr val="ffffeb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137040" y="4966920"/>
                  <a:ext cx="144360" cy="144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2256840" y="434016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Times New Roman"/>
                  </a:rPr>
                  <a:t>T1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4508640" y="3357720"/>
              <a:ext cx="1718280" cy="2190960"/>
              <a:chOff x="4508640" y="3357720"/>
              <a:chExt cx="1718280" cy="2190960"/>
            </a:xfrm>
          </p:grpSpPr>
          <p:grpSp>
            <p:nvGrpSpPr>
              <p:cNvPr id="210" name=""/>
              <p:cNvGrpSpPr/>
              <p:nvPr/>
            </p:nvGrpSpPr>
            <p:grpSpPr>
              <a:xfrm>
                <a:off x="4508640" y="3357720"/>
                <a:ext cx="1718280" cy="2190960"/>
                <a:chOff x="4508640" y="3357720"/>
                <a:chExt cx="1718280" cy="2190960"/>
              </a:xfrm>
            </p:grpSpPr>
            <p:sp>
              <p:nvSpPr>
                <p:cNvPr id="211" name=""/>
                <p:cNvSpPr/>
                <p:nvPr/>
              </p:nvSpPr>
              <p:spPr>
                <a:xfrm rot="10800000">
                  <a:off x="4722480" y="3885480"/>
                  <a:ext cx="1295280" cy="1120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0b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651200" y="3814560"/>
                  <a:ext cx="144000" cy="144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298840" y="4965480"/>
                  <a:ext cx="144000" cy="144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946480" y="3814560"/>
                  <a:ext cx="144360" cy="144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508640" y="3357720"/>
                  <a:ext cx="421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v-SE" sz="2400" spc="-1" strike="noStrike">
                      <a:solidFill>
                        <a:srgbClr val="ffffeb"/>
                      </a:solidFill>
                      <a:latin typeface="Times New Roman"/>
                    </a:rPr>
                    <a:t>v</a:t>
                  </a:r>
                  <a:r>
                    <a:rPr b="0" lang="sv-SE" sz="2400" spc="-1" strike="noStrike" baseline="-25000">
                      <a:solidFill>
                        <a:srgbClr val="ffffeb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229000" y="5038560"/>
                  <a:ext cx="421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v-SE" sz="2400" spc="-1" strike="noStrike">
                      <a:solidFill>
                        <a:srgbClr val="ffffeb"/>
                      </a:solidFill>
                      <a:latin typeface="Times New Roman"/>
                    </a:rPr>
                    <a:t>v</a:t>
                  </a:r>
                  <a:r>
                    <a:rPr b="0" lang="sv-SE" sz="2400" spc="-1" strike="noStrike" baseline="-25000">
                      <a:solidFill>
                        <a:srgbClr val="ffffeb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805360" y="3357720"/>
                  <a:ext cx="421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v-SE" sz="2400" spc="-1" strike="noStrike">
                      <a:solidFill>
                        <a:srgbClr val="ffffeb"/>
                      </a:solidFill>
                      <a:latin typeface="Times New Roman"/>
                    </a:rPr>
                    <a:t>v</a:t>
                  </a:r>
                  <a:r>
                    <a:rPr b="0" lang="sv-SE" sz="2400" spc="-1" strike="noStrike" baseline="-25000">
                      <a:solidFill>
                        <a:srgbClr val="ffffeb"/>
                      </a:solidFill>
                      <a:latin typeface="Times New Roman"/>
                    </a:rPr>
                    <a:t>6</a:t>
                  </a:r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5067000" y="405252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Times New Roman"/>
                  </a:rPr>
                  <a:t>T2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5370480" y="3886200"/>
              <a:ext cx="1582200" cy="1636920"/>
              <a:chOff x="5370480" y="3886200"/>
              <a:chExt cx="1582200" cy="163692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5370480" y="3886200"/>
                <a:ext cx="1582200" cy="1636920"/>
                <a:chOff x="5370480" y="3886200"/>
                <a:chExt cx="1582200" cy="16369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5370480" y="3886200"/>
                  <a:ext cx="1295280" cy="1120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531120" y="5013000"/>
                  <a:ext cx="421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v-SE" sz="2400" spc="-1" strike="noStrike">
                      <a:solidFill>
                        <a:srgbClr val="ffffeb"/>
                      </a:solidFill>
                      <a:latin typeface="Times New Roman"/>
                    </a:rPr>
                    <a:t>v</a:t>
                  </a:r>
                  <a:r>
                    <a:rPr b="0" lang="sv-SE" sz="2400" spc="-1" strike="noStrike" baseline="-25000">
                      <a:solidFill>
                        <a:srgbClr val="ffffeb"/>
                      </a:solidFill>
                      <a:latin typeface="Times New Roman"/>
                    </a:rPr>
                    <a:t>7</a:t>
                  </a:r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594480" y="4966920"/>
                  <a:ext cx="144360" cy="144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5715000" y="434016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Times New Roman"/>
                  </a:rPr>
                  <a:t>T3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5" name=""/>
          <p:cNvSpPr/>
          <p:nvPr/>
        </p:nvSpPr>
        <p:spPr>
          <a:xfrm>
            <a:off x="971640" y="5445000"/>
            <a:ext cx="8001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Send these vertices: 0,1,2,3, 3,4, 4,5,6,7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10 vertices (sending as 2 strips: 8 vertices)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If 3 and 4 are cached, then 8 vertices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203640" y="3860640"/>
            <a:ext cx="1512720" cy="11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33480" y="3789360"/>
            <a:ext cx="173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Times New Roman"/>
              </a:rPr>
              <a:t>Generates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Times New Roman"/>
              </a:rPr>
              <a:t>4 degenerate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Times New Roman"/>
              </a:rPr>
              <a:t>triangles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8T07:00:51Z</dcterms:created>
  <dc:creator>Tomas Moller</dc:creator>
  <dc:description/>
  <dc:language>en-US</dc:language>
  <cp:lastModifiedBy>Tomas Akenine-Möller</cp:lastModifiedBy>
  <cp:lastPrinted>2000-03-14T19:25:07Z</cp:lastPrinted>
  <dcterms:modified xsi:type="dcterms:W3CDTF">2005-12-14T07:30:07Z</dcterms:modified>
  <cp:revision>220</cp:revision>
  <dc:subject/>
  <dc:title>CS248</dc:title>
</cp:coreProperties>
</file>