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400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06ECBBA-7078-440D-8496-1A651B0F2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look up the word CULL in a DICTIONA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it all about: do NOT send geometry through the pipeline if it does not contribute to the final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: Z-buffer is NOT very smart  -- every pixel can be unnecessarily overdrawn several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if the ROOT is OUTSIDE, then we’re done, don’t need to render or traverse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ample: imagine walking around in a CITY, a lot of GEOMETRY will be CULLED, for example, everything BEHIND the vie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is is one way of using the scene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F CULL: often used as an algorithm to compare performance, i.e., our algorithm is 10x faster than VF c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INED VIEW FRUSTUM CULLING : frustum gets smaller for each door (portal) we look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through doors in a 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good for indoor scene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== R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S == DOORS or 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 OBJECTS: because an object might be seen through 2 different por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do not want to render them TW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ÏVE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spheres place on a line, viewer looking along this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, all 4 spheres are rend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NSELY OCCLUDED ENVIRON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scr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higher level, most OC algorithms work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ick of OC: to find simple occlusion representations, which can merge occluders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82D7C-E81E-4C3A-9D16-79FD5E1B9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62B28-9F25-454E-832A-131A7AB7E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09B80-7281-4635-AEF4-B145A49C9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6A90-C3D3-43D8-9C0A-F6ACF2D40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B172F-9373-403F-BDAF-2DE14CC6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105CE-FF37-42E5-A826-88F633B6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E4AD6-E7D9-4363-9607-682340A0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5B1D3-2051-4F22-9645-7EF0CA53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47792-8191-431A-A91A-D81B7C6F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5872B-F85E-4FBC-BB40-022C7EF8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BE585-71F6-4233-8B2C-65BA5693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CA42-E7F9-4223-A5A1-AEB8275EC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B80C4-FD36-4E83-A079-666F7256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D929B-BE68-481B-BECE-B3E98917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6EEFE-3309-48B6-8DCD-B0A85BD4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85BC1-520F-42DA-84CD-C350637B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2C10C-91C4-44AF-B4FD-EDC53353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698B-4AB4-4C1E-849C-FC4FF4385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0C3EF-D9A6-48B2-9636-496B911DD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752B-5C8C-4E9C-A1BD-E9D3616F0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7AD5-A950-44C1-A9D7-895148E7A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247A-B98C-442E-AEE1-A85FB3B23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1A95-1753-4093-9256-BD1CA453D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D5FB3-BD26-4987-A25B-FA8152AFD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3808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67652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1371600"/>
            <a:ext cx="5105520" cy="6094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248160" y="6550560"/>
            <a:ext cx="28191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82b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Tomas Akenine-M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ő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ller 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©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F6B1-08DC-47EF-B519-59136BCA6793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2D33-5ED3-45AD-9815-CB0B0BBF9B92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Spatial Data Structures</a:t>
            </a:r>
            <a:br>
              <a:rPr sz="3600"/>
            </a:b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and Speed-Up Technique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3428640"/>
            <a:ext cx="44704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Tomas Akenine-Möller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Department of Computer Engineering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Chalmers University of Technology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xis-Aligned BSP tree (1)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an only make a splitting plane along x,y, or z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600200" y="2743200"/>
            <a:ext cx="2529720" cy="1607400"/>
            <a:chOff x="1600200" y="2743200"/>
            <a:chExt cx="2529720" cy="1607400"/>
          </a:xfrm>
        </p:grpSpPr>
        <p:sp>
          <p:nvSpPr>
            <p:cNvPr id="321" name=""/>
            <p:cNvSpPr/>
            <p:nvPr/>
          </p:nvSpPr>
          <p:spPr>
            <a:xfrm>
              <a:off x="1752840" y="2895480"/>
              <a:ext cx="380880" cy="381240"/>
            </a:xfrm>
            <a:prstGeom prst="plus">
              <a:avLst>
                <a:gd name="adj" fmla="val 25000"/>
              </a:avLst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733920"/>
              <a:ext cx="685800" cy="249120"/>
            </a:xfrm>
            <a:prstGeom prst="ellipse">
              <a:avLst/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8185400">
              <a:off x="2489400" y="3834720"/>
              <a:ext cx="762120" cy="254160"/>
            </a:xfrm>
            <a:prstGeom prst="rect">
              <a:avLst/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43200" y="2743200"/>
              <a:ext cx="474840" cy="609480"/>
            </a:xfrm>
            <a:custGeom>
              <a:avLst/>
              <a:gdLst/>
              <a:ahLst/>
              <a:rect l="l" t="t" r="r" b="b"/>
              <a:pathLst>
                <a:path w="544" h="699">
                  <a:moveTo>
                    <a:pt x="128" y="20"/>
                  </a:moveTo>
                  <a:cubicBezTo>
                    <a:pt x="83" y="30"/>
                    <a:pt x="53" y="56"/>
                    <a:pt x="17" y="82"/>
                  </a:cubicBezTo>
                  <a:cubicBezTo>
                    <a:pt x="8" y="99"/>
                    <a:pt x="4" y="112"/>
                    <a:pt x="0" y="131"/>
                  </a:cubicBezTo>
                  <a:cubicBezTo>
                    <a:pt x="3" y="143"/>
                    <a:pt x="3" y="156"/>
                    <a:pt x="8" y="167"/>
                  </a:cubicBezTo>
                  <a:cubicBezTo>
                    <a:pt x="17" y="188"/>
                    <a:pt x="45" y="204"/>
                    <a:pt x="62" y="215"/>
                  </a:cubicBezTo>
                  <a:cubicBezTo>
                    <a:pt x="90" y="233"/>
                    <a:pt x="117" y="258"/>
                    <a:pt x="146" y="277"/>
                  </a:cubicBezTo>
                  <a:cubicBezTo>
                    <a:pt x="166" y="309"/>
                    <a:pt x="178" y="339"/>
                    <a:pt x="186" y="375"/>
                  </a:cubicBezTo>
                  <a:cubicBezTo>
                    <a:pt x="184" y="388"/>
                    <a:pt x="184" y="402"/>
                    <a:pt x="181" y="415"/>
                  </a:cubicBezTo>
                  <a:cubicBezTo>
                    <a:pt x="175" y="437"/>
                    <a:pt x="147" y="448"/>
                    <a:pt x="132" y="463"/>
                  </a:cubicBezTo>
                  <a:cubicBezTo>
                    <a:pt x="89" y="506"/>
                    <a:pt x="41" y="539"/>
                    <a:pt x="22" y="601"/>
                  </a:cubicBezTo>
                  <a:cubicBezTo>
                    <a:pt x="36" y="648"/>
                    <a:pt x="78" y="685"/>
                    <a:pt x="124" y="698"/>
                  </a:cubicBezTo>
                  <a:cubicBezTo>
                    <a:pt x="150" y="697"/>
                    <a:pt x="177" y="699"/>
                    <a:pt x="203" y="694"/>
                  </a:cubicBezTo>
                  <a:cubicBezTo>
                    <a:pt x="268" y="683"/>
                    <a:pt x="326" y="629"/>
                    <a:pt x="376" y="592"/>
                  </a:cubicBezTo>
                  <a:cubicBezTo>
                    <a:pt x="395" y="578"/>
                    <a:pt x="418" y="569"/>
                    <a:pt x="438" y="556"/>
                  </a:cubicBezTo>
                  <a:cubicBezTo>
                    <a:pt x="469" y="537"/>
                    <a:pt x="483" y="509"/>
                    <a:pt x="500" y="477"/>
                  </a:cubicBezTo>
                  <a:cubicBezTo>
                    <a:pt x="503" y="471"/>
                    <a:pt x="509" y="459"/>
                    <a:pt x="509" y="459"/>
                  </a:cubicBezTo>
                  <a:cubicBezTo>
                    <a:pt x="514" y="435"/>
                    <a:pt x="524" y="412"/>
                    <a:pt x="531" y="388"/>
                  </a:cubicBezTo>
                  <a:cubicBezTo>
                    <a:pt x="535" y="375"/>
                    <a:pt x="544" y="348"/>
                    <a:pt x="544" y="348"/>
                  </a:cubicBezTo>
                  <a:cubicBezTo>
                    <a:pt x="541" y="265"/>
                    <a:pt x="541" y="185"/>
                    <a:pt x="465" y="136"/>
                  </a:cubicBezTo>
                  <a:cubicBezTo>
                    <a:pt x="435" y="116"/>
                    <a:pt x="406" y="102"/>
                    <a:pt x="372" y="91"/>
                  </a:cubicBezTo>
                  <a:cubicBezTo>
                    <a:pt x="353" y="85"/>
                    <a:pt x="314" y="74"/>
                    <a:pt x="314" y="74"/>
                  </a:cubicBezTo>
                  <a:cubicBezTo>
                    <a:pt x="268" y="51"/>
                    <a:pt x="221" y="17"/>
                    <a:pt x="172" y="3"/>
                  </a:cubicBezTo>
                  <a:cubicBezTo>
                    <a:pt x="163" y="4"/>
                    <a:pt x="118" y="0"/>
                    <a:pt x="128" y="20"/>
                  </a:cubicBezTo>
                  <a:close/>
                </a:path>
              </a:pathLst>
            </a:custGeom>
            <a:solidFill>
              <a:srgbClr val="25357e"/>
            </a:solidFill>
            <a:ln w="19080">
              <a:solidFill>
                <a:srgbClr val="ffff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9435600">
              <a:off x="3504600" y="3022200"/>
              <a:ext cx="492120" cy="787320"/>
            </a:xfrm>
            <a:prstGeom prst="triangle">
              <a:avLst>
                <a:gd name="adj" fmla="val 50000"/>
              </a:avLst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523880" y="2666880"/>
            <a:ext cx="2438640" cy="1752840"/>
          </a:xfrm>
          <a:prstGeom prst="rect">
            <a:avLst/>
          </a:prstGeom>
          <a:noFill/>
          <a:ln w="2844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82320" y="2819520"/>
            <a:ext cx="1056960" cy="703800"/>
            <a:chOff x="382320" y="2819520"/>
            <a:chExt cx="1056960" cy="703800"/>
          </a:xfrm>
        </p:grpSpPr>
        <p:sp>
          <p:nvSpPr>
            <p:cNvPr id="328" name=""/>
            <p:cNvSpPr/>
            <p:nvPr/>
          </p:nvSpPr>
          <p:spPr>
            <a:xfrm>
              <a:off x="456840" y="3505320"/>
              <a:ext cx="76212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2320" y="2819520"/>
              <a:ext cx="105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Minimal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 </a:t>
              </a: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box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199040" y="2819520"/>
            <a:ext cx="1368000" cy="703800"/>
            <a:chOff x="4199040" y="2819520"/>
            <a:chExt cx="1368000" cy="703800"/>
          </a:xfrm>
        </p:grpSpPr>
        <p:sp>
          <p:nvSpPr>
            <p:cNvPr id="331" name=""/>
            <p:cNvSpPr/>
            <p:nvPr/>
          </p:nvSpPr>
          <p:spPr>
            <a:xfrm>
              <a:off x="4273200" y="3505320"/>
              <a:ext cx="76212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99040" y="2819520"/>
              <a:ext cx="136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Split along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plane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603760" y="2666880"/>
            <a:ext cx="2606040" cy="1752840"/>
            <a:chOff x="5603760" y="2666880"/>
            <a:chExt cx="2606040" cy="1752840"/>
          </a:xfrm>
        </p:grpSpPr>
        <p:grpSp>
          <p:nvGrpSpPr>
            <p:cNvPr id="334" name=""/>
            <p:cNvGrpSpPr/>
            <p:nvPr/>
          </p:nvGrpSpPr>
          <p:grpSpPr>
            <a:xfrm>
              <a:off x="5680080" y="2743200"/>
              <a:ext cx="2529720" cy="1607400"/>
              <a:chOff x="5680080" y="2743200"/>
              <a:chExt cx="2529720" cy="1607400"/>
            </a:xfrm>
          </p:grpSpPr>
          <p:sp>
            <p:nvSpPr>
              <p:cNvPr id="335" name=""/>
              <p:cNvSpPr/>
              <p:nvPr/>
            </p:nvSpPr>
            <p:spPr>
              <a:xfrm>
                <a:off x="5832720" y="2895480"/>
                <a:ext cx="380880" cy="381240"/>
              </a:xfrm>
              <a:prstGeom prst="plus">
                <a:avLst>
                  <a:gd name="adj" fmla="val 25000"/>
                </a:avLst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80080" y="3733920"/>
                <a:ext cx="685800" cy="249120"/>
              </a:xfrm>
              <a:prstGeom prst="ellipse">
                <a:avLst/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8185400">
                <a:off x="6569280" y="3834720"/>
                <a:ext cx="762120" cy="254160"/>
              </a:xfrm>
              <a:prstGeom prst="rect">
                <a:avLst/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23080" y="2743200"/>
                <a:ext cx="474840" cy="609480"/>
              </a:xfrm>
              <a:custGeom>
                <a:avLst/>
                <a:gdLst/>
                <a:ahLst/>
                <a:rect l="l" t="t" r="r" b="b"/>
                <a:pathLst>
                  <a:path w="544" h="699">
                    <a:moveTo>
                      <a:pt x="128" y="20"/>
                    </a:moveTo>
                    <a:cubicBezTo>
                      <a:pt x="83" y="30"/>
                      <a:pt x="53" y="56"/>
                      <a:pt x="17" y="82"/>
                    </a:cubicBezTo>
                    <a:cubicBezTo>
                      <a:pt x="8" y="99"/>
                      <a:pt x="4" y="112"/>
                      <a:pt x="0" y="131"/>
                    </a:cubicBezTo>
                    <a:cubicBezTo>
                      <a:pt x="3" y="143"/>
                      <a:pt x="3" y="156"/>
                      <a:pt x="8" y="167"/>
                    </a:cubicBezTo>
                    <a:cubicBezTo>
                      <a:pt x="17" y="188"/>
                      <a:pt x="45" y="204"/>
                      <a:pt x="62" y="215"/>
                    </a:cubicBezTo>
                    <a:cubicBezTo>
                      <a:pt x="90" y="233"/>
                      <a:pt x="117" y="258"/>
                      <a:pt x="146" y="277"/>
                    </a:cubicBezTo>
                    <a:cubicBezTo>
                      <a:pt x="166" y="309"/>
                      <a:pt x="178" y="339"/>
                      <a:pt x="186" y="375"/>
                    </a:cubicBezTo>
                    <a:cubicBezTo>
                      <a:pt x="184" y="388"/>
                      <a:pt x="184" y="402"/>
                      <a:pt x="181" y="415"/>
                    </a:cubicBezTo>
                    <a:cubicBezTo>
                      <a:pt x="175" y="437"/>
                      <a:pt x="147" y="448"/>
                      <a:pt x="132" y="463"/>
                    </a:cubicBezTo>
                    <a:cubicBezTo>
                      <a:pt x="89" y="506"/>
                      <a:pt x="41" y="539"/>
                      <a:pt x="22" y="601"/>
                    </a:cubicBezTo>
                    <a:cubicBezTo>
                      <a:pt x="36" y="648"/>
                      <a:pt x="78" y="685"/>
                      <a:pt x="124" y="698"/>
                    </a:cubicBezTo>
                    <a:cubicBezTo>
                      <a:pt x="150" y="697"/>
                      <a:pt x="177" y="699"/>
                      <a:pt x="203" y="694"/>
                    </a:cubicBezTo>
                    <a:cubicBezTo>
                      <a:pt x="268" y="683"/>
                      <a:pt x="326" y="629"/>
                      <a:pt x="376" y="592"/>
                    </a:cubicBezTo>
                    <a:cubicBezTo>
                      <a:pt x="395" y="578"/>
                      <a:pt x="418" y="569"/>
                      <a:pt x="438" y="556"/>
                    </a:cubicBezTo>
                    <a:cubicBezTo>
                      <a:pt x="469" y="537"/>
                      <a:pt x="483" y="509"/>
                      <a:pt x="500" y="477"/>
                    </a:cubicBezTo>
                    <a:cubicBezTo>
                      <a:pt x="503" y="471"/>
                      <a:pt x="509" y="459"/>
                      <a:pt x="509" y="459"/>
                    </a:cubicBezTo>
                    <a:cubicBezTo>
                      <a:pt x="514" y="435"/>
                      <a:pt x="524" y="412"/>
                      <a:pt x="531" y="388"/>
                    </a:cubicBezTo>
                    <a:cubicBezTo>
                      <a:pt x="535" y="375"/>
                      <a:pt x="544" y="348"/>
                      <a:pt x="544" y="348"/>
                    </a:cubicBezTo>
                    <a:cubicBezTo>
                      <a:pt x="541" y="265"/>
                      <a:pt x="541" y="185"/>
                      <a:pt x="465" y="136"/>
                    </a:cubicBezTo>
                    <a:cubicBezTo>
                      <a:pt x="435" y="116"/>
                      <a:pt x="406" y="102"/>
                      <a:pt x="372" y="91"/>
                    </a:cubicBezTo>
                    <a:cubicBezTo>
                      <a:pt x="353" y="85"/>
                      <a:pt x="314" y="74"/>
                      <a:pt x="314" y="74"/>
                    </a:cubicBezTo>
                    <a:cubicBezTo>
                      <a:pt x="268" y="51"/>
                      <a:pt x="221" y="17"/>
                      <a:pt x="172" y="3"/>
                    </a:cubicBezTo>
                    <a:cubicBezTo>
                      <a:pt x="163" y="4"/>
                      <a:pt x="118" y="0"/>
                      <a:pt x="128" y="20"/>
                    </a:cubicBezTo>
                    <a:close/>
                  </a:path>
                </a:pathLst>
              </a:custGeom>
              <a:solidFill>
                <a:srgbClr val="25357e"/>
              </a:solidFill>
              <a:ln w="19080">
                <a:solidFill>
                  <a:srgbClr val="ffffe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9435600">
                <a:off x="7584480" y="3022200"/>
                <a:ext cx="492120" cy="787320"/>
              </a:xfrm>
              <a:prstGeom prst="triangle">
                <a:avLst>
                  <a:gd name="adj" fmla="val 50000"/>
                </a:avLst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5603760" y="2666880"/>
              <a:ext cx="2438640" cy="1752840"/>
            </a:xfrm>
            <a:prstGeom prst="rect">
              <a:avLst/>
            </a:prstGeom>
            <a:noFill/>
            <a:ln w="284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77120" y="2666880"/>
              <a:ext cx="0" cy="1752840"/>
            </a:xfrm>
            <a:prstGeom prst="line">
              <a:avLst/>
            </a:prstGeom>
            <a:ln w="7632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116600" y="4648320"/>
            <a:ext cx="4016880" cy="1752480"/>
            <a:chOff x="4116600" y="4648320"/>
            <a:chExt cx="4016880" cy="1752480"/>
          </a:xfrm>
        </p:grpSpPr>
        <p:grpSp>
          <p:nvGrpSpPr>
            <p:cNvPr id="343" name=""/>
            <p:cNvGrpSpPr/>
            <p:nvPr/>
          </p:nvGrpSpPr>
          <p:grpSpPr>
            <a:xfrm>
              <a:off x="5603760" y="4724280"/>
              <a:ext cx="2529720" cy="1607400"/>
              <a:chOff x="5603760" y="4724280"/>
              <a:chExt cx="2529720" cy="1607400"/>
            </a:xfrm>
          </p:grpSpPr>
          <p:sp>
            <p:nvSpPr>
              <p:cNvPr id="344" name=""/>
              <p:cNvSpPr/>
              <p:nvPr/>
            </p:nvSpPr>
            <p:spPr>
              <a:xfrm>
                <a:off x="5756400" y="4876560"/>
                <a:ext cx="380880" cy="381240"/>
              </a:xfrm>
              <a:prstGeom prst="plus">
                <a:avLst>
                  <a:gd name="adj" fmla="val 25000"/>
                </a:avLst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603760" y="5715000"/>
                <a:ext cx="685800" cy="249120"/>
              </a:xfrm>
              <a:prstGeom prst="ellipse">
                <a:avLst/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8185400">
                <a:off x="6492960" y="5815800"/>
                <a:ext cx="762120" cy="254160"/>
              </a:xfrm>
              <a:prstGeom prst="rect">
                <a:avLst/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46760" y="4724280"/>
                <a:ext cx="474840" cy="609480"/>
              </a:xfrm>
              <a:custGeom>
                <a:avLst/>
                <a:gdLst/>
                <a:ahLst/>
                <a:rect l="l" t="t" r="r" b="b"/>
                <a:pathLst>
                  <a:path w="544" h="699">
                    <a:moveTo>
                      <a:pt x="128" y="20"/>
                    </a:moveTo>
                    <a:cubicBezTo>
                      <a:pt x="83" y="30"/>
                      <a:pt x="53" y="56"/>
                      <a:pt x="17" y="82"/>
                    </a:cubicBezTo>
                    <a:cubicBezTo>
                      <a:pt x="8" y="99"/>
                      <a:pt x="4" y="112"/>
                      <a:pt x="0" y="131"/>
                    </a:cubicBezTo>
                    <a:cubicBezTo>
                      <a:pt x="3" y="143"/>
                      <a:pt x="3" y="156"/>
                      <a:pt x="8" y="167"/>
                    </a:cubicBezTo>
                    <a:cubicBezTo>
                      <a:pt x="17" y="188"/>
                      <a:pt x="45" y="204"/>
                      <a:pt x="62" y="215"/>
                    </a:cubicBezTo>
                    <a:cubicBezTo>
                      <a:pt x="90" y="233"/>
                      <a:pt x="117" y="258"/>
                      <a:pt x="146" y="277"/>
                    </a:cubicBezTo>
                    <a:cubicBezTo>
                      <a:pt x="166" y="309"/>
                      <a:pt x="178" y="339"/>
                      <a:pt x="186" y="375"/>
                    </a:cubicBezTo>
                    <a:cubicBezTo>
                      <a:pt x="184" y="388"/>
                      <a:pt x="184" y="402"/>
                      <a:pt x="181" y="415"/>
                    </a:cubicBezTo>
                    <a:cubicBezTo>
                      <a:pt x="175" y="437"/>
                      <a:pt x="147" y="448"/>
                      <a:pt x="132" y="463"/>
                    </a:cubicBezTo>
                    <a:cubicBezTo>
                      <a:pt x="89" y="506"/>
                      <a:pt x="41" y="539"/>
                      <a:pt x="22" y="601"/>
                    </a:cubicBezTo>
                    <a:cubicBezTo>
                      <a:pt x="36" y="648"/>
                      <a:pt x="78" y="685"/>
                      <a:pt x="124" y="698"/>
                    </a:cubicBezTo>
                    <a:cubicBezTo>
                      <a:pt x="150" y="697"/>
                      <a:pt x="177" y="699"/>
                      <a:pt x="203" y="694"/>
                    </a:cubicBezTo>
                    <a:cubicBezTo>
                      <a:pt x="268" y="683"/>
                      <a:pt x="326" y="629"/>
                      <a:pt x="376" y="592"/>
                    </a:cubicBezTo>
                    <a:cubicBezTo>
                      <a:pt x="395" y="578"/>
                      <a:pt x="418" y="569"/>
                      <a:pt x="438" y="556"/>
                    </a:cubicBezTo>
                    <a:cubicBezTo>
                      <a:pt x="469" y="537"/>
                      <a:pt x="483" y="509"/>
                      <a:pt x="500" y="477"/>
                    </a:cubicBezTo>
                    <a:cubicBezTo>
                      <a:pt x="503" y="471"/>
                      <a:pt x="509" y="459"/>
                      <a:pt x="509" y="459"/>
                    </a:cubicBezTo>
                    <a:cubicBezTo>
                      <a:pt x="514" y="435"/>
                      <a:pt x="524" y="412"/>
                      <a:pt x="531" y="388"/>
                    </a:cubicBezTo>
                    <a:cubicBezTo>
                      <a:pt x="535" y="375"/>
                      <a:pt x="544" y="348"/>
                      <a:pt x="544" y="348"/>
                    </a:cubicBezTo>
                    <a:cubicBezTo>
                      <a:pt x="541" y="265"/>
                      <a:pt x="541" y="185"/>
                      <a:pt x="465" y="136"/>
                    </a:cubicBezTo>
                    <a:cubicBezTo>
                      <a:pt x="435" y="116"/>
                      <a:pt x="406" y="102"/>
                      <a:pt x="372" y="91"/>
                    </a:cubicBezTo>
                    <a:cubicBezTo>
                      <a:pt x="353" y="85"/>
                      <a:pt x="314" y="74"/>
                      <a:pt x="314" y="74"/>
                    </a:cubicBezTo>
                    <a:cubicBezTo>
                      <a:pt x="268" y="51"/>
                      <a:pt x="221" y="17"/>
                      <a:pt x="172" y="3"/>
                    </a:cubicBezTo>
                    <a:cubicBezTo>
                      <a:pt x="163" y="4"/>
                      <a:pt x="118" y="0"/>
                      <a:pt x="128" y="20"/>
                    </a:cubicBezTo>
                    <a:close/>
                  </a:path>
                </a:pathLst>
              </a:custGeom>
              <a:solidFill>
                <a:srgbClr val="25357e"/>
              </a:solidFill>
              <a:ln w="19080">
                <a:solidFill>
                  <a:srgbClr val="ffffe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9435600">
                <a:off x="7508160" y="5003280"/>
                <a:ext cx="492120" cy="787320"/>
              </a:xfrm>
              <a:prstGeom prst="triangle">
                <a:avLst>
                  <a:gd name="adj" fmla="val 50000"/>
                </a:avLst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527800" y="4648320"/>
              <a:ext cx="2438280" cy="1752480"/>
            </a:xfrm>
            <a:prstGeom prst="rect">
              <a:avLst/>
            </a:prstGeom>
            <a:noFill/>
            <a:ln w="284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42200" y="4648320"/>
              <a:ext cx="0" cy="1752480"/>
            </a:xfrm>
            <a:prstGeom prst="line">
              <a:avLst/>
            </a:prstGeom>
            <a:ln w="284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27800" y="5638680"/>
              <a:ext cx="914400" cy="0"/>
            </a:xfrm>
            <a:prstGeom prst="line">
              <a:avLst/>
            </a:prstGeom>
            <a:ln w="284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42200" y="5410080"/>
              <a:ext cx="1523880" cy="0"/>
            </a:xfrm>
            <a:prstGeom prst="line">
              <a:avLst/>
            </a:prstGeom>
            <a:ln w="284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15200" y="4648320"/>
              <a:ext cx="0" cy="76176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4116600" y="5013360"/>
              <a:ext cx="1368000" cy="703800"/>
              <a:chOff x="4116600" y="5013360"/>
              <a:chExt cx="1368000" cy="703800"/>
            </a:xfrm>
          </p:grpSpPr>
          <p:sp>
            <p:nvSpPr>
              <p:cNvPr id="355" name=""/>
              <p:cNvSpPr/>
              <p:nvPr/>
            </p:nvSpPr>
            <p:spPr>
              <a:xfrm>
                <a:off x="4190760" y="5699160"/>
                <a:ext cx="7621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16600" y="5013360"/>
                <a:ext cx="1368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ffffeb"/>
                    </a:solidFill>
                    <a:latin typeface="Arial"/>
                  </a:rPr>
                  <a:t>Split along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ffffeb"/>
                    </a:solidFill>
                    <a:latin typeface="Arial"/>
                  </a:rPr>
                  <a:t>plan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154080" y="4648320"/>
            <a:ext cx="3975840" cy="1752480"/>
            <a:chOff x="154080" y="4648320"/>
            <a:chExt cx="3975840" cy="1752480"/>
          </a:xfrm>
        </p:grpSpPr>
        <p:grpSp>
          <p:nvGrpSpPr>
            <p:cNvPr id="358" name=""/>
            <p:cNvGrpSpPr/>
            <p:nvPr/>
          </p:nvGrpSpPr>
          <p:grpSpPr>
            <a:xfrm>
              <a:off x="1600200" y="4724280"/>
              <a:ext cx="2529720" cy="1607400"/>
              <a:chOff x="1600200" y="4724280"/>
              <a:chExt cx="2529720" cy="1607400"/>
            </a:xfrm>
          </p:grpSpPr>
          <p:sp>
            <p:nvSpPr>
              <p:cNvPr id="359" name=""/>
              <p:cNvSpPr/>
              <p:nvPr/>
            </p:nvSpPr>
            <p:spPr>
              <a:xfrm>
                <a:off x="1752840" y="4876560"/>
                <a:ext cx="380880" cy="381240"/>
              </a:xfrm>
              <a:prstGeom prst="plus">
                <a:avLst>
                  <a:gd name="adj" fmla="val 25000"/>
                </a:avLst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00200" y="5715000"/>
                <a:ext cx="685800" cy="249120"/>
              </a:xfrm>
              <a:prstGeom prst="ellipse">
                <a:avLst/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185400">
                <a:off x="2489400" y="5815800"/>
                <a:ext cx="762120" cy="254160"/>
              </a:xfrm>
              <a:prstGeom prst="rect">
                <a:avLst/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743200" y="4724280"/>
                <a:ext cx="474840" cy="609480"/>
              </a:xfrm>
              <a:custGeom>
                <a:avLst/>
                <a:gdLst/>
                <a:ahLst/>
                <a:rect l="l" t="t" r="r" b="b"/>
                <a:pathLst>
                  <a:path w="544" h="699">
                    <a:moveTo>
                      <a:pt x="128" y="20"/>
                    </a:moveTo>
                    <a:cubicBezTo>
                      <a:pt x="83" y="30"/>
                      <a:pt x="53" y="56"/>
                      <a:pt x="17" y="82"/>
                    </a:cubicBezTo>
                    <a:cubicBezTo>
                      <a:pt x="8" y="99"/>
                      <a:pt x="4" y="112"/>
                      <a:pt x="0" y="131"/>
                    </a:cubicBezTo>
                    <a:cubicBezTo>
                      <a:pt x="3" y="143"/>
                      <a:pt x="3" y="156"/>
                      <a:pt x="8" y="167"/>
                    </a:cubicBezTo>
                    <a:cubicBezTo>
                      <a:pt x="17" y="188"/>
                      <a:pt x="45" y="204"/>
                      <a:pt x="62" y="215"/>
                    </a:cubicBezTo>
                    <a:cubicBezTo>
                      <a:pt x="90" y="233"/>
                      <a:pt x="117" y="258"/>
                      <a:pt x="146" y="277"/>
                    </a:cubicBezTo>
                    <a:cubicBezTo>
                      <a:pt x="166" y="309"/>
                      <a:pt x="178" y="339"/>
                      <a:pt x="186" y="375"/>
                    </a:cubicBezTo>
                    <a:cubicBezTo>
                      <a:pt x="184" y="388"/>
                      <a:pt x="184" y="402"/>
                      <a:pt x="181" y="415"/>
                    </a:cubicBezTo>
                    <a:cubicBezTo>
                      <a:pt x="175" y="437"/>
                      <a:pt x="147" y="448"/>
                      <a:pt x="132" y="463"/>
                    </a:cubicBezTo>
                    <a:cubicBezTo>
                      <a:pt x="89" y="506"/>
                      <a:pt x="41" y="539"/>
                      <a:pt x="22" y="601"/>
                    </a:cubicBezTo>
                    <a:cubicBezTo>
                      <a:pt x="36" y="648"/>
                      <a:pt x="78" y="685"/>
                      <a:pt x="124" y="698"/>
                    </a:cubicBezTo>
                    <a:cubicBezTo>
                      <a:pt x="150" y="697"/>
                      <a:pt x="177" y="699"/>
                      <a:pt x="203" y="694"/>
                    </a:cubicBezTo>
                    <a:cubicBezTo>
                      <a:pt x="268" y="683"/>
                      <a:pt x="326" y="629"/>
                      <a:pt x="376" y="592"/>
                    </a:cubicBezTo>
                    <a:cubicBezTo>
                      <a:pt x="395" y="578"/>
                      <a:pt x="418" y="569"/>
                      <a:pt x="438" y="556"/>
                    </a:cubicBezTo>
                    <a:cubicBezTo>
                      <a:pt x="469" y="537"/>
                      <a:pt x="483" y="509"/>
                      <a:pt x="500" y="477"/>
                    </a:cubicBezTo>
                    <a:cubicBezTo>
                      <a:pt x="503" y="471"/>
                      <a:pt x="509" y="459"/>
                      <a:pt x="509" y="459"/>
                    </a:cubicBezTo>
                    <a:cubicBezTo>
                      <a:pt x="514" y="435"/>
                      <a:pt x="524" y="412"/>
                      <a:pt x="531" y="388"/>
                    </a:cubicBezTo>
                    <a:cubicBezTo>
                      <a:pt x="535" y="375"/>
                      <a:pt x="544" y="348"/>
                      <a:pt x="544" y="348"/>
                    </a:cubicBezTo>
                    <a:cubicBezTo>
                      <a:pt x="541" y="265"/>
                      <a:pt x="541" y="185"/>
                      <a:pt x="465" y="136"/>
                    </a:cubicBezTo>
                    <a:cubicBezTo>
                      <a:pt x="435" y="116"/>
                      <a:pt x="406" y="102"/>
                      <a:pt x="372" y="91"/>
                    </a:cubicBezTo>
                    <a:cubicBezTo>
                      <a:pt x="353" y="85"/>
                      <a:pt x="314" y="74"/>
                      <a:pt x="314" y="74"/>
                    </a:cubicBezTo>
                    <a:cubicBezTo>
                      <a:pt x="268" y="51"/>
                      <a:pt x="221" y="17"/>
                      <a:pt x="172" y="3"/>
                    </a:cubicBezTo>
                    <a:cubicBezTo>
                      <a:pt x="163" y="4"/>
                      <a:pt x="118" y="0"/>
                      <a:pt x="128" y="20"/>
                    </a:cubicBezTo>
                    <a:close/>
                  </a:path>
                </a:pathLst>
              </a:custGeom>
              <a:solidFill>
                <a:srgbClr val="25357e"/>
              </a:solidFill>
              <a:ln w="19080">
                <a:solidFill>
                  <a:srgbClr val="ffffe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9435600">
                <a:off x="3504600" y="5003280"/>
                <a:ext cx="492120" cy="787320"/>
              </a:xfrm>
              <a:prstGeom prst="triangle">
                <a:avLst>
                  <a:gd name="adj" fmla="val 50000"/>
                </a:avLst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1523880" y="4648320"/>
              <a:ext cx="2438640" cy="1752480"/>
            </a:xfrm>
            <a:prstGeom prst="rect">
              <a:avLst/>
            </a:prstGeom>
            <a:noFill/>
            <a:ln w="284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38280" y="4648320"/>
              <a:ext cx="0" cy="1752480"/>
            </a:xfrm>
            <a:prstGeom prst="line">
              <a:avLst/>
            </a:prstGeom>
            <a:ln w="284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23880" y="5638680"/>
              <a:ext cx="914400" cy="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38280" y="5410080"/>
              <a:ext cx="1524240" cy="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54080" y="5029200"/>
              <a:ext cx="1368000" cy="703800"/>
              <a:chOff x="154080" y="5029200"/>
              <a:chExt cx="1368000" cy="703800"/>
            </a:xfrm>
          </p:grpSpPr>
          <p:sp>
            <p:nvSpPr>
              <p:cNvPr id="369" name=""/>
              <p:cNvSpPr/>
              <p:nvPr/>
            </p:nvSpPr>
            <p:spPr>
              <a:xfrm>
                <a:off x="228240" y="5715000"/>
                <a:ext cx="7621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54080" y="5029200"/>
                <a:ext cx="1368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ffffeb"/>
                    </a:solidFill>
                    <a:latin typeface="Arial"/>
                  </a:rPr>
                  <a:t>Split along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ffffeb"/>
                    </a:solidFill>
                    <a:latin typeface="Arial"/>
                  </a:rPr>
                  <a:t>plan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xis-Aligned BSP tree (2)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43430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Each internal node holds a divider plan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Leaves hold geometry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Differences compared to BVH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453240" indent="-1742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Encloses entire space and provides sorting 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453240" indent="-1742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he BV hierarchy can be constructed in any way (no sort)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453240" indent="-1742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BVHs can use any desirable type of BV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90720" y="1523880"/>
            <a:ext cx="3451680" cy="2322360"/>
            <a:chOff x="990720" y="1523880"/>
            <a:chExt cx="3451680" cy="2322360"/>
          </a:xfrm>
        </p:grpSpPr>
        <p:grpSp>
          <p:nvGrpSpPr>
            <p:cNvPr id="374" name=""/>
            <p:cNvGrpSpPr/>
            <p:nvPr/>
          </p:nvGrpSpPr>
          <p:grpSpPr>
            <a:xfrm>
              <a:off x="990720" y="1523880"/>
              <a:ext cx="3451680" cy="2322360"/>
              <a:chOff x="990720" y="1523880"/>
              <a:chExt cx="3451680" cy="232236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1091160" y="1624680"/>
                <a:ext cx="3351240" cy="2130120"/>
                <a:chOff x="1091160" y="1624680"/>
                <a:chExt cx="3351240" cy="2130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1293120" y="1826280"/>
                  <a:ext cx="504360" cy="505080"/>
                </a:xfrm>
                <a:prstGeom prst="plus">
                  <a:avLst>
                    <a:gd name="adj" fmla="val 25000"/>
                  </a:avLst>
                </a:prstGeom>
                <a:solidFill>
                  <a:srgbClr val="25357e"/>
                </a:solidFill>
                <a:ln w="1908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091160" y="2937600"/>
                  <a:ext cx="908280" cy="330120"/>
                </a:xfrm>
                <a:prstGeom prst="ellipse">
                  <a:avLst/>
                </a:prstGeom>
                <a:solidFill>
                  <a:srgbClr val="25357e"/>
                </a:solidFill>
                <a:ln w="1908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8185400">
                  <a:off x="2268000" y="3071520"/>
                  <a:ext cx="1009800" cy="336600"/>
                </a:xfrm>
                <a:prstGeom prst="rect">
                  <a:avLst/>
                </a:prstGeom>
                <a:solidFill>
                  <a:srgbClr val="25357e"/>
                </a:solidFill>
                <a:ln w="1908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604960" y="1624680"/>
                  <a:ext cx="628920" cy="807480"/>
                </a:xfrm>
                <a:custGeom>
                  <a:avLst/>
                  <a:gdLst/>
                  <a:ahLst/>
                  <a:rect l="l" t="t" r="r" b="b"/>
                  <a:pathLst>
                    <a:path w="544" h="699">
                      <a:moveTo>
                        <a:pt x="128" y="20"/>
                      </a:moveTo>
                      <a:cubicBezTo>
                        <a:pt x="83" y="30"/>
                        <a:pt x="53" y="56"/>
                        <a:pt x="17" y="82"/>
                      </a:cubicBezTo>
                      <a:cubicBezTo>
                        <a:pt x="8" y="99"/>
                        <a:pt x="4" y="112"/>
                        <a:pt x="0" y="131"/>
                      </a:cubicBezTo>
                      <a:cubicBezTo>
                        <a:pt x="3" y="143"/>
                        <a:pt x="3" y="156"/>
                        <a:pt x="8" y="167"/>
                      </a:cubicBezTo>
                      <a:cubicBezTo>
                        <a:pt x="17" y="188"/>
                        <a:pt x="45" y="204"/>
                        <a:pt x="62" y="215"/>
                      </a:cubicBezTo>
                      <a:cubicBezTo>
                        <a:pt x="90" y="233"/>
                        <a:pt x="117" y="258"/>
                        <a:pt x="146" y="277"/>
                      </a:cubicBezTo>
                      <a:cubicBezTo>
                        <a:pt x="166" y="309"/>
                        <a:pt x="178" y="339"/>
                        <a:pt x="186" y="375"/>
                      </a:cubicBezTo>
                      <a:cubicBezTo>
                        <a:pt x="184" y="388"/>
                        <a:pt x="184" y="402"/>
                        <a:pt x="181" y="415"/>
                      </a:cubicBezTo>
                      <a:cubicBezTo>
                        <a:pt x="175" y="437"/>
                        <a:pt x="147" y="448"/>
                        <a:pt x="132" y="463"/>
                      </a:cubicBezTo>
                      <a:cubicBezTo>
                        <a:pt x="89" y="506"/>
                        <a:pt x="41" y="539"/>
                        <a:pt x="22" y="601"/>
                      </a:cubicBezTo>
                      <a:cubicBezTo>
                        <a:pt x="36" y="648"/>
                        <a:pt x="78" y="685"/>
                        <a:pt x="124" y="698"/>
                      </a:cubicBezTo>
                      <a:cubicBezTo>
                        <a:pt x="150" y="697"/>
                        <a:pt x="177" y="699"/>
                        <a:pt x="203" y="694"/>
                      </a:cubicBezTo>
                      <a:cubicBezTo>
                        <a:pt x="268" y="683"/>
                        <a:pt x="326" y="629"/>
                        <a:pt x="376" y="592"/>
                      </a:cubicBezTo>
                      <a:cubicBezTo>
                        <a:pt x="395" y="578"/>
                        <a:pt x="418" y="569"/>
                        <a:pt x="438" y="556"/>
                      </a:cubicBezTo>
                      <a:cubicBezTo>
                        <a:pt x="469" y="537"/>
                        <a:pt x="483" y="509"/>
                        <a:pt x="500" y="477"/>
                      </a:cubicBezTo>
                      <a:cubicBezTo>
                        <a:pt x="503" y="471"/>
                        <a:pt x="509" y="459"/>
                        <a:pt x="509" y="459"/>
                      </a:cubicBezTo>
                      <a:cubicBezTo>
                        <a:pt x="514" y="435"/>
                        <a:pt x="524" y="412"/>
                        <a:pt x="531" y="388"/>
                      </a:cubicBezTo>
                      <a:cubicBezTo>
                        <a:pt x="535" y="375"/>
                        <a:pt x="544" y="348"/>
                        <a:pt x="544" y="348"/>
                      </a:cubicBezTo>
                      <a:cubicBezTo>
                        <a:pt x="541" y="265"/>
                        <a:pt x="541" y="185"/>
                        <a:pt x="465" y="136"/>
                      </a:cubicBezTo>
                      <a:cubicBezTo>
                        <a:pt x="435" y="116"/>
                        <a:pt x="406" y="102"/>
                        <a:pt x="372" y="91"/>
                      </a:cubicBezTo>
                      <a:cubicBezTo>
                        <a:pt x="353" y="85"/>
                        <a:pt x="314" y="74"/>
                        <a:pt x="314" y="74"/>
                      </a:cubicBezTo>
                      <a:cubicBezTo>
                        <a:pt x="268" y="51"/>
                        <a:pt x="221" y="17"/>
                        <a:pt x="172" y="3"/>
                      </a:cubicBezTo>
                      <a:cubicBezTo>
                        <a:pt x="163" y="4"/>
                        <a:pt x="118" y="0"/>
                        <a:pt x="128" y="20"/>
                      </a:cubicBezTo>
                      <a:close/>
                    </a:path>
                  </a:pathLst>
                </a:custGeom>
                <a:solidFill>
                  <a:srgbClr val="25357e"/>
                </a:solidFill>
                <a:ln w="19080">
                  <a:solidFill>
                    <a:srgbClr val="ffff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9435600">
                  <a:off x="3614400" y="1994760"/>
                  <a:ext cx="651600" cy="1043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5357e"/>
                </a:solidFill>
                <a:ln w="1908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990720" y="1523880"/>
                <a:ext cx="3229920" cy="2322360"/>
              </a:xfrm>
              <a:prstGeom prst="rect">
                <a:avLst/>
              </a:prstGeom>
              <a:noFill/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01760" y="1523880"/>
                <a:ext cx="0" cy="2322360"/>
              </a:xfrm>
              <a:prstGeom prst="line">
                <a:avLst/>
              </a:prstGeom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990720" y="2836800"/>
                <a:ext cx="1211040" cy="0"/>
              </a:xfrm>
              <a:prstGeom prst="line">
                <a:avLst/>
              </a:prstGeom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01760" y="2533680"/>
                <a:ext cx="2018520" cy="0"/>
              </a:xfrm>
              <a:prstGeom prst="line">
                <a:avLst/>
              </a:prstGeom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58440" y="1523880"/>
                <a:ext cx="0" cy="1009800"/>
              </a:xfrm>
              <a:prstGeom prst="line">
                <a:avLst/>
              </a:prstGeom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002240" y="3325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31320" y="1523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46800" y="3281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00680" y="1523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09880" y="1523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209680" y="1523520"/>
            <a:ext cx="409320" cy="2361960"/>
            <a:chOff x="2209680" y="1523520"/>
            <a:chExt cx="409320" cy="2361960"/>
          </a:xfrm>
        </p:grpSpPr>
        <p:sp>
          <p:nvSpPr>
            <p:cNvPr id="392" name=""/>
            <p:cNvSpPr/>
            <p:nvPr/>
          </p:nvSpPr>
          <p:spPr>
            <a:xfrm rot="5400000">
              <a:off x="2058120" y="283176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eb"/>
                  </a:solidFill>
                  <a:latin typeface="Times New Roman"/>
                </a:rPr>
                <a:t>Plane 0</a:t>
              </a:r>
              <a:endParaRPr b="0" lang="en-US" sz="1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209680" y="1523520"/>
              <a:ext cx="0" cy="2361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90720" y="2514600"/>
            <a:ext cx="1257480" cy="337320"/>
            <a:chOff x="990720" y="2514600"/>
            <a:chExt cx="1257480" cy="337320"/>
          </a:xfrm>
        </p:grpSpPr>
        <p:sp>
          <p:nvSpPr>
            <p:cNvPr id="395" name=""/>
            <p:cNvSpPr/>
            <p:nvPr/>
          </p:nvSpPr>
          <p:spPr>
            <a:xfrm>
              <a:off x="1374120" y="2514600"/>
              <a:ext cx="87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eb"/>
                  </a:solidFill>
                  <a:latin typeface="Times New Roman"/>
                </a:rPr>
                <a:t>Plane 1a</a:t>
              </a:r>
              <a:endParaRPr b="0" lang="en-US" sz="1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990720" y="2819520"/>
              <a:ext cx="1218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209680" y="2438280"/>
            <a:ext cx="2057040" cy="337320"/>
            <a:chOff x="2209680" y="2438280"/>
            <a:chExt cx="2057040" cy="337320"/>
          </a:xfrm>
        </p:grpSpPr>
        <p:sp>
          <p:nvSpPr>
            <p:cNvPr id="398" name=""/>
            <p:cNvSpPr/>
            <p:nvPr/>
          </p:nvSpPr>
          <p:spPr>
            <a:xfrm>
              <a:off x="2885760" y="243828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eb"/>
                  </a:solidFill>
                  <a:latin typeface="Times New Roman"/>
                </a:rPr>
                <a:t>Plane 1b</a:t>
              </a:r>
              <a:endParaRPr b="0" lang="en-US" sz="1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209680" y="2514600"/>
              <a:ext cx="2057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3351600" y="1523880"/>
            <a:ext cx="337320" cy="1015200"/>
            <a:chOff x="3351600" y="1523880"/>
            <a:chExt cx="337320" cy="1015200"/>
          </a:xfrm>
        </p:grpSpPr>
        <p:sp>
          <p:nvSpPr>
            <p:cNvPr id="401" name=""/>
            <p:cNvSpPr/>
            <p:nvPr/>
          </p:nvSpPr>
          <p:spPr>
            <a:xfrm rot="5400000">
              <a:off x="3128040" y="197820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eb"/>
                  </a:solidFill>
                  <a:latin typeface="Times New Roman"/>
                </a:rPr>
                <a:t>Plane 2</a:t>
              </a:r>
              <a:endParaRPr b="0" lang="en-US" sz="1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352680" y="1523880"/>
              <a:ext cx="0" cy="99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172200" y="1371600"/>
            <a:ext cx="457200" cy="459720"/>
            <a:chOff x="6172200" y="1371600"/>
            <a:chExt cx="457200" cy="459720"/>
          </a:xfrm>
        </p:grpSpPr>
        <p:sp>
          <p:nvSpPr>
            <p:cNvPr id="404" name=""/>
            <p:cNvSpPr/>
            <p:nvPr/>
          </p:nvSpPr>
          <p:spPr>
            <a:xfrm>
              <a:off x="6172200" y="1371600"/>
              <a:ext cx="457200" cy="457200"/>
            </a:xfrm>
            <a:prstGeom prst="rect">
              <a:avLst/>
            </a:prstGeom>
            <a:noFill/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18280" y="13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313240" y="1828800"/>
            <a:ext cx="858960" cy="612000"/>
            <a:chOff x="5313240" y="1828800"/>
            <a:chExt cx="858960" cy="612000"/>
          </a:xfrm>
        </p:grpSpPr>
        <p:sp>
          <p:nvSpPr>
            <p:cNvPr id="407" name=""/>
            <p:cNvSpPr/>
            <p:nvPr/>
          </p:nvSpPr>
          <p:spPr>
            <a:xfrm>
              <a:off x="5334120" y="1981080"/>
              <a:ext cx="457200" cy="457200"/>
            </a:xfrm>
            <a:prstGeom prst="rect">
              <a:avLst/>
            </a:prstGeom>
            <a:noFill/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13240" y="19810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1a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791320" y="1828800"/>
              <a:ext cx="380880" cy="15228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724280" y="2438280"/>
            <a:ext cx="609480" cy="1295280"/>
            <a:chOff x="4724280" y="2438280"/>
            <a:chExt cx="609480" cy="1295280"/>
          </a:xfrm>
        </p:grpSpPr>
        <p:sp>
          <p:nvSpPr>
            <p:cNvPr id="411" name=""/>
            <p:cNvSpPr/>
            <p:nvPr/>
          </p:nvSpPr>
          <p:spPr>
            <a:xfrm>
              <a:off x="4724280" y="2895480"/>
              <a:ext cx="533520" cy="838080"/>
            </a:xfrm>
            <a:prstGeom prst="rect">
              <a:avLst/>
            </a:prstGeom>
            <a:noFill/>
            <a:ln w="1908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779000" y="2819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00600" y="3352680"/>
              <a:ext cx="380880" cy="138240"/>
            </a:xfrm>
            <a:prstGeom prst="ellipse">
              <a:avLst/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5028840" y="2438280"/>
              <a:ext cx="304920" cy="4572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562720" y="2438280"/>
            <a:ext cx="533160" cy="1295280"/>
            <a:chOff x="5562720" y="2438280"/>
            <a:chExt cx="533160" cy="1295280"/>
          </a:xfrm>
        </p:grpSpPr>
        <p:sp>
          <p:nvSpPr>
            <p:cNvPr id="416" name=""/>
            <p:cNvSpPr/>
            <p:nvPr/>
          </p:nvSpPr>
          <p:spPr>
            <a:xfrm>
              <a:off x="5715000" y="335268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62720" y="2895480"/>
              <a:ext cx="533160" cy="838080"/>
            </a:xfrm>
            <a:prstGeom prst="rect">
              <a:avLst/>
            </a:prstGeom>
            <a:noFill/>
            <a:ln w="1908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24640" y="2819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91320" y="2438280"/>
              <a:ext cx="75960" cy="4572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629400" y="1828800"/>
            <a:ext cx="921960" cy="612000"/>
            <a:chOff x="6629400" y="1828800"/>
            <a:chExt cx="921960" cy="612000"/>
          </a:xfrm>
        </p:grpSpPr>
        <p:sp>
          <p:nvSpPr>
            <p:cNvPr id="421" name=""/>
            <p:cNvSpPr/>
            <p:nvPr/>
          </p:nvSpPr>
          <p:spPr>
            <a:xfrm>
              <a:off x="7086600" y="1981080"/>
              <a:ext cx="457200" cy="457200"/>
            </a:xfrm>
            <a:prstGeom prst="rect">
              <a:avLst/>
            </a:prstGeom>
            <a:noFill/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65720" y="1981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1b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29400" y="1828800"/>
              <a:ext cx="457200" cy="15228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324480" y="2438280"/>
            <a:ext cx="762120" cy="1905120"/>
            <a:chOff x="6324480" y="2438280"/>
            <a:chExt cx="762120" cy="1905120"/>
          </a:xfrm>
        </p:grpSpPr>
        <p:sp>
          <p:nvSpPr>
            <p:cNvPr id="425" name=""/>
            <p:cNvSpPr/>
            <p:nvPr/>
          </p:nvSpPr>
          <p:spPr>
            <a:xfrm rot="9435600">
              <a:off x="6495840" y="3733560"/>
              <a:ext cx="285480" cy="457200"/>
            </a:xfrm>
            <a:prstGeom prst="triangle">
              <a:avLst>
                <a:gd name="adj" fmla="val 50000"/>
              </a:avLst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2895480"/>
              <a:ext cx="533520" cy="1447920"/>
            </a:xfrm>
            <a:prstGeom prst="rect">
              <a:avLst/>
            </a:prstGeom>
            <a:noFill/>
            <a:ln w="1908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96120" y="2819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8185400">
              <a:off x="6426000" y="3327120"/>
              <a:ext cx="380880" cy="127080"/>
            </a:xfrm>
            <a:prstGeom prst="rect">
              <a:avLst/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629400" y="2438280"/>
              <a:ext cx="457200" cy="4572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7543800" y="2438280"/>
            <a:ext cx="609480" cy="764640"/>
            <a:chOff x="7543800" y="2438280"/>
            <a:chExt cx="609480" cy="764640"/>
          </a:xfrm>
        </p:grpSpPr>
        <p:grpSp>
          <p:nvGrpSpPr>
            <p:cNvPr id="431" name=""/>
            <p:cNvGrpSpPr/>
            <p:nvPr/>
          </p:nvGrpSpPr>
          <p:grpSpPr>
            <a:xfrm>
              <a:off x="7696080" y="2743200"/>
              <a:ext cx="457200" cy="459720"/>
              <a:chOff x="7696080" y="2743200"/>
              <a:chExt cx="457200" cy="459720"/>
            </a:xfrm>
          </p:grpSpPr>
          <p:sp>
            <p:nvSpPr>
              <p:cNvPr id="432" name=""/>
              <p:cNvSpPr/>
              <p:nvPr/>
            </p:nvSpPr>
            <p:spPr>
              <a:xfrm>
                <a:off x="7742520" y="27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eb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696080" y="2743200"/>
                <a:ext cx="457200" cy="457200"/>
              </a:xfrm>
              <a:prstGeom prst="rect">
                <a:avLst/>
              </a:prstGeom>
              <a:noFill/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7543800" y="2438280"/>
              <a:ext cx="380880" cy="3049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162920" y="3200400"/>
            <a:ext cx="533160" cy="1143000"/>
            <a:chOff x="7162920" y="3200400"/>
            <a:chExt cx="533160" cy="1143000"/>
          </a:xfrm>
        </p:grpSpPr>
        <p:grpSp>
          <p:nvGrpSpPr>
            <p:cNvPr id="436" name=""/>
            <p:cNvGrpSpPr/>
            <p:nvPr/>
          </p:nvGrpSpPr>
          <p:grpSpPr>
            <a:xfrm>
              <a:off x="7162920" y="3429000"/>
              <a:ext cx="533160" cy="914400"/>
              <a:chOff x="7162920" y="3429000"/>
              <a:chExt cx="533160" cy="914400"/>
            </a:xfrm>
          </p:grpSpPr>
          <p:sp>
            <p:nvSpPr>
              <p:cNvPr id="437" name=""/>
              <p:cNvSpPr/>
              <p:nvPr/>
            </p:nvSpPr>
            <p:spPr>
              <a:xfrm>
                <a:off x="7315200" y="3886200"/>
                <a:ext cx="297000" cy="380880"/>
              </a:xfrm>
              <a:custGeom>
                <a:avLst/>
                <a:gdLst/>
                <a:ahLst/>
                <a:rect l="l" t="t" r="r" b="b"/>
                <a:pathLst>
                  <a:path w="544" h="699">
                    <a:moveTo>
                      <a:pt x="128" y="20"/>
                    </a:moveTo>
                    <a:cubicBezTo>
                      <a:pt x="83" y="30"/>
                      <a:pt x="53" y="56"/>
                      <a:pt x="17" y="82"/>
                    </a:cubicBezTo>
                    <a:cubicBezTo>
                      <a:pt x="8" y="99"/>
                      <a:pt x="4" y="112"/>
                      <a:pt x="0" y="131"/>
                    </a:cubicBezTo>
                    <a:cubicBezTo>
                      <a:pt x="3" y="143"/>
                      <a:pt x="3" y="156"/>
                      <a:pt x="8" y="167"/>
                    </a:cubicBezTo>
                    <a:cubicBezTo>
                      <a:pt x="17" y="188"/>
                      <a:pt x="45" y="204"/>
                      <a:pt x="62" y="215"/>
                    </a:cubicBezTo>
                    <a:cubicBezTo>
                      <a:pt x="90" y="233"/>
                      <a:pt x="117" y="258"/>
                      <a:pt x="146" y="277"/>
                    </a:cubicBezTo>
                    <a:cubicBezTo>
                      <a:pt x="166" y="309"/>
                      <a:pt x="178" y="339"/>
                      <a:pt x="186" y="375"/>
                    </a:cubicBezTo>
                    <a:cubicBezTo>
                      <a:pt x="184" y="388"/>
                      <a:pt x="184" y="402"/>
                      <a:pt x="181" y="415"/>
                    </a:cubicBezTo>
                    <a:cubicBezTo>
                      <a:pt x="175" y="437"/>
                      <a:pt x="147" y="448"/>
                      <a:pt x="132" y="463"/>
                    </a:cubicBezTo>
                    <a:cubicBezTo>
                      <a:pt x="89" y="506"/>
                      <a:pt x="41" y="539"/>
                      <a:pt x="22" y="601"/>
                    </a:cubicBezTo>
                    <a:cubicBezTo>
                      <a:pt x="36" y="648"/>
                      <a:pt x="78" y="685"/>
                      <a:pt x="124" y="698"/>
                    </a:cubicBezTo>
                    <a:cubicBezTo>
                      <a:pt x="150" y="697"/>
                      <a:pt x="177" y="699"/>
                      <a:pt x="203" y="694"/>
                    </a:cubicBezTo>
                    <a:cubicBezTo>
                      <a:pt x="268" y="683"/>
                      <a:pt x="326" y="629"/>
                      <a:pt x="376" y="592"/>
                    </a:cubicBezTo>
                    <a:cubicBezTo>
                      <a:pt x="395" y="578"/>
                      <a:pt x="418" y="569"/>
                      <a:pt x="438" y="556"/>
                    </a:cubicBezTo>
                    <a:cubicBezTo>
                      <a:pt x="469" y="537"/>
                      <a:pt x="483" y="509"/>
                      <a:pt x="500" y="477"/>
                    </a:cubicBezTo>
                    <a:cubicBezTo>
                      <a:pt x="503" y="471"/>
                      <a:pt x="509" y="459"/>
                      <a:pt x="509" y="459"/>
                    </a:cubicBezTo>
                    <a:cubicBezTo>
                      <a:pt x="514" y="435"/>
                      <a:pt x="524" y="412"/>
                      <a:pt x="531" y="388"/>
                    </a:cubicBezTo>
                    <a:cubicBezTo>
                      <a:pt x="535" y="375"/>
                      <a:pt x="544" y="348"/>
                      <a:pt x="544" y="348"/>
                    </a:cubicBezTo>
                    <a:cubicBezTo>
                      <a:pt x="541" y="265"/>
                      <a:pt x="541" y="185"/>
                      <a:pt x="465" y="136"/>
                    </a:cubicBezTo>
                    <a:cubicBezTo>
                      <a:pt x="435" y="116"/>
                      <a:pt x="406" y="102"/>
                      <a:pt x="372" y="91"/>
                    </a:cubicBezTo>
                    <a:cubicBezTo>
                      <a:pt x="353" y="85"/>
                      <a:pt x="314" y="74"/>
                      <a:pt x="314" y="74"/>
                    </a:cubicBezTo>
                    <a:cubicBezTo>
                      <a:pt x="268" y="51"/>
                      <a:pt x="221" y="17"/>
                      <a:pt x="172" y="3"/>
                    </a:cubicBezTo>
                    <a:cubicBezTo>
                      <a:pt x="163" y="4"/>
                      <a:pt x="118" y="0"/>
                      <a:pt x="128" y="20"/>
                    </a:cubicBezTo>
                    <a:close/>
                  </a:path>
                </a:pathLst>
              </a:custGeom>
              <a:solidFill>
                <a:srgbClr val="25357e"/>
              </a:solidFill>
              <a:ln w="19080">
                <a:solidFill>
                  <a:srgbClr val="ffffe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162920" y="3504960"/>
                <a:ext cx="533160" cy="838440"/>
              </a:xfrm>
              <a:prstGeom prst="rect">
                <a:avLst/>
              </a:prstGeom>
              <a:noFill/>
              <a:ln w="1908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217280" y="3429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eb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 flipV="1">
              <a:off x="7391520" y="3200400"/>
              <a:ext cx="304560" cy="30456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8153280" y="3200400"/>
            <a:ext cx="533520" cy="1180800"/>
            <a:chOff x="8153280" y="3200400"/>
            <a:chExt cx="533520" cy="1180800"/>
          </a:xfrm>
        </p:grpSpPr>
        <p:sp>
          <p:nvSpPr>
            <p:cNvPr id="442" name=""/>
            <p:cNvSpPr/>
            <p:nvPr/>
          </p:nvSpPr>
          <p:spPr>
            <a:xfrm>
              <a:off x="8153280" y="3504960"/>
              <a:ext cx="533520" cy="838440"/>
            </a:xfrm>
            <a:prstGeom prst="rect">
              <a:avLst/>
            </a:prstGeom>
            <a:noFill/>
            <a:ln w="1908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224920" y="3429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9435600">
              <a:off x="8305560" y="3886200"/>
              <a:ext cx="285480" cy="457200"/>
            </a:xfrm>
            <a:prstGeom prst="triangle">
              <a:avLst>
                <a:gd name="adj" fmla="val 50000"/>
              </a:avLst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53280" y="3200400"/>
              <a:ext cx="304920" cy="30456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xis-aligned BSP tree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ough sort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est the planes against the point of view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est recursively from roo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ontinue on the ”hither” side to sort front to back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419720" y="4586400"/>
            <a:ext cx="550080" cy="596880"/>
            <a:chOff x="4419720" y="4586400"/>
            <a:chExt cx="550080" cy="596880"/>
          </a:xfrm>
        </p:grpSpPr>
        <p:sp>
          <p:nvSpPr>
            <p:cNvPr id="449" name=""/>
            <p:cNvSpPr/>
            <p:nvPr/>
          </p:nvSpPr>
          <p:spPr>
            <a:xfrm>
              <a:off x="4495680" y="4586400"/>
              <a:ext cx="381240" cy="30456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4419720" y="4890960"/>
              <a:ext cx="45720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72000" y="4738680"/>
              <a:ext cx="152280" cy="152280"/>
            </a:xfrm>
            <a:prstGeom prst="ellipse">
              <a:avLst/>
            </a:pr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21880" y="481500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eb"/>
                  </a:solidFill>
                  <a:latin typeface="Arial"/>
                </a:rPr>
                <a:t>eye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72200" y="2971800"/>
            <a:ext cx="2819160" cy="2159280"/>
            <a:chOff x="6172200" y="2971800"/>
            <a:chExt cx="2819160" cy="2159280"/>
          </a:xfrm>
        </p:grpSpPr>
        <p:grpSp>
          <p:nvGrpSpPr>
            <p:cNvPr id="454" name=""/>
            <p:cNvGrpSpPr/>
            <p:nvPr/>
          </p:nvGrpSpPr>
          <p:grpSpPr>
            <a:xfrm>
              <a:off x="7200360" y="2971800"/>
              <a:ext cx="327240" cy="433800"/>
              <a:chOff x="7200360" y="2971800"/>
              <a:chExt cx="327240" cy="433800"/>
            </a:xfrm>
          </p:grpSpPr>
          <p:sp>
            <p:nvSpPr>
              <p:cNvPr id="455" name=""/>
              <p:cNvSpPr/>
              <p:nvPr/>
            </p:nvSpPr>
            <p:spPr>
              <a:xfrm>
                <a:off x="7202160" y="2971800"/>
                <a:ext cx="325440" cy="328320"/>
              </a:xfrm>
              <a:prstGeom prst="rect">
                <a:avLst/>
              </a:prstGeom>
              <a:noFill/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200360" y="3006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ffffeb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6547680" y="3299760"/>
              <a:ext cx="653760" cy="543600"/>
              <a:chOff x="6547680" y="3299760"/>
              <a:chExt cx="653760" cy="543600"/>
            </a:xfrm>
          </p:grpSpPr>
          <p:sp>
            <p:nvSpPr>
              <p:cNvPr id="458" name=""/>
              <p:cNvSpPr/>
              <p:nvPr/>
            </p:nvSpPr>
            <p:spPr>
              <a:xfrm>
                <a:off x="6605640" y="3408840"/>
                <a:ext cx="325080" cy="328320"/>
              </a:xfrm>
              <a:prstGeom prst="rect">
                <a:avLst/>
              </a:prstGeom>
              <a:noFill/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47680" y="3444480"/>
                <a:ext cx="42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ffffeb"/>
                    </a:solidFill>
                    <a:latin typeface="Times New Roman"/>
                  </a:rPr>
                  <a:t>1a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6930720" y="3299760"/>
                <a:ext cx="270720" cy="10908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6172200" y="3737880"/>
              <a:ext cx="433440" cy="929520"/>
              <a:chOff x="6172200" y="3737880"/>
              <a:chExt cx="433440" cy="929520"/>
            </a:xfrm>
          </p:grpSpPr>
          <p:sp>
            <p:nvSpPr>
              <p:cNvPr id="462" name=""/>
              <p:cNvSpPr/>
              <p:nvPr/>
            </p:nvSpPr>
            <p:spPr>
              <a:xfrm>
                <a:off x="6172200" y="4065840"/>
                <a:ext cx="379080" cy="601560"/>
              </a:xfrm>
              <a:prstGeom prst="rect">
                <a:avLst/>
              </a:prstGeom>
              <a:noFill/>
              <a:ln w="1908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173640" y="404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ffffeb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226200" y="4394160"/>
                <a:ext cx="270720" cy="99000"/>
              </a:xfrm>
              <a:prstGeom prst="ellipse">
                <a:avLst/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6388920" y="3737880"/>
                <a:ext cx="216720" cy="32796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768360" y="3737880"/>
              <a:ext cx="379440" cy="929520"/>
              <a:chOff x="6768360" y="3737880"/>
              <a:chExt cx="379440" cy="929520"/>
            </a:xfrm>
          </p:grpSpPr>
          <p:sp>
            <p:nvSpPr>
              <p:cNvPr id="467" name=""/>
              <p:cNvSpPr/>
              <p:nvPr/>
            </p:nvSpPr>
            <p:spPr>
              <a:xfrm>
                <a:off x="6876720" y="4394160"/>
                <a:ext cx="162720" cy="163800"/>
              </a:xfrm>
              <a:prstGeom prst="plus">
                <a:avLst>
                  <a:gd name="adj" fmla="val 25000"/>
                </a:avLst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68360" y="4065840"/>
                <a:ext cx="379440" cy="601560"/>
              </a:xfrm>
              <a:prstGeom prst="rect">
                <a:avLst/>
              </a:prstGeom>
              <a:noFill/>
              <a:ln w="1908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775560" y="40464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ffffeb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931080" y="3737880"/>
                <a:ext cx="54000" cy="32796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7527600" y="3299760"/>
              <a:ext cx="703800" cy="543600"/>
              <a:chOff x="7527600" y="3299760"/>
              <a:chExt cx="703800" cy="543600"/>
            </a:xfrm>
          </p:grpSpPr>
          <p:sp>
            <p:nvSpPr>
              <p:cNvPr id="472" name=""/>
              <p:cNvSpPr/>
              <p:nvPr/>
            </p:nvSpPr>
            <p:spPr>
              <a:xfrm>
                <a:off x="7852680" y="3408840"/>
                <a:ext cx="325080" cy="328320"/>
              </a:xfrm>
              <a:prstGeom prst="rect">
                <a:avLst/>
              </a:prstGeom>
              <a:noFill/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94720" y="344448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ffffeb"/>
                    </a:solidFill>
                    <a:latin typeface="Times New Roman"/>
                  </a:rPr>
                  <a:t>1b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527600" y="3299760"/>
                <a:ext cx="325080" cy="10908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310880" y="3737880"/>
              <a:ext cx="541440" cy="1367280"/>
              <a:chOff x="7310880" y="3737880"/>
              <a:chExt cx="541440" cy="1367280"/>
            </a:xfrm>
          </p:grpSpPr>
          <p:sp>
            <p:nvSpPr>
              <p:cNvPr id="476" name=""/>
              <p:cNvSpPr/>
              <p:nvPr/>
            </p:nvSpPr>
            <p:spPr>
              <a:xfrm rot="9435600">
                <a:off x="7432200" y="4667400"/>
                <a:ext cx="202680" cy="327960"/>
              </a:xfrm>
              <a:prstGeom prst="triangle">
                <a:avLst>
                  <a:gd name="adj" fmla="val 50000"/>
                </a:avLst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310880" y="4065840"/>
                <a:ext cx="379080" cy="1039320"/>
              </a:xfrm>
              <a:prstGeom prst="rect">
                <a:avLst/>
              </a:prstGeom>
              <a:noFill/>
              <a:ln w="1908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24560" y="40464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ffffeb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8185400">
                <a:off x="7381440" y="4375800"/>
                <a:ext cx="273240" cy="90360"/>
              </a:xfrm>
              <a:prstGeom prst="rect">
                <a:avLst/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7527240" y="3737880"/>
                <a:ext cx="325080" cy="32796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8178120" y="3737880"/>
              <a:ext cx="433440" cy="651240"/>
              <a:chOff x="8178120" y="3737880"/>
              <a:chExt cx="433440" cy="65124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8284320" y="3956400"/>
                <a:ext cx="327240" cy="432720"/>
                <a:chOff x="8284320" y="3956400"/>
                <a:chExt cx="327240" cy="4327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8284320" y="39902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2000" spc="-1" strike="noStrike">
                      <a:solidFill>
                        <a:srgbClr val="ffffeb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8286120" y="3956400"/>
                  <a:ext cx="325440" cy="327960"/>
                </a:xfrm>
                <a:prstGeom prst="rect">
                  <a:avLst/>
                </a:prstGeom>
                <a:noFill/>
                <a:ln w="1908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>
                <a:off x="8178120" y="3737880"/>
                <a:ext cx="271080" cy="21852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7905240" y="4284360"/>
              <a:ext cx="380880" cy="820080"/>
              <a:chOff x="7905240" y="4284360"/>
              <a:chExt cx="380880" cy="82008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7905240" y="4483800"/>
                <a:ext cx="380880" cy="620640"/>
                <a:chOff x="7905240" y="4483800"/>
                <a:chExt cx="380880" cy="62064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8015400" y="4776480"/>
                  <a:ext cx="210960" cy="273240"/>
                </a:xfrm>
                <a:custGeom>
                  <a:avLst/>
                  <a:gdLst/>
                  <a:ahLst/>
                  <a:rect l="l" t="t" r="r" b="b"/>
                  <a:pathLst>
                    <a:path w="544" h="699">
                      <a:moveTo>
                        <a:pt x="128" y="20"/>
                      </a:moveTo>
                      <a:cubicBezTo>
                        <a:pt x="83" y="30"/>
                        <a:pt x="53" y="56"/>
                        <a:pt x="17" y="82"/>
                      </a:cubicBezTo>
                      <a:cubicBezTo>
                        <a:pt x="8" y="99"/>
                        <a:pt x="4" y="112"/>
                        <a:pt x="0" y="131"/>
                      </a:cubicBezTo>
                      <a:cubicBezTo>
                        <a:pt x="3" y="143"/>
                        <a:pt x="3" y="156"/>
                        <a:pt x="8" y="167"/>
                      </a:cubicBezTo>
                      <a:cubicBezTo>
                        <a:pt x="17" y="188"/>
                        <a:pt x="45" y="204"/>
                        <a:pt x="62" y="215"/>
                      </a:cubicBezTo>
                      <a:cubicBezTo>
                        <a:pt x="90" y="233"/>
                        <a:pt x="117" y="258"/>
                        <a:pt x="146" y="277"/>
                      </a:cubicBezTo>
                      <a:cubicBezTo>
                        <a:pt x="166" y="309"/>
                        <a:pt x="178" y="339"/>
                        <a:pt x="186" y="375"/>
                      </a:cubicBezTo>
                      <a:cubicBezTo>
                        <a:pt x="184" y="388"/>
                        <a:pt x="184" y="402"/>
                        <a:pt x="181" y="415"/>
                      </a:cubicBezTo>
                      <a:cubicBezTo>
                        <a:pt x="175" y="437"/>
                        <a:pt x="147" y="448"/>
                        <a:pt x="132" y="463"/>
                      </a:cubicBezTo>
                      <a:cubicBezTo>
                        <a:pt x="89" y="506"/>
                        <a:pt x="41" y="539"/>
                        <a:pt x="22" y="601"/>
                      </a:cubicBezTo>
                      <a:cubicBezTo>
                        <a:pt x="36" y="648"/>
                        <a:pt x="78" y="685"/>
                        <a:pt x="124" y="698"/>
                      </a:cubicBezTo>
                      <a:cubicBezTo>
                        <a:pt x="150" y="697"/>
                        <a:pt x="177" y="699"/>
                        <a:pt x="203" y="694"/>
                      </a:cubicBezTo>
                      <a:cubicBezTo>
                        <a:pt x="268" y="683"/>
                        <a:pt x="326" y="629"/>
                        <a:pt x="376" y="592"/>
                      </a:cubicBezTo>
                      <a:cubicBezTo>
                        <a:pt x="395" y="578"/>
                        <a:pt x="418" y="569"/>
                        <a:pt x="438" y="556"/>
                      </a:cubicBezTo>
                      <a:cubicBezTo>
                        <a:pt x="469" y="537"/>
                        <a:pt x="483" y="509"/>
                        <a:pt x="500" y="477"/>
                      </a:cubicBezTo>
                      <a:cubicBezTo>
                        <a:pt x="503" y="471"/>
                        <a:pt x="509" y="459"/>
                        <a:pt x="509" y="459"/>
                      </a:cubicBezTo>
                      <a:cubicBezTo>
                        <a:pt x="514" y="435"/>
                        <a:pt x="524" y="412"/>
                        <a:pt x="531" y="388"/>
                      </a:cubicBezTo>
                      <a:cubicBezTo>
                        <a:pt x="535" y="375"/>
                        <a:pt x="544" y="348"/>
                        <a:pt x="544" y="348"/>
                      </a:cubicBezTo>
                      <a:cubicBezTo>
                        <a:pt x="541" y="265"/>
                        <a:pt x="541" y="185"/>
                        <a:pt x="465" y="136"/>
                      </a:cubicBezTo>
                      <a:cubicBezTo>
                        <a:pt x="435" y="116"/>
                        <a:pt x="406" y="102"/>
                        <a:pt x="372" y="91"/>
                      </a:cubicBezTo>
                      <a:cubicBezTo>
                        <a:pt x="353" y="85"/>
                        <a:pt x="314" y="74"/>
                        <a:pt x="314" y="74"/>
                      </a:cubicBezTo>
                      <a:cubicBezTo>
                        <a:pt x="268" y="51"/>
                        <a:pt x="221" y="17"/>
                        <a:pt x="172" y="3"/>
                      </a:cubicBezTo>
                      <a:cubicBezTo>
                        <a:pt x="163" y="4"/>
                        <a:pt x="118" y="0"/>
                        <a:pt x="128" y="20"/>
                      </a:cubicBezTo>
                      <a:close/>
                    </a:path>
                  </a:pathLst>
                </a:custGeom>
                <a:solidFill>
                  <a:srgbClr val="25357e"/>
                </a:solidFill>
                <a:ln w="19080">
                  <a:solidFill>
                    <a:srgbClr val="ffff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907040" y="4502880"/>
                  <a:ext cx="379080" cy="601560"/>
                </a:xfrm>
                <a:prstGeom prst="rect">
                  <a:avLst/>
                </a:prstGeom>
                <a:noFill/>
                <a:ln w="19080">
                  <a:solidFill>
                    <a:srgbClr val="ffff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905240" y="448380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2000" spc="-1" strike="noStrike">
                      <a:solidFill>
                        <a:srgbClr val="ffffeb"/>
                      </a:solidFill>
                      <a:latin typeface="Times New Roman"/>
                    </a:rPr>
                    <a:t>D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 flipV="1">
                <a:off x="8069760" y="4284360"/>
                <a:ext cx="216360" cy="21852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8612280" y="4284720"/>
              <a:ext cx="379080" cy="846360"/>
              <a:chOff x="8612280" y="4284720"/>
              <a:chExt cx="379080" cy="846360"/>
            </a:xfrm>
          </p:grpSpPr>
          <p:sp>
            <p:nvSpPr>
              <p:cNvPr id="493" name=""/>
              <p:cNvSpPr/>
              <p:nvPr/>
            </p:nvSpPr>
            <p:spPr>
              <a:xfrm>
                <a:off x="8612280" y="4503240"/>
                <a:ext cx="379080" cy="601560"/>
              </a:xfrm>
              <a:prstGeom prst="rect">
                <a:avLst/>
              </a:prstGeom>
              <a:noFill/>
              <a:ln w="1908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625960" y="44838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ffffeb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9435600">
                <a:off x="8719920" y="4776480"/>
                <a:ext cx="202680" cy="327960"/>
              </a:xfrm>
              <a:prstGeom prst="triangle">
                <a:avLst>
                  <a:gd name="adj" fmla="val 50000"/>
                </a:avLst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612280" y="4284720"/>
                <a:ext cx="216360" cy="21852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7" name=""/>
          <p:cNvSpPr/>
          <p:nvPr/>
        </p:nvSpPr>
        <p:spPr>
          <a:xfrm>
            <a:off x="7331400" y="5181480"/>
            <a:ext cx="34992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eb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955800" y="3200400"/>
            <a:ext cx="2605680" cy="1752480"/>
            <a:chOff x="955800" y="3200400"/>
            <a:chExt cx="2605680" cy="1752480"/>
          </a:xfrm>
        </p:grpSpPr>
        <p:grpSp>
          <p:nvGrpSpPr>
            <p:cNvPr id="499" name=""/>
            <p:cNvGrpSpPr/>
            <p:nvPr/>
          </p:nvGrpSpPr>
          <p:grpSpPr>
            <a:xfrm>
              <a:off x="955800" y="3200400"/>
              <a:ext cx="2605680" cy="1752480"/>
              <a:chOff x="955800" y="3200400"/>
              <a:chExt cx="2605680" cy="175248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1031760" y="3276360"/>
                <a:ext cx="2529720" cy="1607040"/>
                <a:chOff x="1031760" y="3276360"/>
                <a:chExt cx="2529720" cy="160704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1184400" y="3428280"/>
                  <a:ext cx="380880" cy="380880"/>
                </a:xfrm>
                <a:prstGeom prst="plus">
                  <a:avLst>
                    <a:gd name="adj" fmla="val 25000"/>
                  </a:avLst>
                </a:prstGeom>
                <a:solidFill>
                  <a:srgbClr val="25357e"/>
                </a:solidFill>
                <a:ln w="1908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031760" y="4266720"/>
                  <a:ext cx="685800" cy="248760"/>
                </a:xfrm>
                <a:prstGeom prst="ellipse">
                  <a:avLst/>
                </a:prstGeom>
                <a:solidFill>
                  <a:srgbClr val="25357e"/>
                </a:solidFill>
                <a:ln w="1908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8185400">
                  <a:off x="1920960" y="4367880"/>
                  <a:ext cx="761760" cy="254160"/>
                </a:xfrm>
                <a:prstGeom prst="rect">
                  <a:avLst/>
                </a:prstGeom>
                <a:solidFill>
                  <a:srgbClr val="25357e"/>
                </a:solidFill>
                <a:ln w="1908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174760" y="3276360"/>
                  <a:ext cx="474840" cy="609120"/>
                </a:xfrm>
                <a:custGeom>
                  <a:avLst/>
                  <a:gdLst/>
                  <a:ahLst/>
                  <a:rect l="l" t="t" r="r" b="b"/>
                  <a:pathLst>
                    <a:path w="544" h="699">
                      <a:moveTo>
                        <a:pt x="128" y="20"/>
                      </a:moveTo>
                      <a:cubicBezTo>
                        <a:pt x="83" y="30"/>
                        <a:pt x="53" y="56"/>
                        <a:pt x="17" y="82"/>
                      </a:cubicBezTo>
                      <a:cubicBezTo>
                        <a:pt x="8" y="99"/>
                        <a:pt x="4" y="112"/>
                        <a:pt x="0" y="131"/>
                      </a:cubicBezTo>
                      <a:cubicBezTo>
                        <a:pt x="3" y="143"/>
                        <a:pt x="3" y="156"/>
                        <a:pt x="8" y="167"/>
                      </a:cubicBezTo>
                      <a:cubicBezTo>
                        <a:pt x="17" y="188"/>
                        <a:pt x="45" y="204"/>
                        <a:pt x="62" y="215"/>
                      </a:cubicBezTo>
                      <a:cubicBezTo>
                        <a:pt x="90" y="233"/>
                        <a:pt x="117" y="258"/>
                        <a:pt x="146" y="277"/>
                      </a:cubicBezTo>
                      <a:cubicBezTo>
                        <a:pt x="166" y="309"/>
                        <a:pt x="178" y="339"/>
                        <a:pt x="186" y="375"/>
                      </a:cubicBezTo>
                      <a:cubicBezTo>
                        <a:pt x="184" y="388"/>
                        <a:pt x="184" y="402"/>
                        <a:pt x="181" y="415"/>
                      </a:cubicBezTo>
                      <a:cubicBezTo>
                        <a:pt x="175" y="437"/>
                        <a:pt x="147" y="448"/>
                        <a:pt x="132" y="463"/>
                      </a:cubicBezTo>
                      <a:cubicBezTo>
                        <a:pt x="89" y="506"/>
                        <a:pt x="41" y="539"/>
                        <a:pt x="22" y="601"/>
                      </a:cubicBezTo>
                      <a:cubicBezTo>
                        <a:pt x="36" y="648"/>
                        <a:pt x="78" y="685"/>
                        <a:pt x="124" y="698"/>
                      </a:cubicBezTo>
                      <a:cubicBezTo>
                        <a:pt x="150" y="697"/>
                        <a:pt x="177" y="699"/>
                        <a:pt x="203" y="694"/>
                      </a:cubicBezTo>
                      <a:cubicBezTo>
                        <a:pt x="268" y="683"/>
                        <a:pt x="326" y="629"/>
                        <a:pt x="376" y="592"/>
                      </a:cubicBezTo>
                      <a:cubicBezTo>
                        <a:pt x="395" y="578"/>
                        <a:pt x="418" y="569"/>
                        <a:pt x="438" y="556"/>
                      </a:cubicBezTo>
                      <a:cubicBezTo>
                        <a:pt x="469" y="537"/>
                        <a:pt x="483" y="509"/>
                        <a:pt x="500" y="477"/>
                      </a:cubicBezTo>
                      <a:cubicBezTo>
                        <a:pt x="503" y="471"/>
                        <a:pt x="509" y="459"/>
                        <a:pt x="509" y="459"/>
                      </a:cubicBezTo>
                      <a:cubicBezTo>
                        <a:pt x="514" y="435"/>
                        <a:pt x="524" y="412"/>
                        <a:pt x="531" y="388"/>
                      </a:cubicBezTo>
                      <a:cubicBezTo>
                        <a:pt x="535" y="375"/>
                        <a:pt x="544" y="348"/>
                        <a:pt x="544" y="348"/>
                      </a:cubicBezTo>
                      <a:cubicBezTo>
                        <a:pt x="541" y="265"/>
                        <a:pt x="541" y="185"/>
                        <a:pt x="465" y="136"/>
                      </a:cubicBezTo>
                      <a:cubicBezTo>
                        <a:pt x="435" y="116"/>
                        <a:pt x="406" y="102"/>
                        <a:pt x="372" y="91"/>
                      </a:cubicBezTo>
                      <a:cubicBezTo>
                        <a:pt x="353" y="85"/>
                        <a:pt x="314" y="74"/>
                        <a:pt x="314" y="74"/>
                      </a:cubicBezTo>
                      <a:cubicBezTo>
                        <a:pt x="268" y="51"/>
                        <a:pt x="221" y="17"/>
                        <a:pt x="172" y="3"/>
                      </a:cubicBezTo>
                      <a:cubicBezTo>
                        <a:pt x="163" y="4"/>
                        <a:pt x="118" y="0"/>
                        <a:pt x="128" y="20"/>
                      </a:cubicBezTo>
                      <a:close/>
                    </a:path>
                  </a:pathLst>
                </a:custGeom>
                <a:solidFill>
                  <a:srgbClr val="25357e"/>
                </a:solidFill>
                <a:ln w="19080">
                  <a:solidFill>
                    <a:srgbClr val="ffff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9435600">
                  <a:off x="2936160" y="3555360"/>
                  <a:ext cx="492120" cy="786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5357e"/>
                </a:solidFill>
                <a:ln w="1908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6" name=""/>
              <p:cNvSpPr/>
              <p:nvPr/>
            </p:nvSpPr>
            <p:spPr>
              <a:xfrm>
                <a:off x="955800" y="3200400"/>
                <a:ext cx="2438280" cy="1752480"/>
              </a:xfrm>
              <a:prstGeom prst="rect">
                <a:avLst/>
              </a:prstGeom>
              <a:noFill/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870200" y="3200400"/>
                <a:ext cx="0" cy="1752480"/>
              </a:xfrm>
              <a:prstGeom prst="line">
                <a:avLst/>
              </a:prstGeom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955800" y="4190760"/>
                <a:ext cx="914400" cy="0"/>
              </a:xfrm>
              <a:prstGeom prst="line">
                <a:avLst/>
              </a:prstGeom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870200" y="3962160"/>
                <a:ext cx="1523880" cy="0"/>
              </a:xfrm>
              <a:prstGeom prst="line">
                <a:avLst/>
              </a:prstGeom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743200" y="3200400"/>
                <a:ext cx="0" cy="761760"/>
              </a:xfrm>
              <a:prstGeom prst="line">
                <a:avLst/>
              </a:prstGeom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1109880" y="387180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eb"/>
                  </a:solidFill>
                  <a:latin typeface="Times New Roman"/>
                </a:rPr>
                <a:t>1a</a:t>
              </a:r>
              <a:endParaRPr b="0" lang="en-US" sz="1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42840" y="3886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eb"/>
                  </a:solidFill>
                  <a:latin typeface="Times New Roman"/>
                </a:rPr>
                <a:t>1b</a:t>
              </a:r>
              <a:endParaRPr b="0" lang="en-US" sz="1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5400000">
              <a:off x="2692800" y="3345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eb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5400000">
              <a:off x="1854720" y="4164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eb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828800" y="2895480"/>
            <a:ext cx="5791320" cy="3353040"/>
            <a:chOff x="1828800" y="2895480"/>
            <a:chExt cx="5791320" cy="3353040"/>
          </a:xfrm>
        </p:grpSpPr>
        <p:sp>
          <p:nvSpPr>
            <p:cNvPr id="516" name=""/>
            <p:cNvSpPr/>
            <p:nvPr/>
          </p:nvSpPr>
          <p:spPr>
            <a:xfrm>
              <a:off x="7086600" y="289548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28800" y="3124080"/>
              <a:ext cx="0" cy="3124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828440" y="3276720"/>
            <a:ext cx="6477480" cy="685800"/>
            <a:chOff x="1828440" y="3276720"/>
            <a:chExt cx="6477480" cy="685800"/>
          </a:xfrm>
        </p:grpSpPr>
        <p:sp>
          <p:nvSpPr>
            <p:cNvPr id="519" name=""/>
            <p:cNvSpPr/>
            <p:nvPr/>
          </p:nvSpPr>
          <p:spPr>
            <a:xfrm>
              <a:off x="7772400" y="3276720"/>
              <a:ext cx="53352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1828440" y="3962520"/>
              <a:ext cx="33526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2743200" y="2895480"/>
            <a:ext cx="5943600" cy="1524240"/>
            <a:chOff x="2743200" y="2895480"/>
            <a:chExt cx="5943600" cy="1524240"/>
          </a:xfrm>
        </p:grpSpPr>
        <p:sp>
          <p:nvSpPr>
            <p:cNvPr id="522" name=""/>
            <p:cNvSpPr/>
            <p:nvPr/>
          </p:nvSpPr>
          <p:spPr>
            <a:xfrm>
              <a:off x="8153280" y="38862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3200" y="2895480"/>
              <a:ext cx="0" cy="1067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8625240" y="5181480"/>
            <a:ext cx="34992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eb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940880" y="5181480"/>
            <a:ext cx="34992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eb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838080" y="3352680"/>
            <a:ext cx="6172200" cy="838440"/>
            <a:chOff x="838080" y="3352680"/>
            <a:chExt cx="6172200" cy="838440"/>
          </a:xfrm>
        </p:grpSpPr>
        <p:sp>
          <p:nvSpPr>
            <p:cNvPr id="527" name=""/>
            <p:cNvSpPr/>
            <p:nvPr/>
          </p:nvSpPr>
          <p:spPr>
            <a:xfrm>
              <a:off x="6477120" y="335268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838080" y="4191120"/>
              <a:ext cx="99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188400" y="4724280"/>
            <a:ext cx="34992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eb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796440" y="4724280"/>
            <a:ext cx="34992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eb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09680" y="5638680"/>
            <a:ext cx="6782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orks in the same way for polygon-aligned BSP trees --- but gives exact sorting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olygon-aligned BSP tre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Very briefly since treated in the other course on computer graphic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llows exact sort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Very similar to axis-aligned BSP tre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But the splitting plane are now located in the planes of the triangle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534" name="bsp_poly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460368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Octrees (1)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 bit similar to axis-aligned BSP tre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ill explain the quadtree, which is the 2D variant of an octre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914400" y="3124080"/>
            <a:ext cx="2133720" cy="2133720"/>
            <a:chOff x="914400" y="3124080"/>
            <a:chExt cx="2133720" cy="2133720"/>
          </a:xfrm>
        </p:grpSpPr>
        <p:sp>
          <p:nvSpPr>
            <p:cNvPr id="538" name=""/>
            <p:cNvSpPr/>
            <p:nvPr/>
          </p:nvSpPr>
          <p:spPr>
            <a:xfrm>
              <a:off x="1295280" y="4267080"/>
              <a:ext cx="381240" cy="381240"/>
            </a:xfrm>
            <a:prstGeom prst="plus">
              <a:avLst>
                <a:gd name="adj" fmla="val 25000"/>
              </a:avLst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66680" y="3581280"/>
              <a:ext cx="685800" cy="249480"/>
            </a:xfrm>
            <a:prstGeom prst="ellipse">
              <a:avLst/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8185400">
              <a:off x="2107800" y="4597200"/>
              <a:ext cx="762120" cy="253800"/>
            </a:xfrm>
            <a:prstGeom prst="rect">
              <a:avLst/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66680" y="4800600"/>
              <a:ext cx="297000" cy="380880"/>
            </a:xfrm>
            <a:custGeom>
              <a:avLst/>
              <a:gdLst/>
              <a:ahLst/>
              <a:rect l="l" t="t" r="r" b="b"/>
              <a:pathLst>
                <a:path w="544" h="699">
                  <a:moveTo>
                    <a:pt x="128" y="20"/>
                  </a:moveTo>
                  <a:cubicBezTo>
                    <a:pt x="83" y="30"/>
                    <a:pt x="53" y="56"/>
                    <a:pt x="17" y="82"/>
                  </a:cubicBezTo>
                  <a:cubicBezTo>
                    <a:pt x="8" y="99"/>
                    <a:pt x="4" y="112"/>
                    <a:pt x="0" y="131"/>
                  </a:cubicBezTo>
                  <a:cubicBezTo>
                    <a:pt x="3" y="143"/>
                    <a:pt x="3" y="156"/>
                    <a:pt x="8" y="167"/>
                  </a:cubicBezTo>
                  <a:cubicBezTo>
                    <a:pt x="17" y="188"/>
                    <a:pt x="45" y="204"/>
                    <a:pt x="62" y="215"/>
                  </a:cubicBezTo>
                  <a:cubicBezTo>
                    <a:pt x="90" y="233"/>
                    <a:pt x="117" y="258"/>
                    <a:pt x="146" y="277"/>
                  </a:cubicBezTo>
                  <a:cubicBezTo>
                    <a:pt x="166" y="309"/>
                    <a:pt x="178" y="339"/>
                    <a:pt x="186" y="375"/>
                  </a:cubicBezTo>
                  <a:cubicBezTo>
                    <a:pt x="184" y="388"/>
                    <a:pt x="184" y="402"/>
                    <a:pt x="181" y="415"/>
                  </a:cubicBezTo>
                  <a:cubicBezTo>
                    <a:pt x="175" y="437"/>
                    <a:pt x="147" y="448"/>
                    <a:pt x="132" y="463"/>
                  </a:cubicBezTo>
                  <a:cubicBezTo>
                    <a:pt x="89" y="506"/>
                    <a:pt x="41" y="539"/>
                    <a:pt x="22" y="601"/>
                  </a:cubicBezTo>
                  <a:cubicBezTo>
                    <a:pt x="36" y="648"/>
                    <a:pt x="78" y="685"/>
                    <a:pt x="124" y="698"/>
                  </a:cubicBezTo>
                  <a:cubicBezTo>
                    <a:pt x="150" y="697"/>
                    <a:pt x="177" y="699"/>
                    <a:pt x="203" y="694"/>
                  </a:cubicBezTo>
                  <a:cubicBezTo>
                    <a:pt x="268" y="683"/>
                    <a:pt x="326" y="629"/>
                    <a:pt x="376" y="592"/>
                  </a:cubicBezTo>
                  <a:cubicBezTo>
                    <a:pt x="395" y="578"/>
                    <a:pt x="418" y="569"/>
                    <a:pt x="438" y="556"/>
                  </a:cubicBezTo>
                  <a:cubicBezTo>
                    <a:pt x="469" y="537"/>
                    <a:pt x="483" y="509"/>
                    <a:pt x="500" y="477"/>
                  </a:cubicBezTo>
                  <a:cubicBezTo>
                    <a:pt x="503" y="471"/>
                    <a:pt x="509" y="459"/>
                    <a:pt x="509" y="459"/>
                  </a:cubicBezTo>
                  <a:cubicBezTo>
                    <a:pt x="514" y="435"/>
                    <a:pt x="524" y="412"/>
                    <a:pt x="531" y="388"/>
                  </a:cubicBezTo>
                  <a:cubicBezTo>
                    <a:pt x="535" y="375"/>
                    <a:pt x="544" y="348"/>
                    <a:pt x="544" y="348"/>
                  </a:cubicBezTo>
                  <a:cubicBezTo>
                    <a:pt x="541" y="265"/>
                    <a:pt x="541" y="185"/>
                    <a:pt x="465" y="136"/>
                  </a:cubicBezTo>
                  <a:cubicBezTo>
                    <a:pt x="435" y="116"/>
                    <a:pt x="406" y="102"/>
                    <a:pt x="372" y="91"/>
                  </a:cubicBezTo>
                  <a:cubicBezTo>
                    <a:pt x="353" y="85"/>
                    <a:pt x="314" y="74"/>
                    <a:pt x="314" y="74"/>
                  </a:cubicBezTo>
                  <a:cubicBezTo>
                    <a:pt x="268" y="51"/>
                    <a:pt x="221" y="17"/>
                    <a:pt x="172" y="3"/>
                  </a:cubicBezTo>
                  <a:cubicBezTo>
                    <a:pt x="163" y="4"/>
                    <a:pt x="118" y="0"/>
                    <a:pt x="128" y="20"/>
                  </a:cubicBezTo>
                  <a:close/>
                </a:path>
              </a:pathLst>
            </a:custGeom>
            <a:solidFill>
              <a:srgbClr val="25357e"/>
            </a:solidFill>
            <a:ln w="19080">
              <a:solidFill>
                <a:srgbClr val="ffff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9435600">
              <a:off x="2250360" y="3276360"/>
              <a:ext cx="492120" cy="787320"/>
            </a:xfrm>
            <a:prstGeom prst="triangle">
              <a:avLst>
                <a:gd name="adj" fmla="val 50000"/>
              </a:avLst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14400" y="3124080"/>
              <a:ext cx="2133720" cy="2133720"/>
            </a:xfrm>
            <a:prstGeom prst="rect">
              <a:avLst/>
            </a:prstGeom>
            <a:noFill/>
            <a:ln w="381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914400" y="4191120"/>
            <a:ext cx="1066320" cy="1066680"/>
            <a:chOff x="914400" y="4191120"/>
            <a:chExt cx="1066320" cy="1066680"/>
          </a:xfrm>
        </p:grpSpPr>
        <p:sp>
          <p:nvSpPr>
            <p:cNvPr id="545" name=""/>
            <p:cNvSpPr/>
            <p:nvPr/>
          </p:nvSpPr>
          <p:spPr>
            <a:xfrm>
              <a:off x="914400" y="4724640"/>
              <a:ext cx="533160" cy="533160"/>
            </a:xfrm>
            <a:prstGeom prst="rect">
              <a:avLst/>
            </a:prstGeom>
            <a:noFill/>
            <a:ln w="381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47560" y="4191120"/>
              <a:ext cx="533160" cy="533520"/>
            </a:xfrm>
            <a:prstGeom prst="rect">
              <a:avLst/>
            </a:prstGeom>
            <a:noFill/>
            <a:ln w="381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914400" y="3124080"/>
            <a:ext cx="2133720" cy="2133720"/>
            <a:chOff x="914400" y="3124080"/>
            <a:chExt cx="2133720" cy="2133720"/>
          </a:xfrm>
        </p:grpSpPr>
        <p:sp>
          <p:nvSpPr>
            <p:cNvPr id="548" name=""/>
            <p:cNvSpPr/>
            <p:nvPr/>
          </p:nvSpPr>
          <p:spPr>
            <a:xfrm>
              <a:off x="914400" y="4191120"/>
              <a:ext cx="1066680" cy="1066680"/>
            </a:xfrm>
            <a:prstGeom prst="rect">
              <a:avLst/>
            </a:prstGeom>
            <a:noFill/>
            <a:ln w="381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81080" y="3124080"/>
              <a:ext cx="1067040" cy="1067040"/>
            </a:xfrm>
            <a:prstGeom prst="rect">
              <a:avLst/>
            </a:prstGeom>
            <a:noFill/>
            <a:ln w="381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248520" y="2819520"/>
            <a:ext cx="457200" cy="459720"/>
            <a:chOff x="6248520" y="2819520"/>
            <a:chExt cx="457200" cy="459720"/>
          </a:xfrm>
        </p:grpSpPr>
        <p:sp>
          <p:nvSpPr>
            <p:cNvPr id="551" name=""/>
            <p:cNvSpPr/>
            <p:nvPr/>
          </p:nvSpPr>
          <p:spPr>
            <a:xfrm>
              <a:off x="6248520" y="2819520"/>
              <a:ext cx="457200" cy="457200"/>
            </a:xfrm>
            <a:prstGeom prst="rect">
              <a:avLst/>
            </a:prstGeom>
            <a:noFill/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32760" y="281952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5646600" y="3581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4800600" y="3276720"/>
            <a:ext cx="1447920" cy="1143000"/>
            <a:chOff x="4800600" y="3276720"/>
            <a:chExt cx="1447920" cy="1143000"/>
          </a:xfrm>
        </p:grpSpPr>
        <p:sp>
          <p:nvSpPr>
            <p:cNvPr id="555" name=""/>
            <p:cNvSpPr/>
            <p:nvPr/>
          </p:nvSpPr>
          <p:spPr>
            <a:xfrm flipH="1">
              <a:off x="5334120" y="3276720"/>
              <a:ext cx="914400" cy="30456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00600" y="3581280"/>
              <a:ext cx="533520" cy="838440"/>
            </a:xfrm>
            <a:prstGeom prst="rect">
              <a:avLst/>
            </a:prstGeom>
            <a:noFill/>
            <a:ln w="1908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925880" y="350532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6920" y="4038480"/>
              <a:ext cx="380880" cy="138240"/>
            </a:xfrm>
            <a:prstGeom prst="ellipse">
              <a:avLst/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7408800" y="3581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764400" y="35053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705720" y="3276720"/>
            <a:ext cx="1371600" cy="761760"/>
            <a:chOff x="6705720" y="3276720"/>
            <a:chExt cx="1371600" cy="761760"/>
          </a:xfrm>
        </p:grpSpPr>
        <p:sp>
          <p:nvSpPr>
            <p:cNvPr id="562" name=""/>
            <p:cNvSpPr/>
            <p:nvPr/>
          </p:nvSpPr>
          <p:spPr>
            <a:xfrm>
              <a:off x="6705720" y="3276720"/>
              <a:ext cx="914400" cy="30456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20120" y="3581280"/>
              <a:ext cx="457200" cy="457200"/>
            </a:xfrm>
            <a:prstGeom prst="rect">
              <a:avLst/>
            </a:prstGeom>
            <a:noFill/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5715000" y="3276720"/>
            <a:ext cx="685800" cy="1180440"/>
            <a:chOff x="5715000" y="3276720"/>
            <a:chExt cx="685800" cy="1180440"/>
          </a:xfrm>
        </p:grpSpPr>
        <p:grpSp>
          <p:nvGrpSpPr>
            <p:cNvPr id="565" name=""/>
            <p:cNvGrpSpPr/>
            <p:nvPr/>
          </p:nvGrpSpPr>
          <p:grpSpPr>
            <a:xfrm>
              <a:off x="5715000" y="3505320"/>
              <a:ext cx="533160" cy="951840"/>
              <a:chOff x="5715000" y="3505320"/>
              <a:chExt cx="533160" cy="951840"/>
            </a:xfrm>
          </p:grpSpPr>
          <p:sp>
            <p:nvSpPr>
              <p:cNvPr id="566" name=""/>
              <p:cNvSpPr/>
              <p:nvPr/>
            </p:nvSpPr>
            <p:spPr>
              <a:xfrm>
                <a:off x="5715000" y="3581280"/>
                <a:ext cx="533160" cy="838440"/>
              </a:xfrm>
              <a:prstGeom prst="rect">
                <a:avLst/>
              </a:prstGeom>
              <a:noFill/>
              <a:ln w="1908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840280" y="350532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eb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9435600">
                <a:off x="5867280" y="3962160"/>
                <a:ext cx="285840" cy="457200"/>
              </a:xfrm>
              <a:prstGeom prst="triangle">
                <a:avLst>
                  <a:gd name="adj" fmla="val 50000"/>
                </a:avLst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 flipH="1">
              <a:off x="6019920" y="3276720"/>
              <a:ext cx="380880" cy="30456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553080" y="3276720"/>
            <a:ext cx="609840" cy="1143000"/>
            <a:chOff x="6553080" y="3276720"/>
            <a:chExt cx="609840" cy="1143000"/>
          </a:xfrm>
        </p:grpSpPr>
        <p:sp>
          <p:nvSpPr>
            <p:cNvPr id="571" name=""/>
            <p:cNvSpPr/>
            <p:nvPr/>
          </p:nvSpPr>
          <p:spPr>
            <a:xfrm>
              <a:off x="6629400" y="3581280"/>
              <a:ext cx="533520" cy="838440"/>
            </a:xfrm>
            <a:prstGeom prst="rect">
              <a:avLst/>
            </a:prstGeom>
            <a:noFill/>
            <a:ln w="1908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8185400">
              <a:off x="6730920" y="4012920"/>
              <a:ext cx="380880" cy="127080"/>
            </a:xfrm>
            <a:prstGeom prst="rect">
              <a:avLst/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53080" y="3276720"/>
              <a:ext cx="381240" cy="30456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477120" y="4038480"/>
            <a:ext cx="1143000" cy="1600200"/>
            <a:chOff x="6477120" y="4038480"/>
            <a:chExt cx="1143000" cy="1600200"/>
          </a:xfrm>
        </p:grpSpPr>
        <p:grpSp>
          <p:nvGrpSpPr>
            <p:cNvPr id="575" name=""/>
            <p:cNvGrpSpPr/>
            <p:nvPr/>
          </p:nvGrpSpPr>
          <p:grpSpPr>
            <a:xfrm>
              <a:off x="6477120" y="4800600"/>
              <a:ext cx="533160" cy="838080"/>
              <a:chOff x="6477120" y="4800600"/>
              <a:chExt cx="533160" cy="838080"/>
            </a:xfrm>
          </p:grpSpPr>
          <p:sp>
            <p:nvSpPr>
              <p:cNvPr id="576" name=""/>
              <p:cNvSpPr/>
              <p:nvPr/>
            </p:nvSpPr>
            <p:spPr>
              <a:xfrm>
                <a:off x="6629400" y="5257800"/>
                <a:ext cx="228240" cy="228600"/>
              </a:xfrm>
              <a:prstGeom prst="plus">
                <a:avLst>
                  <a:gd name="adj" fmla="val 25000"/>
                </a:avLst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477120" y="4800600"/>
                <a:ext cx="533160" cy="838080"/>
              </a:xfrm>
              <a:prstGeom prst="rect">
                <a:avLst/>
              </a:prstGeom>
              <a:noFill/>
              <a:ln w="1908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 flipH="1">
              <a:off x="7010280" y="4038480"/>
              <a:ext cx="609840" cy="7621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162920" y="4038480"/>
            <a:ext cx="609480" cy="1600200"/>
            <a:chOff x="7162920" y="4038480"/>
            <a:chExt cx="609480" cy="1600200"/>
          </a:xfrm>
        </p:grpSpPr>
        <p:grpSp>
          <p:nvGrpSpPr>
            <p:cNvPr id="580" name=""/>
            <p:cNvGrpSpPr/>
            <p:nvPr/>
          </p:nvGrpSpPr>
          <p:grpSpPr>
            <a:xfrm>
              <a:off x="7162920" y="4800600"/>
              <a:ext cx="533160" cy="838080"/>
              <a:chOff x="7162920" y="4800600"/>
              <a:chExt cx="533160" cy="838080"/>
            </a:xfrm>
          </p:grpSpPr>
          <p:sp>
            <p:nvSpPr>
              <p:cNvPr id="581" name=""/>
              <p:cNvSpPr/>
              <p:nvPr/>
            </p:nvSpPr>
            <p:spPr>
              <a:xfrm>
                <a:off x="7315200" y="5257800"/>
                <a:ext cx="228240" cy="228600"/>
              </a:xfrm>
              <a:prstGeom prst="plus">
                <a:avLst>
                  <a:gd name="adj" fmla="val 25000"/>
                </a:avLst>
              </a:prstGeom>
              <a:solidFill>
                <a:srgbClr val="25357e"/>
              </a:solidFill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162920" y="4800600"/>
                <a:ext cx="533160" cy="838080"/>
              </a:xfrm>
              <a:prstGeom prst="rect">
                <a:avLst/>
              </a:prstGeom>
              <a:noFill/>
              <a:ln w="1908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 flipH="1">
              <a:off x="7391520" y="4038480"/>
              <a:ext cx="380880" cy="7621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7848720" y="4038480"/>
            <a:ext cx="533160" cy="1600200"/>
            <a:chOff x="7848720" y="4038480"/>
            <a:chExt cx="533160" cy="1600200"/>
          </a:xfrm>
        </p:grpSpPr>
        <p:sp>
          <p:nvSpPr>
            <p:cNvPr id="585" name=""/>
            <p:cNvSpPr/>
            <p:nvPr/>
          </p:nvSpPr>
          <p:spPr>
            <a:xfrm>
              <a:off x="7848720" y="4800600"/>
              <a:ext cx="533160" cy="838080"/>
            </a:xfrm>
            <a:prstGeom prst="rect">
              <a:avLst/>
            </a:prstGeom>
            <a:noFill/>
            <a:ln w="1908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24680" y="4038480"/>
              <a:ext cx="228600" cy="7621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8077320" y="4038480"/>
            <a:ext cx="990360" cy="1600200"/>
            <a:chOff x="8077320" y="4038480"/>
            <a:chExt cx="990360" cy="1600200"/>
          </a:xfrm>
        </p:grpSpPr>
        <p:grpSp>
          <p:nvGrpSpPr>
            <p:cNvPr id="588" name=""/>
            <p:cNvGrpSpPr/>
            <p:nvPr/>
          </p:nvGrpSpPr>
          <p:grpSpPr>
            <a:xfrm>
              <a:off x="8534520" y="4724280"/>
              <a:ext cx="533160" cy="914400"/>
              <a:chOff x="8534520" y="4724280"/>
              <a:chExt cx="533160" cy="914400"/>
            </a:xfrm>
          </p:grpSpPr>
          <p:sp>
            <p:nvSpPr>
              <p:cNvPr id="589" name=""/>
              <p:cNvSpPr/>
              <p:nvPr/>
            </p:nvSpPr>
            <p:spPr>
              <a:xfrm>
                <a:off x="8686800" y="5181480"/>
                <a:ext cx="297000" cy="380880"/>
              </a:xfrm>
              <a:custGeom>
                <a:avLst/>
                <a:gdLst/>
                <a:ahLst/>
                <a:rect l="l" t="t" r="r" b="b"/>
                <a:pathLst>
                  <a:path w="544" h="699">
                    <a:moveTo>
                      <a:pt x="128" y="20"/>
                    </a:moveTo>
                    <a:cubicBezTo>
                      <a:pt x="83" y="30"/>
                      <a:pt x="53" y="56"/>
                      <a:pt x="17" y="82"/>
                    </a:cubicBezTo>
                    <a:cubicBezTo>
                      <a:pt x="8" y="99"/>
                      <a:pt x="4" y="112"/>
                      <a:pt x="0" y="131"/>
                    </a:cubicBezTo>
                    <a:cubicBezTo>
                      <a:pt x="3" y="143"/>
                      <a:pt x="3" y="156"/>
                      <a:pt x="8" y="167"/>
                    </a:cubicBezTo>
                    <a:cubicBezTo>
                      <a:pt x="17" y="188"/>
                      <a:pt x="45" y="204"/>
                      <a:pt x="62" y="215"/>
                    </a:cubicBezTo>
                    <a:cubicBezTo>
                      <a:pt x="90" y="233"/>
                      <a:pt x="117" y="258"/>
                      <a:pt x="146" y="277"/>
                    </a:cubicBezTo>
                    <a:cubicBezTo>
                      <a:pt x="166" y="309"/>
                      <a:pt x="178" y="339"/>
                      <a:pt x="186" y="375"/>
                    </a:cubicBezTo>
                    <a:cubicBezTo>
                      <a:pt x="184" y="388"/>
                      <a:pt x="184" y="402"/>
                      <a:pt x="181" y="415"/>
                    </a:cubicBezTo>
                    <a:cubicBezTo>
                      <a:pt x="175" y="437"/>
                      <a:pt x="147" y="448"/>
                      <a:pt x="132" y="463"/>
                    </a:cubicBezTo>
                    <a:cubicBezTo>
                      <a:pt x="89" y="506"/>
                      <a:pt x="41" y="539"/>
                      <a:pt x="22" y="601"/>
                    </a:cubicBezTo>
                    <a:cubicBezTo>
                      <a:pt x="36" y="648"/>
                      <a:pt x="78" y="685"/>
                      <a:pt x="124" y="698"/>
                    </a:cubicBezTo>
                    <a:cubicBezTo>
                      <a:pt x="150" y="697"/>
                      <a:pt x="177" y="699"/>
                      <a:pt x="203" y="694"/>
                    </a:cubicBezTo>
                    <a:cubicBezTo>
                      <a:pt x="268" y="683"/>
                      <a:pt x="326" y="629"/>
                      <a:pt x="376" y="592"/>
                    </a:cubicBezTo>
                    <a:cubicBezTo>
                      <a:pt x="395" y="578"/>
                      <a:pt x="418" y="569"/>
                      <a:pt x="438" y="556"/>
                    </a:cubicBezTo>
                    <a:cubicBezTo>
                      <a:pt x="469" y="537"/>
                      <a:pt x="483" y="509"/>
                      <a:pt x="500" y="477"/>
                    </a:cubicBezTo>
                    <a:cubicBezTo>
                      <a:pt x="503" y="471"/>
                      <a:pt x="509" y="459"/>
                      <a:pt x="509" y="459"/>
                    </a:cubicBezTo>
                    <a:cubicBezTo>
                      <a:pt x="514" y="435"/>
                      <a:pt x="524" y="412"/>
                      <a:pt x="531" y="388"/>
                    </a:cubicBezTo>
                    <a:cubicBezTo>
                      <a:pt x="535" y="375"/>
                      <a:pt x="544" y="348"/>
                      <a:pt x="544" y="348"/>
                    </a:cubicBezTo>
                    <a:cubicBezTo>
                      <a:pt x="541" y="265"/>
                      <a:pt x="541" y="185"/>
                      <a:pt x="465" y="136"/>
                    </a:cubicBezTo>
                    <a:cubicBezTo>
                      <a:pt x="435" y="116"/>
                      <a:pt x="406" y="102"/>
                      <a:pt x="372" y="91"/>
                    </a:cubicBezTo>
                    <a:cubicBezTo>
                      <a:pt x="353" y="85"/>
                      <a:pt x="314" y="74"/>
                      <a:pt x="314" y="74"/>
                    </a:cubicBezTo>
                    <a:cubicBezTo>
                      <a:pt x="268" y="51"/>
                      <a:pt x="221" y="17"/>
                      <a:pt x="172" y="3"/>
                    </a:cubicBezTo>
                    <a:cubicBezTo>
                      <a:pt x="163" y="4"/>
                      <a:pt x="118" y="0"/>
                      <a:pt x="128" y="20"/>
                    </a:cubicBezTo>
                    <a:close/>
                  </a:path>
                </a:pathLst>
              </a:custGeom>
              <a:solidFill>
                <a:srgbClr val="25357e"/>
              </a:solidFill>
              <a:ln w="19080">
                <a:solidFill>
                  <a:srgbClr val="ffffe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534520" y="4800240"/>
                <a:ext cx="533160" cy="838440"/>
              </a:xfrm>
              <a:prstGeom prst="rect">
                <a:avLst/>
              </a:prstGeom>
              <a:noFill/>
              <a:ln w="1908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696160" y="47242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077320" y="4038480"/>
              <a:ext cx="685800" cy="7621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762120" y="5638680"/>
            <a:ext cx="8001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n 3D each square (or rectangle) becomes a box, and 8 children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Octrees (2)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xpensive to rebuild (BSPs are too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ead about loose octrees in the handou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 relaxation to avoid problem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ctrees can be used to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Speed up ray tracing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Faster picking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Culling techniques 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re not used that often in real-time context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An exception is loose octree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cene graph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BVH is the data structure that is used most ofte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imple to understand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imple cod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However, it stores just geometry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Rendering is more than geometry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 scene graph is an extended BVH with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Light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exture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ransform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nd mor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598" name="instant" descr=""/>
          <p:cNvPicPr/>
          <p:nvPr/>
        </p:nvPicPr>
        <p:blipFill>
          <a:blip r:embed="rId1"/>
          <a:stretch/>
        </p:blipFill>
        <p:spPr>
          <a:xfrm>
            <a:off x="3352680" y="4191120"/>
            <a:ext cx="54864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peed-Up Techniqu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patial data structures are used to speed up rendering and different querie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hy more speed?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Graphics hardware 2x faster in 6 months!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Wait… then it will be fast enough!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NOT!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We will never be satisfied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b"/>
                </a:solidFill>
                <a:latin typeface="Arial"/>
              </a:rPr>
              <a:t>Screen resolution: 3000x1500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b"/>
                </a:solidFill>
                <a:latin typeface="Arial"/>
              </a:rPr>
              <a:t>Realism: global illumination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b"/>
                </a:solidFill>
                <a:latin typeface="Arial"/>
              </a:rPr>
              <a:t>Geometrical complexity: no upper limit!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at we’ll treat now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Culling techniqu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Level-of-detail rendering (LODs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To cull” means “to select from group”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In graphics context: do not process data that will not contribute to the final imag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Different culling techniques</a:t>
            </a:r>
            <a:br>
              <a:rPr sz="3600"/>
            </a:br>
            <a:r>
              <a:rPr b="0" lang="sv-SE" sz="2800" spc="-1" strike="noStrike">
                <a:solidFill>
                  <a:srgbClr val="ffff9b"/>
                </a:solidFill>
                <a:latin typeface="Arial"/>
              </a:rPr>
              <a:t>(red objects are skipped)</a:t>
            </a:r>
            <a:endParaRPr b="1" lang="en-US" sz="2800" spc="-1" strike="noStrike">
              <a:solidFill>
                <a:srgbClr val="ffff9b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257480" y="1828800"/>
            <a:ext cx="5486400" cy="4495680"/>
            <a:chOff x="1257480" y="1828800"/>
            <a:chExt cx="5486400" cy="4495680"/>
          </a:xfrm>
        </p:grpSpPr>
        <p:sp>
          <p:nvSpPr>
            <p:cNvPr id="605" name=""/>
            <p:cNvSpPr/>
            <p:nvPr/>
          </p:nvSpPr>
          <p:spPr>
            <a:xfrm flipV="1">
              <a:off x="1790640" y="1828800"/>
              <a:ext cx="2819520" cy="358128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90640" y="5410080"/>
              <a:ext cx="4953240" cy="91440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1257480" y="5257800"/>
              <a:ext cx="304560" cy="38088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257480" y="5638680"/>
              <a:ext cx="457200" cy="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258920" y="5405400"/>
              <a:ext cx="30132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415" y="321"/>
                  </a:moveTo>
                  <a:arcTo wR="10800" hR="10800" stAng="-4559382" swAng="59559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415" y="321"/>
                  </a:moveTo>
                  <a:arcTo wR="10800" hR="10800" stAng="-4559382" swAng="5955916"/>
                </a:path>
              </a:pathLst>
            </a:custGeom>
            <a:noFill/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800280" y="1905120"/>
            <a:ext cx="2038320" cy="1757160"/>
            <a:chOff x="800280" y="1905120"/>
            <a:chExt cx="2038320" cy="1757160"/>
          </a:xfrm>
        </p:grpSpPr>
        <p:sp>
          <p:nvSpPr>
            <p:cNvPr id="611" name=""/>
            <p:cNvSpPr/>
            <p:nvPr/>
          </p:nvSpPr>
          <p:spPr>
            <a:xfrm>
              <a:off x="1181160" y="2438280"/>
              <a:ext cx="893880" cy="1163880"/>
            </a:xfrm>
            <a:custGeom>
              <a:avLst/>
              <a:gdLst/>
              <a:ahLst/>
              <a:rect l="l" t="t" r="r" b="b"/>
              <a:pathLst>
                <a:path w="563" h="733">
                  <a:moveTo>
                    <a:pt x="128" y="175"/>
                  </a:moveTo>
                  <a:cubicBezTo>
                    <a:pt x="99" y="184"/>
                    <a:pt x="83" y="206"/>
                    <a:pt x="59" y="223"/>
                  </a:cubicBezTo>
                  <a:cubicBezTo>
                    <a:pt x="38" y="262"/>
                    <a:pt x="26" y="301"/>
                    <a:pt x="6" y="340"/>
                  </a:cubicBezTo>
                  <a:cubicBezTo>
                    <a:pt x="4" y="349"/>
                    <a:pt x="1" y="357"/>
                    <a:pt x="1" y="366"/>
                  </a:cubicBezTo>
                  <a:cubicBezTo>
                    <a:pt x="1" y="386"/>
                    <a:pt x="0" y="406"/>
                    <a:pt x="6" y="425"/>
                  </a:cubicBezTo>
                  <a:cubicBezTo>
                    <a:pt x="13" y="446"/>
                    <a:pt x="68" y="452"/>
                    <a:pt x="86" y="456"/>
                  </a:cubicBezTo>
                  <a:cubicBezTo>
                    <a:pt x="106" y="473"/>
                    <a:pt x="125" y="479"/>
                    <a:pt x="139" y="499"/>
                  </a:cubicBezTo>
                  <a:cubicBezTo>
                    <a:pt x="152" y="552"/>
                    <a:pt x="130" y="605"/>
                    <a:pt x="144" y="658"/>
                  </a:cubicBezTo>
                  <a:cubicBezTo>
                    <a:pt x="155" y="700"/>
                    <a:pt x="208" y="719"/>
                    <a:pt x="245" y="733"/>
                  </a:cubicBezTo>
                  <a:cubicBezTo>
                    <a:pt x="295" y="727"/>
                    <a:pt x="344" y="713"/>
                    <a:pt x="383" y="679"/>
                  </a:cubicBezTo>
                  <a:cubicBezTo>
                    <a:pt x="392" y="671"/>
                    <a:pt x="402" y="663"/>
                    <a:pt x="410" y="653"/>
                  </a:cubicBezTo>
                  <a:cubicBezTo>
                    <a:pt x="418" y="643"/>
                    <a:pt x="431" y="621"/>
                    <a:pt x="431" y="621"/>
                  </a:cubicBezTo>
                  <a:cubicBezTo>
                    <a:pt x="435" y="607"/>
                    <a:pt x="446" y="594"/>
                    <a:pt x="447" y="579"/>
                  </a:cubicBezTo>
                  <a:cubicBezTo>
                    <a:pt x="450" y="523"/>
                    <a:pt x="435" y="484"/>
                    <a:pt x="404" y="441"/>
                  </a:cubicBezTo>
                  <a:cubicBezTo>
                    <a:pt x="397" y="403"/>
                    <a:pt x="394" y="400"/>
                    <a:pt x="404" y="350"/>
                  </a:cubicBezTo>
                  <a:cubicBezTo>
                    <a:pt x="411" y="316"/>
                    <a:pt x="452" y="314"/>
                    <a:pt x="473" y="297"/>
                  </a:cubicBezTo>
                  <a:cubicBezTo>
                    <a:pt x="492" y="282"/>
                    <a:pt x="519" y="257"/>
                    <a:pt x="537" y="239"/>
                  </a:cubicBezTo>
                  <a:cubicBezTo>
                    <a:pt x="543" y="218"/>
                    <a:pt x="554" y="200"/>
                    <a:pt x="563" y="180"/>
                  </a:cubicBezTo>
                  <a:cubicBezTo>
                    <a:pt x="559" y="120"/>
                    <a:pt x="553" y="30"/>
                    <a:pt x="489" y="0"/>
                  </a:cubicBezTo>
                  <a:cubicBezTo>
                    <a:pt x="458" y="4"/>
                    <a:pt x="443" y="12"/>
                    <a:pt x="415" y="21"/>
                  </a:cubicBezTo>
                  <a:cubicBezTo>
                    <a:pt x="396" y="40"/>
                    <a:pt x="381" y="52"/>
                    <a:pt x="367" y="74"/>
                  </a:cubicBezTo>
                  <a:cubicBezTo>
                    <a:pt x="348" y="104"/>
                    <a:pt x="334" y="139"/>
                    <a:pt x="303" y="159"/>
                  </a:cubicBezTo>
                  <a:cubicBezTo>
                    <a:pt x="280" y="154"/>
                    <a:pt x="257" y="149"/>
                    <a:pt x="234" y="143"/>
                  </a:cubicBezTo>
                  <a:cubicBezTo>
                    <a:pt x="171" y="155"/>
                    <a:pt x="195" y="148"/>
                    <a:pt x="160" y="159"/>
                  </a:cubicBezTo>
                  <a:cubicBezTo>
                    <a:pt x="127" y="181"/>
                    <a:pt x="128" y="193"/>
                    <a:pt x="128" y="175"/>
                  </a:cubicBezTo>
                  <a:close/>
                </a:path>
              </a:pathLst>
            </a:custGeom>
            <a:solidFill>
              <a:srgbClr val="cccc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03400" y="2367000"/>
              <a:ext cx="1295280" cy="1295280"/>
            </a:xfrm>
            <a:prstGeom prst="ellipse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00280" y="1905120"/>
              <a:ext cx="2038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eb"/>
                  </a:solidFill>
                  <a:latin typeface="Arial"/>
                </a:rPr>
                <a:t>view frustum</a:t>
              </a:r>
              <a:endParaRPr b="0" lang="en-US" sz="2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286680" y="1905120"/>
            <a:ext cx="1277640" cy="489960"/>
            <a:chOff x="6286680" y="1905120"/>
            <a:chExt cx="1277640" cy="489960"/>
          </a:xfrm>
        </p:grpSpPr>
        <p:sp>
          <p:nvSpPr>
            <p:cNvPr id="615" name=""/>
            <p:cNvSpPr/>
            <p:nvPr/>
          </p:nvSpPr>
          <p:spPr>
            <a:xfrm>
              <a:off x="6286680" y="2133720"/>
              <a:ext cx="152280" cy="152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592680" y="1905120"/>
              <a:ext cx="97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eb"/>
                  </a:solidFill>
                  <a:latin typeface="Arial"/>
                </a:rPr>
                <a:t>detail</a:t>
              </a:r>
              <a:endParaRPr b="0" lang="en-US" sz="2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009960" y="3429000"/>
            <a:ext cx="1736640" cy="1066680"/>
            <a:chOff x="3009960" y="3429000"/>
            <a:chExt cx="1736640" cy="1066680"/>
          </a:xfrm>
        </p:grpSpPr>
        <p:sp>
          <p:nvSpPr>
            <p:cNvPr id="618" name=""/>
            <p:cNvSpPr/>
            <p:nvPr/>
          </p:nvSpPr>
          <p:spPr>
            <a:xfrm>
              <a:off x="3009960" y="3886200"/>
              <a:ext cx="533520" cy="60948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144"/>
                  </a:moveTo>
                  <a:lnTo>
                    <a:pt x="0" y="288"/>
                  </a:lnTo>
                  <a:lnTo>
                    <a:pt x="96" y="384"/>
                  </a:lnTo>
                  <a:lnTo>
                    <a:pt x="240" y="384"/>
                  </a:lnTo>
                  <a:lnTo>
                    <a:pt x="144" y="192"/>
                  </a:lnTo>
                  <a:lnTo>
                    <a:pt x="336" y="240"/>
                  </a:lnTo>
                  <a:lnTo>
                    <a:pt x="336" y="96"/>
                  </a:lnTo>
                  <a:lnTo>
                    <a:pt x="240" y="0"/>
                  </a:lnTo>
                  <a:lnTo>
                    <a:pt x="144" y="0"/>
                  </a:lnTo>
                  <a:lnTo>
                    <a:pt x="48" y="4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009960" y="4114800"/>
              <a:ext cx="0" cy="22860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009960" y="4343400"/>
              <a:ext cx="152280" cy="15228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3009960" y="3962160"/>
              <a:ext cx="76320" cy="15228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62240" y="4495680"/>
              <a:ext cx="228600" cy="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3238200" y="4191120"/>
              <a:ext cx="152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238560" y="4191120"/>
              <a:ext cx="304920" cy="7596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3543480" y="403812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3390840" y="3885840"/>
              <a:ext cx="15264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238200" y="3886200"/>
              <a:ext cx="152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086280" y="3886200"/>
              <a:ext cx="15228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238560" y="3429000"/>
              <a:ext cx="1508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eb"/>
                  </a:solidFill>
                  <a:latin typeface="Arial"/>
                </a:rPr>
                <a:t>backface</a:t>
              </a:r>
              <a:endParaRPr b="0" lang="en-US" sz="2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90640" y="3809520"/>
            <a:ext cx="4419720" cy="1905480"/>
            <a:chOff x="1790640" y="3809520"/>
            <a:chExt cx="4419720" cy="1905480"/>
          </a:xfrm>
        </p:grpSpPr>
        <p:sp>
          <p:nvSpPr>
            <p:cNvPr id="631" name=""/>
            <p:cNvSpPr/>
            <p:nvPr/>
          </p:nvSpPr>
          <p:spPr>
            <a:xfrm>
              <a:off x="5067360" y="4648320"/>
              <a:ext cx="7632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67360" y="3809880"/>
              <a:ext cx="76320" cy="381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67360" y="3809880"/>
              <a:ext cx="1143000" cy="76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134040" y="3809880"/>
              <a:ext cx="76320" cy="1905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67360" y="5638680"/>
              <a:ext cx="1143000" cy="76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5067360" y="3809520"/>
              <a:ext cx="0" cy="38124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67360" y="3809880"/>
              <a:ext cx="114300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10360" y="3809880"/>
              <a:ext cx="0" cy="19051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67360" y="4191120"/>
              <a:ext cx="763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5143680" y="3885840"/>
              <a:ext cx="0" cy="3049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43680" y="3886200"/>
              <a:ext cx="99036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34040" y="3886200"/>
              <a:ext cx="0" cy="175248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67360" y="4648320"/>
              <a:ext cx="763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43680" y="4648320"/>
              <a:ext cx="0" cy="99036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43680" y="5638680"/>
              <a:ext cx="99036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67360" y="4648320"/>
              <a:ext cx="0" cy="106668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67360" y="5715000"/>
              <a:ext cx="114300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1790640" y="4038480"/>
              <a:ext cx="3810240" cy="1371600"/>
            </a:xfrm>
            <a:prstGeom prst="line">
              <a:avLst/>
            </a:prstGeom>
            <a:ln w="28440">
              <a:solidFill>
                <a:srgbClr val="ffffe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1790640" y="4419360"/>
              <a:ext cx="4267440" cy="990360"/>
            </a:xfrm>
            <a:prstGeom prst="line">
              <a:avLst/>
            </a:prstGeom>
            <a:ln cap="rnd" w="28440">
              <a:solidFill>
                <a:srgbClr val="ffffe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95960" y="4876920"/>
              <a:ext cx="609480" cy="60948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48" y="0"/>
                  </a:moveTo>
                  <a:lnTo>
                    <a:pt x="0" y="48"/>
                  </a:lnTo>
                  <a:lnTo>
                    <a:pt x="144" y="192"/>
                  </a:lnTo>
                  <a:lnTo>
                    <a:pt x="0" y="336"/>
                  </a:lnTo>
                  <a:lnTo>
                    <a:pt x="48" y="384"/>
                  </a:lnTo>
                  <a:lnTo>
                    <a:pt x="192" y="240"/>
                  </a:lnTo>
                  <a:lnTo>
                    <a:pt x="336" y="384"/>
                  </a:lnTo>
                  <a:lnTo>
                    <a:pt x="384" y="336"/>
                  </a:lnTo>
                  <a:lnTo>
                    <a:pt x="240" y="192"/>
                  </a:lnTo>
                  <a:lnTo>
                    <a:pt x="384" y="48"/>
                  </a:lnTo>
                  <a:lnTo>
                    <a:pt x="336" y="0"/>
                  </a:lnTo>
                  <a:lnTo>
                    <a:pt x="192" y="14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ccc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819400">
              <a:off x="4762440" y="41148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eb"/>
                  </a:solidFill>
                  <a:latin typeface="Arial"/>
                </a:rPr>
                <a:t>portal</a:t>
              </a:r>
              <a:endParaRPr b="0" lang="en-US" sz="2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519600" y="3912840"/>
            <a:ext cx="2396520" cy="1223280"/>
            <a:chOff x="6519600" y="3912840"/>
            <a:chExt cx="2396520" cy="1223280"/>
          </a:xfrm>
        </p:grpSpPr>
        <p:sp>
          <p:nvSpPr>
            <p:cNvPr id="653" name=""/>
            <p:cNvSpPr/>
            <p:nvPr/>
          </p:nvSpPr>
          <p:spPr>
            <a:xfrm rot="19105800">
              <a:off x="6819840" y="3962160"/>
              <a:ext cx="576360" cy="1123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462" y="1314"/>
                    <a:pt x="7323" y="5080"/>
                    <a:pt x="7323" y="10800"/>
                  </a:cubicBezTo>
                  <a:cubicBezTo>
                    <a:pt x="7323" y="16520"/>
                    <a:pt x="14462" y="202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c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53000" y="4038480"/>
              <a:ext cx="1563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eb"/>
                  </a:solidFill>
                  <a:latin typeface="Arial"/>
                </a:rPr>
                <a:t>occlusion</a:t>
              </a:r>
              <a:endParaRPr b="0" lang="en-US" sz="2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patial data structur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Data structure that organizes geometry in 2D or 3D or higher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he goal is faster processin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Needed for most ”speed-up techniques”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Faster real-time rendering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Faster intersection testing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Faster collisiond detection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Faster ray tracing and global illumination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Games use them extensively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Movie production rendering tools always use them too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Read the handout text about this topic…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Backface Culling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1440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imple technique to discard polygons that faces away from the viewer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Can be used for: 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closed surface (example: sphere)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or whenever we know that the backfaces never should be seen (example: walls in a room)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Two methods (screen space, eye space)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Which stages benefits? Rasterizer, but also Geometry (where test is done)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Backface culling (cont’d)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14400" y="1523880"/>
            <a:ext cx="800100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Often implemented for you in the API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OpenGL: </a:t>
            </a:r>
            <a:r>
              <a:rPr b="1" lang="en-US" sz="3200" spc="-1" strike="noStrike">
                <a:solidFill>
                  <a:srgbClr val="ffff9b"/>
                </a:solidFill>
                <a:latin typeface="Courier New"/>
              </a:rPr>
              <a:t>glCullFace(GL_BACK);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How to determine what faces away?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irst, must have consistently oriented polygons, e.g., counterclockwise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419720"/>
            <a:ext cx="4036320" cy="2287440"/>
            <a:chOff x="762120" y="4419720"/>
            <a:chExt cx="4036320" cy="2287440"/>
          </a:xfrm>
        </p:grpSpPr>
        <p:sp>
          <p:nvSpPr>
            <p:cNvPr id="660" name=""/>
            <p:cNvSpPr/>
            <p:nvPr/>
          </p:nvSpPr>
          <p:spPr>
            <a:xfrm>
              <a:off x="1141560" y="5181480"/>
              <a:ext cx="2590560" cy="106704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732120" y="4724280"/>
              <a:ext cx="609840" cy="152424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1141560" y="4724280"/>
              <a:ext cx="3200400" cy="45720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2120" y="4967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eb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80200" y="6186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eb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419720" y="4419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eb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741760" y="4952160"/>
              <a:ext cx="838080" cy="8384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-360 h 838440"/>
                <a:gd name="textAreaBottom" fmla="*/ 8384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253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59120" y="6019920"/>
              <a:ext cx="213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eb"/>
                  </a:solidFill>
                  <a:latin typeface="Arial"/>
                </a:rPr>
                <a:t>front facing</a:t>
              </a:r>
              <a:endParaRPr b="0" lang="en-US" sz="2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564520" y="4191120"/>
            <a:ext cx="3426480" cy="2349360"/>
            <a:chOff x="5564520" y="4191120"/>
            <a:chExt cx="3426480" cy="2349360"/>
          </a:xfrm>
        </p:grpSpPr>
        <p:sp>
          <p:nvSpPr>
            <p:cNvPr id="669" name=""/>
            <p:cNvSpPr/>
            <p:nvPr/>
          </p:nvSpPr>
          <p:spPr>
            <a:xfrm>
              <a:off x="5943600" y="5638680"/>
              <a:ext cx="2590920" cy="30492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229600" y="4495680"/>
              <a:ext cx="304920" cy="144792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5943600" y="4495320"/>
              <a:ext cx="2286000" cy="114300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612280" y="5562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eb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564520" y="5348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eb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07720" y="4191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eb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38880" y="5029200"/>
              <a:ext cx="838440" cy="83808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253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404400" y="6019920"/>
              <a:ext cx="21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eb"/>
                  </a:solidFill>
                  <a:latin typeface="Arial"/>
                </a:rPr>
                <a:t>back facing</a:t>
              </a:r>
              <a:endParaRPr b="0" lang="en-US" sz="2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914400" y="1447920"/>
            <a:ext cx="8001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wo ways in different spaces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33520" y="2743200"/>
            <a:ext cx="3504960" cy="3461760"/>
            <a:chOff x="533520" y="2743200"/>
            <a:chExt cx="3504960" cy="3461760"/>
          </a:xfrm>
        </p:grpSpPr>
        <p:sp>
          <p:nvSpPr>
            <p:cNvPr id="679" name=""/>
            <p:cNvSpPr/>
            <p:nvPr/>
          </p:nvSpPr>
          <p:spPr>
            <a:xfrm>
              <a:off x="533520" y="2743200"/>
              <a:ext cx="3504960" cy="2971800"/>
            </a:xfrm>
            <a:prstGeom prst="rect">
              <a:avLst/>
            </a:prstGeom>
            <a:noFill/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142280" y="5715000"/>
              <a:ext cx="2152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eb"/>
                  </a:solidFill>
                  <a:latin typeface="Arial"/>
                </a:rPr>
                <a:t>screen space</a:t>
              </a:r>
              <a:endParaRPr b="0" lang="en-US" sz="2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080" y="3200400"/>
              <a:ext cx="838440" cy="1828800"/>
            </a:xfrm>
            <a:custGeom>
              <a:avLst/>
              <a:gdLst/>
              <a:ahLst/>
              <a:rect l="l" t="t" r="r" b="b"/>
              <a:pathLst>
                <a:path w="480" h="1152">
                  <a:moveTo>
                    <a:pt x="384" y="0"/>
                  </a:moveTo>
                  <a:lnTo>
                    <a:pt x="0" y="336"/>
                  </a:lnTo>
                  <a:lnTo>
                    <a:pt x="480" y="1152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ccccff"/>
            </a:solidFill>
            <a:ln w="38160">
              <a:solidFill>
                <a:srgbClr val="ffff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244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eb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526040" y="4952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eb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5320" y="3505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eb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1066680" y="3657600"/>
              <a:ext cx="3808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8421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8421313"/>
                </a:path>
              </a:pathLst>
            </a:custGeom>
            <a:noFill/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87600" y="5257800"/>
              <a:ext cx="842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eb"/>
                  </a:solidFill>
                  <a:latin typeface="Arial"/>
                </a:rPr>
                <a:t>front</a:t>
              </a:r>
              <a:endParaRPr b="0" lang="en-US" sz="2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38280" y="3200400"/>
              <a:ext cx="1143000" cy="1752480"/>
            </a:xfrm>
            <a:custGeom>
              <a:avLst/>
              <a:gdLst/>
              <a:ahLst/>
              <a:rect l="l" t="t" r="r" b="b"/>
              <a:pathLst>
                <a:path w="720" h="1104">
                  <a:moveTo>
                    <a:pt x="144" y="0"/>
                  </a:moveTo>
                  <a:lnTo>
                    <a:pt x="0" y="960"/>
                  </a:lnTo>
                  <a:lnTo>
                    <a:pt x="720" y="1104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cccc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2666160" y="4114080"/>
              <a:ext cx="456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8421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8421313"/>
                </a:path>
              </a:pathLst>
            </a:custGeom>
            <a:noFill/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34120" y="4724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eb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6252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eb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1640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eb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667240" y="5302080"/>
              <a:ext cx="88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eb"/>
                  </a:solidFill>
                  <a:latin typeface="Arial"/>
                </a:rPr>
                <a:t>back</a:t>
              </a:r>
              <a:endParaRPr b="0" lang="en-US" sz="2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268160" y="2514240"/>
            <a:ext cx="4538520" cy="3690720"/>
            <a:chOff x="4268160" y="2514240"/>
            <a:chExt cx="4538520" cy="3690720"/>
          </a:xfrm>
        </p:grpSpPr>
        <p:sp>
          <p:nvSpPr>
            <p:cNvPr id="694" name=""/>
            <p:cNvSpPr/>
            <p:nvPr/>
          </p:nvSpPr>
          <p:spPr>
            <a:xfrm>
              <a:off x="4268160" y="3581280"/>
              <a:ext cx="715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eb"/>
                  </a:solidFill>
                  <a:latin typeface="Arial"/>
                </a:rPr>
                <a:t>eye</a:t>
              </a:r>
              <a:endParaRPr b="0" lang="en-US" sz="2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4495680" y="2514240"/>
              <a:ext cx="4311000" cy="3690720"/>
              <a:chOff x="4495680" y="2514240"/>
              <a:chExt cx="4311000" cy="3690720"/>
            </a:xfrm>
          </p:grpSpPr>
          <p:sp>
            <p:nvSpPr>
              <p:cNvPr id="696" name=""/>
              <p:cNvSpPr/>
              <p:nvPr/>
            </p:nvSpPr>
            <p:spPr>
              <a:xfrm flipV="1">
                <a:off x="4572000" y="2514240"/>
                <a:ext cx="4114800" cy="1676520"/>
              </a:xfrm>
              <a:prstGeom prst="line">
                <a:avLst/>
              </a:prstGeom>
              <a:ln w="2844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572000" y="4191120"/>
                <a:ext cx="3962520" cy="1600200"/>
              </a:xfrm>
              <a:prstGeom prst="line">
                <a:avLst/>
              </a:prstGeom>
              <a:ln w="2844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315200" y="3429000"/>
                <a:ext cx="838080" cy="60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7620120" y="2819520"/>
                <a:ext cx="533160" cy="838080"/>
              </a:xfrm>
              <a:prstGeom prst="line">
                <a:avLst/>
              </a:prstGeom>
              <a:ln w="12600">
                <a:solidFill>
                  <a:srgbClr val="ffffe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4572000" y="3657600"/>
                <a:ext cx="3048120" cy="53352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7086240" y="4267080"/>
                <a:ext cx="685800" cy="762120"/>
              </a:xfrm>
              <a:prstGeom prst="line">
                <a:avLst/>
              </a:prstGeom>
              <a:ln w="381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 flipV="1">
                <a:off x="6781680" y="4038120"/>
                <a:ext cx="609840" cy="685800"/>
              </a:xfrm>
              <a:prstGeom prst="line">
                <a:avLst/>
              </a:prstGeom>
              <a:ln w="12600">
                <a:solidFill>
                  <a:srgbClr val="ffffe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572000" y="4191120"/>
                <a:ext cx="2819520" cy="53316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rot="1121400">
                <a:off x="7408800" y="3468600"/>
                <a:ext cx="4568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313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31365"/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 rot="20554800">
                <a:off x="7030440" y="4456440"/>
                <a:ext cx="30780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214" y="117"/>
                    </a:moveTo>
                    <a:arcTo wR="10800" hR="10800" stAng="-5906742" swAng="56768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214" y="117"/>
                    </a:moveTo>
                    <a:arcTo wR="10800" hR="10800" stAng="-5906742" swAng="5676861"/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545600" y="4648320"/>
                <a:ext cx="8420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eb"/>
                    </a:solidFill>
                    <a:latin typeface="Arial"/>
                  </a:rPr>
                  <a:t>front</a:t>
                </a:r>
                <a:endParaRPr b="0" lang="en-US" sz="26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925040" y="3352680"/>
                <a:ext cx="8816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eb"/>
                    </a:solidFill>
                    <a:latin typeface="Arial"/>
                  </a:rPr>
                  <a:t>back</a:t>
                </a:r>
                <a:endParaRPr b="0" lang="en-US" sz="26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95680" y="4114800"/>
                <a:ext cx="152640" cy="152280"/>
              </a:xfrm>
              <a:prstGeom prst="octagon">
                <a:avLst>
                  <a:gd name="adj" fmla="val 29287"/>
                </a:avLst>
              </a:prstGeom>
              <a:solidFill>
                <a:srgbClr val="ffffeb"/>
              </a:solidFill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316480" y="5715000"/>
                <a:ext cx="1692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eb"/>
                    </a:solidFill>
                    <a:latin typeface="Arial"/>
                  </a:rPr>
                  <a:t>eye space</a:t>
                </a:r>
                <a:endParaRPr b="0" lang="en-US" sz="26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How to cull backfaces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View-Frustum Culling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14400" y="1447920"/>
            <a:ext cx="8001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Bound every “natural” group of primitives by a simple volume (e.g., sphere, box)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If a bounding volume (BV) is outside the view frustum, then the entire contents of that BV is also outside (not visible)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236240" y="4232880"/>
            <a:ext cx="3709440" cy="2670840"/>
            <a:chOff x="1236240" y="4232880"/>
            <a:chExt cx="3709440" cy="2670840"/>
          </a:xfrm>
        </p:grpSpPr>
        <p:grpSp>
          <p:nvGrpSpPr>
            <p:cNvPr id="714" name=""/>
            <p:cNvGrpSpPr/>
            <p:nvPr/>
          </p:nvGrpSpPr>
          <p:grpSpPr>
            <a:xfrm>
              <a:off x="1333800" y="4232880"/>
              <a:ext cx="3611880" cy="2670840"/>
              <a:chOff x="1333800" y="4232880"/>
              <a:chExt cx="3611880" cy="2670840"/>
            </a:xfrm>
          </p:grpSpPr>
          <p:sp>
            <p:nvSpPr>
              <p:cNvPr id="715" name=""/>
              <p:cNvSpPr/>
              <p:nvPr/>
            </p:nvSpPr>
            <p:spPr>
              <a:xfrm rot="4135200">
                <a:off x="2237040" y="5241240"/>
                <a:ext cx="1676160" cy="1294920"/>
              </a:xfrm>
              <a:custGeom>
                <a:avLst/>
                <a:gdLst>
                  <a:gd name="textAreaLeft" fmla="*/ 368640 w 1676160"/>
                  <a:gd name="textAreaRight" fmla="*/ 1307520 w 1676160"/>
                  <a:gd name="textAreaTop" fmla="*/ 284760 h 1294920"/>
                  <a:gd name="textAreaBottom" fmla="*/ 1010160 h 129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99cc"/>
              </a:solidFill>
              <a:ln w="381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1335240" y="4232880"/>
                <a:ext cx="2856600" cy="2328480"/>
              </a:xfrm>
              <a:prstGeom prst="line">
                <a:avLst/>
              </a:prstGeom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1333800" y="6391800"/>
                <a:ext cx="3611880" cy="168120"/>
              </a:xfrm>
              <a:prstGeom prst="line">
                <a:avLst/>
              </a:prstGeom>
              <a:ln w="1908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 rot="20334600">
              <a:off x="1258200" y="64857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pic>
        <p:nvPicPr>
          <p:cNvPr id="719" name="AN02542_" descr=""/>
          <p:cNvPicPr/>
          <p:nvPr/>
        </p:nvPicPr>
        <p:blipFill>
          <a:blip r:embed="rId1"/>
          <a:stretch/>
        </p:blipFill>
        <p:spPr>
          <a:xfrm>
            <a:off x="2209680" y="4572000"/>
            <a:ext cx="609840" cy="59040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2133720" y="4419720"/>
            <a:ext cx="838080" cy="838080"/>
          </a:xfrm>
          <a:prstGeom prst="ellipse">
            <a:avLst/>
          </a:prstGeom>
          <a:noFill/>
          <a:ln w="2844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971800" y="5562720"/>
            <a:ext cx="685800" cy="685800"/>
            <a:chOff x="2971800" y="5562720"/>
            <a:chExt cx="685800" cy="685800"/>
          </a:xfrm>
        </p:grpSpPr>
        <p:pic>
          <p:nvPicPr>
            <p:cNvPr id="722" name="AN02542_" descr=""/>
            <p:cNvPicPr/>
            <p:nvPr/>
          </p:nvPicPr>
          <p:blipFill>
            <a:blip r:embed="rId2"/>
            <a:stretch/>
          </p:blipFill>
          <p:spPr>
            <a:xfrm>
              <a:off x="3048120" y="5715000"/>
              <a:ext cx="45720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971800" y="5562720"/>
              <a:ext cx="685800" cy="685800"/>
            </a:xfrm>
            <a:prstGeom prst="ellipse">
              <a:avLst/>
            </a:prstGeom>
            <a:noFill/>
            <a:ln w="284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057400" y="4267080"/>
            <a:ext cx="1066680" cy="1143000"/>
            <a:chOff x="2057400" y="4267080"/>
            <a:chExt cx="1066680" cy="1143000"/>
          </a:xfrm>
        </p:grpSpPr>
        <p:sp>
          <p:nvSpPr>
            <p:cNvPr id="725" name=""/>
            <p:cNvSpPr/>
            <p:nvPr/>
          </p:nvSpPr>
          <p:spPr>
            <a:xfrm>
              <a:off x="2286000" y="4267080"/>
              <a:ext cx="380880" cy="1143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2057400" y="4343400"/>
              <a:ext cx="1066680" cy="99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Can we accelerate view frustum culling further?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1440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Do what we always do in graphics…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Use a hierarchical approach, e.g., a spatial data structure (BVH, BSP, scene graph)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Which stages benefits?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Geometry and Rasterizer 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Bus between CPU and Geometry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2286000" y="4114800"/>
            <a:ext cx="6118200" cy="1752480"/>
            <a:chOff x="2286000" y="4114800"/>
            <a:chExt cx="6118200" cy="1752480"/>
          </a:xfrm>
        </p:grpSpPr>
        <p:grpSp>
          <p:nvGrpSpPr>
            <p:cNvPr id="730" name=""/>
            <p:cNvGrpSpPr/>
            <p:nvPr/>
          </p:nvGrpSpPr>
          <p:grpSpPr>
            <a:xfrm>
              <a:off x="6934320" y="4114800"/>
              <a:ext cx="1469880" cy="1371600"/>
              <a:chOff x="6934320" y="4114800"/>
              <a:chExt cx="1469880" cy="1371600"/>
            </a:xfrm>
          </p:grpSpPr>
          <p:pic>
            <p:nvPicPr>
              <p:cNvPr id="731" name="star" descr=""/>
              <p:cNvPicPr/>
              <p:nvPr/>
            </p:nvPicPr>
            <p:blipFill>
              <a:blip r:embed="rId1"/>
              <a:stretch/>
            </p:blipFill>
            <p:spPr>
              <a:xfrm>
                <a:off x="6934320" y="4876920"/>
                <a:ext cx="5205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2" name="tetra" descr=""/>
              <p:cNvPicPr/>
              <p:nvPr/>
            </p:nvPicPr>
            <p:blipFill>
              <a:blip r:embed="rId2"/>
              <a:stretch/>
            </p:blipFill>
            <p:spPr>
              <a:xfrm>
                <a:off x="7848720" y="4876920"/>
                <a:ext cx="55548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3" name=""/>
              <p:cNvSpPr/>
              <p:nvPr/>
            </p:nvSpPr>
            <p:spPr>
              <a:xfrm flipH="1">
                <a:off x="7238520" y="4114800"/>
                <a:ext cx="228600" cy="762120"/>
              </a:xfrm>
              <a:prstGeom prst="line">
                <a:avLst/>
              </a:prstGeom>
              <a:ln w="28440">
                <a:solidFill>
                  <a:srgbClr val="ffffe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848720" y="4114800"/>
                <a:ext cx="228600" cy="762120"/>
              </a:xfrm>
              <a:prstGeom prst="line">
                <a:avLst/>
              </a:prstGeom>
              <a:ln w="28440">
                <a:solidFill>
                  <a:srgbClr val="ffffe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934320" y="4876920"/>
                <a:ext cx="533160" cy="53316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848720" y="4876920"/>
                <a:ext cx="533160" cy="60948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2286000" y="4495680"/>
              <a:ext cx="1898640" cy="1371600"/>
              <a:chOff x="2286000" y="4495680"/>
              <a:chExt cx="1898640" cy="137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3276720" y="4495680"/>
                <a:ext cx="907920" cy="990720"/>
              </a:xfrm>
              <a:prstGeom prst="ellipse">
                <a:avLst/>
              </a:prstGeom>
              <a:noFill/>
              <a:ln w="38160">
                <a:solidFill>
                  <a:srgbClr val="ff0b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pic>
            <p:nvPicPr>
              <p:cNvPr id="739" name="star" descr=""/>
              <p:cNvPicPr/>
              <p:nvPr/>
            </p:nvPicPr>
            <p:blipFill>
              <a:blip r:embed="rId3"/>
              <a:stretch/>
            </p:blipFill>
            <p:spPr>
              <a:xfrm>
                <a:off x="2441520" y="5029200"/>
                <a:ext cx="66996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0" name="tetra" descr=""/>
              <p:cNvPicPr/>
              <p:nvPr/>
            </p:nvPicPr>
            <p:blipFill>
              <a:blip r:embed="rId4"/>
              <a:stretch/>
            </p:blipFill>
            <p:spPr>
              <a:xfrm>
                <a:off x="3429000" y="4648320"/>
                <a:ext cx="62388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>
                <a:off x="2286000" y="4876920"/>
                <a:ext cx="990720" cy="990360"/>
              </a:xfrm>
              <a:prstGeom prst="ellipse">
                <a:avLst/>
              </a:prstGeom>
              <a:noFill/>
              <a:ln w="38160">
                <a:solidFill>
                  <a:srgbClr val="ff0b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276720" y="4572000"/>
                <a:ext cx="838080" cy="914400"/>
              </a:xfrm>
              <a:prstGeom prst="line">
                <a:avLst/>
              </a:prstGeom>
              <a:ln w="57240">
                <a:solidFill>
                  <a:srgbClr val="ff0b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362320" y="4952880"/>
                <a:ext cx="838080" cy="914400"/>
              </a:xfrm>
              <a:prstGeom prst="line">
                <a:avLst/>
              </a:prstGeom>
              <a:ln w="57240">
                <a:solidFill>
                  <a:srgbClr val="ff0b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3352320" y="4495680"/>
                <a:ext cx="685800" cy="990720"/>
              </a:xfrm>
              <a:prstGeom prst="line">
                <a:avLst/>
              </a:prstGeom>
              <a:ln w="57240">
                <a:solidFill>
                  <a:srgbClr val="ff0b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2437920" y="4876920"/>
                <a:ext cx="685800" cy="990360"/>
              </a:xfrm>
              <a:prstGeom prst="line">
                <a:avLst/>
              </a:prstGeom>
              <a:ln w="57240">
                <a:solidFill>
                  <a:srgbClr val="ff0b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6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Example of Hierarchical View Frustum Culling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600200" y="2951280"/>
            <a:ext cx="7467480" cy="1323720"/>
            <a:chOff x="1600200" y="2951280"/>
            <a:chExt cx="7467480" cy="1323720"/>
          </a:xfrm>
        </p:grpSpPr>
        <p:grpSp>
          <p:nvGrpSpPr>
            <p:cNvPr id="748" name=""/>
            <p:cNvGrpSpPr/>
            <p:nvPr/>
          </p:nvGrpSpPr>
          <p:grpSpPr>
            <a:xfrm>
              <a:off x="8458200" y="3048120"/>
              <a:ext cx="609480" cy="1226880"/>
              <a:chOff x="8458200" y="3048120"/>
              <a:chExt cx="609480" cy="1226880"/>
            </a:xfrm>
          </p:grpSpPr>
          <p:pic>
            <p:nvPicPr>
              <p:cNvPr id="749" name="torus" descr=""/>
              <p:cNvPicPr/>
              <p:nvPr/>
            </p:nvPicPr>
            <p:blipFill>
              <a:blip r:embed="rId5"/>
              <a:stretch/>
            </p:blipFill>
            <p:spPr>
              <a:xfrm>
                <a:off x="8458200" y="3809880"/>
                <a:ext cx="60948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0" name=""/>
              <p:cNvSpPr/>
              <p:nvPr/>
            </p:nvSpPr>
            <p:spPr>
              <a:xfrm>
                <a:off x="8610480" y="3048120"/>
                <a:ext cx="228600" cy="761760"/>
              </a:xfrm>
              <a:prstGeom prst="line">
                <a:avLst/>
              </a:prstGeom>
              <a:ln w="28440">
                <a:solidFill>
                  <a:srgbClr val="ffffe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458200" y="3809880"/>
                <a:ext cx="609480" cy="4572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1600200" y="2951280"/>
              <a:ext cx="932040" cy="931680"/>
              <a:chOff x="1600200" y="2951280"/>
              <a:chExt cx="932040" cy="931680"/>
            </a:xfrm>
          </p:grpSpPr>
          <p:pic>
            <p:nvPicPr>
              <p:cNvPr id="753" name="torus" descr=""/>
              <p:cNvPicPr/>
              <p:nvPr/>
            </p:nvPicPr>
            <p:blipFill>
              <a:blip r:embed="rId6"/>
              <a:stretch/>
            </p:blipFill>
            <p:spPr>
              <a:xfrm>
                <a:off x="1676520" y="3124080"/>
                <a:ext cx="76176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1600200" y="2951280"/>
                <a:ext cx="932040" cy="931680"/>
              </a:xfrm>
              <a:prstGeom prst="ellipse">
                <a:avLst/>
              </a:prstGeom>
              <a:noFill/>
              <a:ln w="38160">
                <a:solidFill>
                  <a:srgbClr val="ff0b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5" name=""/>
          <p:cNvGrpSpPr/>
          <p:nvPr/>
        </p:nvGrpSpPr>
        <p:grpSpPr>
          <a:xfrm>
            <a:off x="3962520" y="2057400"/>
            <a:ext cx="3657240" cy="1295280"/>
            <a:chOff x="3962520" y="2057400"/>
            <a:chExt cx="3657240" cy="1295280"/>
          </a:xfrm>
        </p:grpSpPr>
        <p:grpSp>
          <p:nvGrpSpPr>
            <p:cNvPr id="756" name=""/>
            <p:cNvGrpSpPr/>
            <p:nvPr/>
          </p:nvGrpSpPr>
          <p:grpSpPr>
            <a:xfrm>
              <a:off x="6934320" y="2133720"/>
              <a:ext cx="685440" cy="1218960"/>
              <a:chOff x="6934320" y="2133720"/>
              <a:chExt cx="685440" cy="1218960"/>
            </a:xfrm>
          </p:grpSpPr>
          <p:pic>
            <p:nvPicPr>
              <p:cNvPr id="757" name="cube" descr=""/>
              <p:cNvPicPr/>
              <p:nvPr/>
            </p:nvPicPr>
            <p:blipFill>
              <a:blip r:embed="rId7"/>
              <a:stretch/>
            </p:blipFill>
            <p:spPr>
              <a:xfrm>
                <a:off x="6934320" y="2743200"/>
                <a:ext cx="60948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8" name=""/>
              <p:cNvSpPr/>
              <p:nvPr/>
            </p:nvSpPr>
            <p:spPr>
              <a:xfrm flipH="1">
                <a:off x="7238520" y="2133720"/>
                <a:ext cx="381240" cy="609480"/>
              </a:xfrm>
              <a:prstGeom prst="line">
                <a:avLst/>
              </a:prstGeom>
              <a:ln w="28440">
                <a:solidFill>
                  <a:srgbClr val="ffffe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934320" y="2743200"/>
                <a:ext cx="609480" cy="60948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3962520" y="2057400"/>
              <a:ext cx="1066680" cy="1066680"/>
              <a:chOff x="3962520" y="2057400"/>
              <a:chExt cx="1066680" cy="1066680"/>
            </a:xfrm>
          </p:grpSpPr>
          <p:pic>
            <p:nvPicPr>
              <p:cNvPr id="761" name="cube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4800" y="2209680"/>
                <a:ext cx="762120" cy="72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2" name=""/>
              <p:cNvSpPr/>
              <p:nvPr/>
            </p:nvSpPr>
            <p:spPr>
              <a:xfrm>
                <a:off x="3962520" y="2057400"/>
                <a:ext cx="1066680" cy="1066680"/>
              </a:xfrm>
              <a:prstGeom prst="ellipse">
                <a:avLst/>
              </a:prstGeom>
              <a:noFill/>
              <a:ln w="38160">
                <a:solidFill>
                  <a:srgbClr val="ff0b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3" name=""/>
          <p:cNvGrpSpPr/>
          <p:nvPr/>
        </p:nvGrpSpPr>
        <p:grpSpPr>
          <a:xfrm>
            <a:off x="685800" y="1371600"/>
            <a:ext cx="7401960" cy="5181480"/>
            <a:chOff x="685800" y="1371600"/>
            <a:chExt cx="7401960" cy="5181480"/>
          </a:xfrm>
        </p:grpSpPr>
        <p:sp>
          <p:nvSpPr>
            <p:cNvPr id="764" name=""/>
            <p:cNvSpPr/>
            <p:nvPr/>
          </p:nvSpPr>
          <p:spPr>
            <a:xfrm>
              <a:off x="685800" y="1371600"/>
              <a:ext cx="5181480" cy="5181480"/>
            </a:xfrm>
            <a:prstGeom prst="ellipse">
              <a:avLst/>
            </a:prstGeom>
            <a:noFill/>
            <a:ln w="381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20120" y="1905120"/>
              <a:ext cx="380880" cy="380880"/>
            </a:xfrm>
            <a:prstGeom prst="rect">
              <a:avLst/>
            </a:prstGeom>
            <a:solidFill>
              <a:srgbClr val="615d5d"/>
            </a:solidFill>
            <a:ln w="381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468200" y="1432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b"/>
                  </a:solidFill>
                  <a:latin typeface="Arial"/>
                </a:rPr>
                <a:t>root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04920" y="5715000"/>
            <a:ext cx="380880" cy="3808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-360" y="601992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b"/>
                </a:solidFill>
                <a:latin typeface="Arial"/>
              </a:rPr>
              <a:t>camera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2133720" y="2971800"/>
            <a:ext cx="6172200" cy="3124080"/>
            <a:chOff x="2133720" y="2971800"/>
            <a:chExt cx="6172200" cy="3124080"/>
          </a:xfrm>
        </p:grpSpPr>
        <p:sp>
          <p:nvSpPr>
            <p:cNvPr id="770" name=""/>
            <p:cNvSpPr/>
            <p:nvPr/>
          </p:nvSpPr>
          <p:spPr>
            <a:xfrm flipH="1">
              <a:off x="7696080" y="2971800"/>
              <a:ext cx="609840" cy="91440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467480" y="3886200"/>
              <a:ext cx="381240" cy="380880"/>
            </a:xfrm>
            <a:prstGeom prst="rect">
              <a:avLst/>
            </a:prstGeom>
            <a:solidFill>
              <a:srgbClr val="615d5d"/>
            </a:solidFill>
            <a:ln w="38160">
              <a:solidFill>
                <a:srgbClr val="ca40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33720" y="4114800"/>
              <a:ext cx="2133360" cy="1981080"/>
            </a:xfrm>
            <a:prstGeom prst="ellipse">
              <a:avLst/>
            </a:prstGeom>
            <a:noFill/>
            <a:ln w="38160">
              <a:solidFill>
                <a:srgbClr val="ca40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990720" y="2133720"/>
            <a:ext cx="7619760" cy="4190760"/>
            <a:chOff x="990720" y="2133720"/>
            <a:chExt cx="7619760" cy="4190760"/>
          </a:xfrm>
        </p:grpSpPr>
        <p:grpSp>
          <p:nvGrpSpPr>
            <p:cNvPr id="774" name=""/>
            <p:cNvGrpSpPr/>
            <p:nvPr/>
          </p:nvGrpSpPr>
          <p:grpSpPr>
            <a:xfrm>
              <a:off x="8001000" y="2133720"/>
              <a:ext cx="609480" cy="990360"/>
              <a:chOff x="8001000" y="2133720"/>
              <a:chExt cx="609480" cy="990360"/>
            </a:xfrm>
          </p:grpSpPr>
          <p:sp>
            <p:nvSpPr>
              <p:cNvPr id="775" name=""/>
              <p:cNvSpPr/>
              <p:nvPr/>
            </p:nvSpPr>
            <p:spPr>
              <a:xfrm>
                <a:off x="8001000" y="2133720"/>
                <a:ext cx="457200" cy="609480"/>
              </a:xfrm>
              <a:prstGeom prst="line">
                <a:avLst/>
              </a:prstGeom>
              <a:ln w="28440">
                <a:solidFill>
                  <a:srgbClr val="ffffe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229600" y="2743200"/>
                <a:ext cx="380880" cy="380880"/>
              </a:xfrm>
              <a:prstGeom prst="rect">
                <a:avLst/>
              </a:prstGeom>
              <a:solidFill>
                <a:srgbClr val="615d5d"/>
              </a:solidFill>
              <a:ln w="38160">
                <a:solidFill>
                  <a:srgbClr val="cf8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990720" y="2590920"/>
              <a:ext cx="3733560" cy="3733560"/>
            </a:xfrm>
            <a:prstGeom prst="ellipse">
              <a:avLst/>
            </a:prstGeom>
            <a:noFill/>
            <a:ln w="38160">
              <a:solidFill>
                <a:srgbClr val="cf88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 flipV="1">
            <a:off x="533520" y="1599840"/>
            <a:ext cx="5181480" cy="4267080"/>
          </a:xfrm>
          <a:prstGeom prst="line">
            <a:avLst/>
          </a:prstGeom>
          <a:ln w="57240">
            <a:solidFill>
              <a:srgbClr val="089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533520" y="1295280"/>
            <a:ext cx="761760" cy="4572000"/>
          </a:xfrm>
          <a:prstGeom prst="line">
            <a:avLst/>
          </a:prstGeom>
          <a:ln w="57240">
            <a:solidFill>
              <a:srgbClr val="089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Portal Culling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781" name="portals_plate1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419720" cy="3533760"/>
          </a:xfrm>
          <a:prstGeom prst="rect">
            <a:avLst/>
          </a:prstGeom>
          <a:ln w="0">
            <a:noFill/>
          </a:ln>
        </p:spPr>
      </p:pic>
      <p:pic>
        <p:nvPicPr>
          <p:cNvPr id="782" name="portals_plate2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4419720" cy="353520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288360" y="144792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Images courtesy of David P. Luebke and Chris Georges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38080" y="5486400"/>
            <a:ext cx="7875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Average: culled 20-50% of the polys in view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Speedup: from slightly better to 10 times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"/>
          <p:cNvGrpSpPr/>
          <p:nvPr/>
        </p:nvGrpSpPr>
        <p:grpSpPr>
          <a:xfrm>
            <a:off x="1294920" y="2438280"/>
            <a:ext cx="6248880" cy="3733920"/>
            <a:chOff x="1294920" y="2438280"/>
            <a:chExt cx="6248880" cy="3733920"/>
          </a:xfrm>
        </p:grpSpPr>
        <p:grpSp>
          <p:nvGrpSpPr>
            <p:cNvPr id="786" name=""/>
            <p:cNvGrpSpPr/>
            <p:nvPr/>
          </p:nvGrpSpPr>
          <p:grpSpPr>
            <a:xfrm>
              <a:off x="1294920" y="2438280"/>
              <a:ext cx="6248880" cy="3733920"/>
              <a:chOff x="1294920" y="2438280"/>
              <a:chExt cx="6248880" cy="373392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1294920" y="2438280"/>
                <a:ext cx="6248880" cy="3733920"/>
                <a:chOff x="1294920" y="2438280"/>
                <a:chExt cx="6248880" cy="37339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5334120" y="4114800"/>
                  <a:ext cx="2209680" cy="1066680"/>
                </a:xfrm>
                <a:prstGeom prst="rect">
                  <a:avLst/>
                </a:prstGeom>
                <a:solidFill>
                  <a:srgbClr val="ff0b0b"/>
                </a:solidFill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2971800" y="4114800"/>
                  <a:ext cx="2362320" cy="20574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ca40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334120" y="5181480"/>
                  <a:ext cx="2209680" cy="990720"/>
                </a:xfrm>
                <a:prstGeom prst="rect">
                  <a:avLst/>
                </a:prstGeom>
                <a:solidFill>
                  <a:srgbClr val="cf8831"/>
                </a:solidFill>
                <a:ln w="9360">
                  <a:solidFill>
                    <a:srgbClr val="cf88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295280" y="2438280"/>
                  <a:ext cx="1676520" cy="3733920"/>
                </a:xfrm>
                <a:prstGeom prst="rect">
                  <a:avLst/>
                </a:prstGeom>
                <a:solidFill>
                  <a:srgbClr val="0c99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295280" y="2438280"/>
                  <a:ext cx="0" cy="3733920"/>
                </a:xfrm>
                <a:prstGeom prst="line">
                  <a:avLst/>
                </a:prstGeom>
                <a:ln w="7632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>
                  <a:off x="1294920" y="6172200"/>
                  <a:ext cx="6248520" cy="0"/>
                </a:xfrm>
                <a:prstGeom prst="line">
                  <a:avLst/>
                </a:prstGeom>
                <a:ln w="7632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>
                  <a:off x="1294920" y="2438280"/>
                  <a:ext cx="6248520" cy="0"/>
                </a:xfrm>
                <a:prstGeom prst="line">
                  <a:avLst/>
                </a:prstGeom>
                <a:ln w="7632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7543800" y="2438280"/>
                  <a:ext cx="0" cy="3733920"/>
                </a:xfrm>
                <a:prstGeom prst="line">
                  <a:avLst/>
                </a:prstGeom>
                <a:ln w="7632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971800" y="2438280"/>
                  <a:ext cx="0" cy="685800"/>
                </a:xfrm>
                <a:prstGeom prst="line">
                  <a:avLst/>
                </a:prstGeom>
                <a:ln w="7632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2971800" y="3733920"/>
                  <a:ext cx="0" cy="685800"/>
                </a:xfrm>
                <a:prstGeom prst="line">
                  <a:avLst/>
                </a:prstGeom>
                <a:ln w="7632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2971800" y="5486400"/>
                  <a:ext cx="0" cy="685800"/>
                </a:xfrm>
                <a:prstGeom prst="line">
                  <a:avLst/>
                </a:prstGeom>
                <a:ln w="7632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>
                  <a:off x="2971800" y="4114800"/>
                  <a:ext cx="3200400" cy="0"/>
                </a:xfrm>
                <a:prstGeom prst="line">
                  <a:avLst/>
                </a:prstGeom>
                <a:ln w="7632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H="1">
                  <a:off x="7314840" y="4114800"/>
                  <a:ext cx="228600" cy="0"/>
                </a:xfrm>
                <a:prstGeom prst="line">
                  <a:avLst/>
                </a:prstGeom>
                <a:ln w="7632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1" name=""/>
              <p:cNvSpPr/>
              <p:nvPr/>
            </p:nvSpPr>
            <p:spPr>
              <a:xfrm>
                <a:off x="5334120" y="4114800"/>
                <a:ext cx="0" cy="1219320"/>
              </a:xfrm>
              <a:prstGeom prst="line">
                <a:avLst/>
              </a:prstGeom>
              <a:ln w="7632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5333760" y="5181480"/>
                <a:ext cx="1447560" cy="0"/>
              </a:xfrm>
              <a:prstGeom prst="line">
                <a:avLst/>
              </a:prstGeom>
              <a:ln w="7632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7314840" y="5181480"/>
                <a:ext cx="228600" cy="0"/>
              </a:xfrm>
              <a:prstGeom prst="line">
                <a:avLst/>
              </a:prstGeom>
              <a:ln w="7632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1523880" y="2666520"/>
              <a:ext cx="1447920" cy="3429360"/>
              <a:chOff x="1523880" y="2666520"/>
              <a:chExt cx="1447920" cy="3429360"/>
            </a:xfrm>
          </p:grpSpPr>
          <p:sp>
            <p:nvSpPr>
              <p:cNvPr id="805" name=""/>
              <p:cNvSpPr/>
              <p:nvPr/>
            </p:nvSpPr>
            <p:spPr>
              <a:xfrm>
                <a:off x="1600200" y="2895480"/>
                <a:ext cx="304920" cy="304920"/>
              </a:xfrm>
              <a:prstGeom prst="ellipse">
                <a:avLst/>
              </a:prstGeom>
              <a:solidFill>
                <a:srgbClr val="ff0b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828800" y="5486400"/>
                <a:ext cx="380880" cy="380880"/>
              </a:xfrm>
              <a:prstGeom prst="ellipse">
                <a:avLst/>
              </a:prstGeom>
              <a:solidFill>
                <a:srgbClr val="ff0b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1523880" y="2666520"/>
                <a:ext cx="1447920" cy="1676520"/>
              </a:xfrm>
              <a:prstGeom prst="line">
                <a:avLst/>
              </a:prstGeom>
              <a:ln w="381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3880" y="4343400"/>
                <a:ext cx="1447920" cy="1752480"/>
              </a:xfrm>
              <a:prstGeom prst="line">
                <a:avLst/>
              </a:prstGeom>
              <a:ln w="381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9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Portal culling example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In a building from above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Circles are objects to be rendered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334120" y="5943600"/>
            <a:ext cx="0" cy="228600"/>
          </a:xfrm>
          <a:prstGeom prst="line">
            <a:avLst/>
          </a:prstGeom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1523880" y="2438280"/>
            <a:ext cx="5181840" cy="1905120"/>
            <a:chOff x="1523880" y="2438280"/>
            <a:chExt cx="5181840" cy="1905120"/>
          </a:xfrm>
        </p:grpSpPr>
        <p:sp>
          <p:nvSpPr>
            <p:cNvPr id="813" name=""/>
            <p:cNvSpPr/>
            <p:nvPr/>
          </p:nvSpPr>
          <p:spPr>
            <a:xfrm>
              <a:off x="3048120" y="2514600"/>
              <a:ext cx="228600" cy="22860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572000" y="3505320"/>
              <a:ext cx="380880" cy="38088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24480" y="2819520"/>
              <a:ext cx="381240" cy="38088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05320" y="2743200"/>
              <a:ext cx="380880" cy="380880"/>
            </a:xfrm>
            <a:prstGeom prst="ellipse">
              <a:avLst/>
            </a:pr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523880" y="2438280"/>
              <a:ext cx="2210040" cy="1905120"/>
            </a:xfrm>
            <a:prstGeom prst="line">
              <a:avLst/>
            </a:prstGeom>
            <a:ln w="381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523880" y="2438280"/>
              <a:ext cx="4572000" cy="1905120"/>
            </a:xfrm>
            <a:prstGeom prst="line">
              <a:avLst/>
            </a:prstGeom>
            <a:ln w="381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1523880" y="4267080"/>
            <a:ext cx="3810240" cy="1828800"/>
            <a:chOff x="1523880" y="4267080"/>
            <a:chExt cx="3810240" cy="1828800"/>
          </a:xfrm>
        </p:grpSpPr>
        <p:sp>
          <p:nvSpPr>
            <p:cNvPr id="820" name=""/>
            <p:cNvSpPr/>
            <p:nvPr/>
          </p:nvSpPr>
          <p:spPr>
            <a:xfrm>
              <a:off x="4267080" y="4800600"/>
              <a:ext cx="381240" cy="380880"/>
            </a:xfrm>
            <a:prstGeom prst="ellipse">
              <a:avLst/>
            </a:pr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495680" y="4267080"/>
              <a:ext cx="228600" cy="22860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00400" y="5791320"/>
              <a:ext cx="228600" cy="22860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23880" y="4343400"/>
              <a:ext cx="3810240" cy="304920"/>
            </a:xfrm>
            <a:prstGeom prst="line">
              <a:avLst/>
            </a:prstGeom>
            <a:ln w="381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23880" y="4343400"/>
              <a:ext cx="2286000" cy="1752480"/>
            </a:xfrm>
            <a:prstGeom prst="line">
              <a:avLst/>
            </a:prstGeom>
            <a:ln w="381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1523880" y="4343400"/>
            <a:ext cx="6019920" cy="1828800"/>
            <a:chOff x="1523880" y="4343400"/>
            <a:chExt cx="6019920" cy="1828800"/>
          </a:xfrm>
        </p:grpSpPr>
        <p:sp>
          <p:nvSpPr>
            <p:cNvPr id="826" name=""/>
            <p:cNvSpPr/>
            <p:nvPr/>
          </p:nvSpPr>
          <p:spPr>
            <a:xfrm>
              <a:off x="7086600" y="5486400"/>
              <a:ext cx="228600" cy="22860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715000" y="5562720"/>
              <a:ext cx="380880" cy="380880"/>
            </a:xfrm>
            <a:prstGeom prst="ellipse">
              <a:avLst/>
            </a:pr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4343400"/>
              <a:ext cx="4343400" cy="1828800"/>
            </a:xfrm>
            <a:prstGeom prst="line">
              <a:avLst/>
            </a:prstGeom>
            <a:ln w="381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523880" y="4343400"/>
              <a:ext cx="6019920" cy="1523880"/>
            </a:xfrm>
            <a:prstGeom prst="line">
              <a:avLst/>
            </a:prstGeom>
            <a:ln w="381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Portal Culling Algorithm (1)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91440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Divide into cells with portals (build graph)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or each frame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Locate cell of viewer and init 2D AABB to whole screen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* Render current cell with View Frustum culling w.r.t. AABB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Traverse to closest cells (through portals)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Intersection of AABB &amp; AABB of traversed portal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Goto *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914400" y="1523880"/>
            <a:ext cx="7951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When to exit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When the current AABB is empty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When we do not have enough time to render a cell (“far away” from the viewer)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Also: mark rendered objects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Portal Culling Algorithm (2)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How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rganizes geometry in some hierarch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52280" y="2514600"/>
            <a:ext cx="4419720" cy="2743200"/>
            <a:chOff x="152280" y="2514600"/>
            <a:chExt cx="4419720" cy="2743200"/>
          </a:xfrm>
        </p:grpSpPr>
        <p:sp>
          <p:nvSpPr>
            <p:cNvPr id="103" name=""/>
            <p:cNvSpPr/>
            <p:nvPr/>
          </p:nvSpPr>
          <p:spPr>
            <a:xfrm>
              <a:off x="152280" y="2514600"/>
              <a:ext cx="441972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pic>
          <p:nvPicPr>
            <p:cNvPr id="104" name="cube" descr=""/>
            <p:cNvPicPr/>
            <p:nvPr/>
          </p:nvPicPr>
          <p:blipFill>
            <a:blip r:embed="rId1"/>
            <a:stretch/>
          </p:blipFill>
          <p:spPr>
            <a:xfrm>
              <a:off x="609480" y="2743200"/>
              <a:ext cx="99072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star" descr=""/>
            <p:cNvPicPr/>
            <p:nvPr/>
          </p:nvPicPr>
          <p:blipFill>
            <a:blip r:embed="rId2"/>
            <a:stretch/>
          </p:blipFill>
          <p:spPr>
            <a:xfrm>
              <a:off x="914400" y="3962160"/>
              <a:ext cx="9684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torus" descr=""/>
            <p:cNvPicPr/>
            <p:nvPr/>
          </p:nvPicPr>
          <p:blipFill>
            <a:blip r:embed="rId3"/>
            <a:stretch/>
          </p:blipFill>
          <p:spPr>
            <a:xfrm>
              <a:off x="3200400" y="3809880"/>
              <a:ext cx="113508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tetra" descr=""/>
            <p:cNvPicPr/>
            <p:nvPr/>
          </p:nvPicPr>
          <p:blipFill>
            <a:blip r:embed="rId4"/>
            <a:stretch/>
          </p:blipFill>
          <p:spPr>
            <a:xfrm>
              <a:off x="2438280" y="2971800"/>
              <a:ext cx="96984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609480" y="2743200"/>
            <a:ext cx="3733560" cy="2209680"/>
            <a:chOff x="609480" y="2743200"/>
            <a:chExt cx="3733560" cy="2209680"/>
          </a:xfrm>
        </p:grpSpPr>
        <p:sp>
          <p:nvSpPr>
            <p:cNvPr id="109" name=""/>
            <p:cNvSpPr/>
            <p:nvPr/>
          </p:nvSpPr>
          <p:spPr>
            <a:xfrm>
              <a:off x="609480" y="2743200"/>
              <a:ext cx="990360" cy="99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040" y="3962520"/>
              <a:ext cx="990720" cy="990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00040" y="3809880"/>
              <a:ext cx="1143000" cy="9144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1960" y="2971800"/>
              <a:ext cx="990720" cy="10666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57200" y="2666880"/>
            <a:ext cx="1523880" cy="23623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2666880"/>
            <a:ext cx="2133720" cy="2133720"/>
          </a:xfrm>
          <a:prstGeom prst="rect">
            <a:avLst/>
          </a:prstGeom>
          <a:noFill/>
          <a:ln w="57240">
            <a:solidFill>
              <a:srgbClr val="c68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2514600"/>
            <a:ext cx="4419720" cy="2743200"/>
          </a:xfrm>
          <a:prstGeom prst="rect">
            <a:avLst/>
          </a:prstGeom>
          <a:noFill/>
          <a:ln w="7632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15080" y="19810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In 2D space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2514600"/>
            <a:ext cx="304920" cy="304920"/>
          </a:xfrm>
          <a:prstGeom prst="rect">
            <a:avLst/>
          </a:prstGeom>
          <a:noFill/>
          <a:ln w="7632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49560" y="198108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Data structure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095880" y="2819520"/>
            <a:ext cx="533520" cy="761760"/>
            <a:chOff x="6095880" y="2819520"/>
            <a:chExt cx="533520" cy="761760"/>
          </a:xfrm>
        </p:grpSpPr>
        <p:sp>
          <p:nvSpPr>
            <p:cNvPr id="120" name=""/>
            <p:cNvSpPr/>
            <p:nvPr/>
          </p:nvSpPr>
          <p:spPr>
            <a:xfrm>
              <a:off x="6095880" y="3276720"/>
              <a:ext cx="304920" cy="304560"/>
            </a:xfrm>
            <a:prstGeom prst="rect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400800" y="2819520"/>
              <a:ext cx="22860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562720" y="3581280"/>
            <a:ext cx="533160" cy="838440"/>
            <a:chOff x="5562720" y="3581280"/>
            <a:chExt cx="533160" cy="838440"/>
          </a:xfrm>
        </p:grpSpPr>
        <p:grpSp>
          <p:nvGrpSpPr>
            <p:cNvPr id="123" name=""/>
            <p:cNvGrpSpPr/>
            <p:nvPr/>
          </p:nvGrpSpPr>
          <p:grpSpPr>
            <a:xfrm>
              <a:off x="5562720" y="4038480"/>
              <a:ext cx="380880" cy="381240"/>
              <a:chOff x="5562720" y="4038480"/>
              <a:chExt cx="380880" cy="381240"/>
            </a:xfrm>
          </p:grpSpPr>
          <p:pic>
            <p:nvPicPr>
              <p:cNvPr id="124" name="cube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4041720"/>
                <a:ext cx="380880" cy="36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5562720" y="4038480"/>
                <a:ext cx="380880" cy="38124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V="1">
              <a:off x="5867280" y="3581280"/>
              <a:ext cx="22860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324480" y="3581280"/>
            <a:ext cx="380880" cy="838440"/>
            <a:chOff x="6324480" y="3581280"/>
            <a:chExt cx="380880" cy="838440"/>
          </a:xfrm>
        </p:grpSpPr>
        <p:grpSp>
          <p:nvGrpSpPr>
            <p:cNvPr id="128" name=""/>
            <p:cNvGrpSpPr/>
            <p:nvPr/>
          </p:nvGrpSpPr>
          <p:grpSpPr>
            <a:xfrm>
              <a:off x="6324480" y="4038480"/>
              <a:ext cx="380880" cy="381240"/>
              <a:chOff x="6324480" y="4038480"/>
              <a:chExt cx="380880" cy="381240"/>
            </a:xfrm>
          </p:grpSpPr>
          <p:pic>
            <p:nvPicPr>
              <p:cNvPr id="129" name="star" descr=""/>
              <p:cNvPicPr/>
              <p:nvPr/>
            </p:nvPicPr>
            <p:blipFill>
              <a:blip r:embed="rId6"/>
              <a:stretch/>
            </p:blipFill>
            <p:spPr>
              <a:xfrm>
                <a:off x="6325920" y="4038480"/>
                <a:ext cx="37332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6324480" y="4038480"/>
                <a:ext cx="380880" cy="38124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 flipH="1" flipV="1">
              <a:off x="6400440" y="3581280"/>
              <a:ext cx="15228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933960" y="2819520"/>
            <a:ext cx="533520" cy="761760"/>
            <a:chOff x="6933960" y="2819520"/>
            <a:chExt cx="533520" cy="761760"/>
          </a:xfrm>
        </p:grpSpPr>
        <p:sp>
          <p:nvSpPr>
            <p:cNvPr id="133" name=""/>
            <p:cNvSpPr/>
            <p:nvPr/>
          </p:nvSpPr>
          <p:spPr>
            <a:xfrm>
              <a:off x="7162920" y="3276720"/>
              <a:ext cx="304560" cy="304560"/>
            </a:xfrm>
            <a:prstGeom prst="rect">
              <a:avLst/>
            </a:prstGeom>
            <a:noFill/>
            <a:ln w="5724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6933960" y="2819520"/>
              <a:ext cx="22860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467120" y="3581280"/>
            <a:ext cx="533880" cy="762120"/>
            <a:chOff x="7467120" y="3581280"/>
            <a:chExt cx="533880" cy="762120"/>
          </a:xfrm>
        </p:grpSpPr>
        <p:grpSp>
          <p:nvGrpSpPr>
            <p:cNvPr id="136" name=""/>
            <p:cNvGrpSpPr/>
            <p:nvPr/>
          </p:nvGrpSpPr>
          <p:grpSpPr>
            <a:xfrm>
              <a:off x="7620120" y="4038480"/>
              <a:ext cx="380880" cy="304920"/>
              <a:chOff x="7620120" y="4038480"/>
              <a:chExt cx="380880" cy="304920"/>
            </a:xfrm>
          </p:grpSpPr>
          <p:pic>
            <p:nvPicPr>
              <p:cNvPr id="137" name="torus" descr=""/>
              <p:cNvPicPr/>
              <p:nvPr/>
            </p:nvPicPr>
            <p:blipFill>
              <a:blip r:embed="rId7"/>
              <a:stretch/>
            </p:blipFill>
            <p:spPr>
              <a:xfrm>
                <a:off x="7620120" y="4038480"/>
                <a:ext cx="380880" cy="29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7620120" y="4038480"/>
                <a:ext cx="380880" cy="3049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flipH="1" flipV="1">
              <a:off x="7467120" y="3581280"/>
              <a:ext cx="22860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934320" y="3581280"/>
            <a:ext cx="380880" cy="838440"/>
            <a:chOff x="6934320" y="3581280"/>
            <a:chExt cx="380880" cy="838440"/>
          </a:xfrm>
        </p:grpSpPr>
        <p:grpSp>
          <p:nvGrpSpPr>
            <p:cNvPr id="141" name=""/>
            <p:cNvGrpSpPr/>
            <p:nvPr/>
          </p:nvGrpSpPr>
          <p:grpSpPr>
            <a:xfrm>
              <a:off x="6934320" y="4038480"/>
              <a:ext cx="380880" cy="381240"/>
              <a:chOff x="6934320" y="4038480"/>
              <a:chExt cx="380880" cy="381240"/>
            </a:xfrm>
          </p:grpSpPr>
          <p:pic>
            <p:nvPicPr>
              <p:cNvPr id="142" name="tetra" descr=""/>
              <p:cNvPicPr/>
              <p:nvPr/>
            </p:nvPicPr>
            <p:blipFill>
              <a:blip r:embed="rId8"/>
              <a:stretch/>
            </p:blipFill>
            <p:spPr>
              <a:xfrm>
                <a:off x="6934320" y="4038480"/>
                <a:ext cx="34776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6934320" y="4038480"/>
                <a:ext cx="380880" cy="38124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7086600" y="3581280"/>
              <a:ext cx="7632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Occlusion Culling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8080" y="1676520"/>
            <a:ext cx="491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Main idea: Objects that lies completely “behind” another set of objects can be culled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Hard problem to solve efficiently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Lots of research in this area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5638680" y="2514240"/>
            <a:ext cx="1524240" cy="3048120"/>
          </a:xfrm>
          <a:prstGeom prst="line">
            <a:avLst/>
          </a:prstGeom>
          <a:ln w="381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7162920" y="2437920"/>
            <a:ext cx="1828800" cy="3124440"/>
          </a:xfrm>
          <a:prstGeom prst="line">
            <a:avLst/>
          </a:prstGeom>
          <a:ln w="381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553080" y="327672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0" y="240"/>
                </a:moveTo>
                <a:lnTo>
                  <a:pt x="48" y="384"/>
                </a:lnTo>
                <a:lnTo>
                  <a:pt x="240" y="576"/>
                </a:lnTo>
                <a:lnTo>
                  <a:pt x="480" y="480"/>
                </a:lnTo>
                <a:lnTo>
                  <a:pt x="576" y="192"/>
                </a:lnTo>
                <a:lnTo>
                  <a:pt x="432" y="48"/>
                </a:lnTo>
                <a:lnTo>
                  <a:pt x="192" y="0"/>
                </a:lnTo>
                <a:lnTo>
                  <a:pt x="48" y="96"/>
                </a:lnTo>
                <a:lnTo>
                  <a:pt x="0" y="24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fff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162920" y="2895480"/>
            <a:ext cx="60948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162920" y="4114800"/>
            <a:ext cx="53316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144"/>
                </a:moveTo>
                <a:lnTo>
                  <a:pt x="144" y="0"/>
                </a:lnTo>
                <a:lnTo>
                  <a:pt x="288" y="96"/>
                </a:lnTo>
                <a:lnTo>
                  <a:pt x="336" y="240"/>
                </a:lnTo>
                <a:lnTo>
                  <a:pt x="192" y="336"/>
                </a:lnTo>
                <a:lnTo>
                  <a:pt x="0" y="144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fff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842" name="snap" descr=""/>
          <p:cNvPicPr/>
          <p:nvPr/>
        </p:nvPicPr>
        <p:blipFill>
          <a:blip r:embed="rId1"/>
          <a:stretch/>
        </p:blipFill>
        <p:spPr>
          <a:xfrm>
            <a:off x="7209000" y="2286000"/>
            <a:ext cx="1523880" cy="146700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7057080" y="1752480"/>
            <a:ext cx="178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final image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417680" y="2438280"/>
            <a:ext cx="1143000" cy="1143000"/>
          </a:xfrm>
          <a:prstGeom prst="ellipse">
            <a:avLst/>
          </a:prstGeom>
          <a:noFill/>
          <a:ln w="381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637000" y="243828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55960" y="243828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075280" y="243828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03280" y="1447560"/>
            <a:ext cx="3048120" cy="1523880"/>
          </a:xfrm>
          <a:prstGeom prst="line">
            <a:avLst/>
          </a:prstGeom>
          <a:ln w="381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03280" y="2971800"/>
            <a:ext cx="2895480" cy="1600200"/>
          </a:xfrm>
          <a:prstGeom prst="line">
            <a:avLst/>
          </a:prstGeom>
          <a:ln w="381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90720" y="5181480"/>
            <a:ext cx="7626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Note that “Portal Culling” is type of occlusion culling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Occlusion culling algorithm</a:t>
            </a: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1440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Use some kind of occlusion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representatio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or each objec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 do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if( not Occluded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render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update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end;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end;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43000" y="1295280"/>
            <a:ext cx="6400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Target: urban scenery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dense occlusion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viewer is about 2 meters above ground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Algorithm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Process scene in front-to-back    using a quad tree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Maintain a piecewise constant horizon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Cull objects against horizon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Add visible objects’ occluding power to the horizon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Occlusion Horizon: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A simple algorithm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6629040" y="76320"/>
            <a:ext cx="2438640" cy="2112120"/>
            <a:chOff x="6629040" y="76320"/>
            <a:chExt cx="2438640" cy="2112120"/>
          </a:xfrm>
        </p:grpSpPr>
        <p:grpSp>
          <p:nvGrpSpPr>
            <p:cNvPr id="856" name=""/>
            <p:cNvGrpSpPr/>
            <p:nvPr/>
          </p:nvGrpSpPr>
          <p:grpSpPr>
            <a:xfrm>
              <a:off x="6629400" y="76320"/>
              <a:ext cx="2437920" cy="1959840"/>
              <a:chOff x="6629400" y="76320"/>
              <a:chExt cx="2437920" cy="1959840"/>
            </a:xfrm>
          </p:grpSpPr>
          <p:grpSp>
            <p:nvGrpSpPr>
              <p:cNvPr id="857" name=""/>
              <p:cNvGrpSpPr/>
              <p:nvPr/>
            </p:nvGrpSpPr>
            <p:grpSpPr>
              <a:xfrm>
                <a:off x="7371360" y="340920"/>
                <a:ext cx="1059840" cy="1324080"/>
                <a:chOff x="7371360" y="340920"/>
                <a:chExt cx="1059840" cy="132408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7371360" y="499680"/>
                  <a:ext cx="529560" cy="1165320"/>
                </a:xfrm>
                <a:custGeom>
                  <a:avLst/>
                  <a:gdLst/>
                  <a:ahLst/>
                  <a:rect l="l" t="t" r="r" b="b"/>
                  <a:pathLst>
                    <a:path w="480" h="1056">
                      <a:moveTo>
                        <a:pt x="0" y="0"/>
                      </a:moveTo>
                      <a:lnTo>
                        <a:pt x="0" y="768"/>
                      </a:lnTo>
                      <a:lnTo>
                        <a:pt x="480" y="1056"/>
                      </a:lnTo>
                      <a:lnTo>
                        <a:pt x="480" y="1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900920" y="499680"/>
                  <a:ext cx="529920" cy="1165320"/>
                </a:xfrm>
                <a:custGeom>
                  <a:avLst/>
                  <a:gdLst/>
                  <a:ahLst/>
                  <a:rect l="l" t="t" r="r" b="b"/>
                  <a:pathLst>
                    <a:path w="480" h="1056">
                      <a:moveTo>
                        <a:pt x="0" y="1056"/>
                      </a:moveTo>
                      <a:lnTo>
                        <a:pt x="0" y="192"/>
                      </a:lnTo>
                      <a:lnTo>
                        <a:pt x="480" y="0"/>
                      </a:lnTo>
                      <a:lnTo>
                        <a:pt x="480" y="672"/>
                      </a:lnTo>
                      <a:lnTo>
                        <a:pt x="0" y="1056"/>
                      </a:lnTo>
                      <a:close/>
                    </a:path>
                  </a:pathLst>
                </a:custGeom>
                <a:solidFill>
                  <a:srgbClr val="6b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371360" y="340920"/>
                  <a:ext cx="1059840" cy="370800"/>
                </a:xfrm>
                <a:custGeom>
                  <a:avLst/>
                  <a:gdLst/>
                  <a:ahLst/>
                  <a:rect l="l" t="t" r="r" b="b"/>
                  <a:pathLst>
                    <a:path w="960" h="336">
                      <a:moveTo>
                        <a:pt x="0" y="144"/>
                      </a:moveTo>
                      <a:lnTo>
                        <a:pt x="480" y="336"/>
                      </a:lnTo>
                      <a:lnTo>
                        <a:pt x="960" y="144"/>
                      </a:lnTo>
                      <a:lnTo>
                        <a:pt x="48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8219520" y="76320"/>
                <a:ext cx="847800" cy="1748160"/>
                <a:chOff x="8219520" y="76320"/>
                <a:chExt cx="847800" cy="174816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8219520" y="182160"/>
                  <a:ext cx="264960" cy="1642320"/>
                </a:xfrm>
                <a:custGeom>
                  <a:avLst/>
                  <a:gdLst/>
                  <a:ahLst/>
                  <a:rect l="l" t="t" r="r" b="b"/>
                  <a:pathLst>
                    <a:path w="240" h="1488">
                      <a:moveTo>
                        <a:pt x="0" y="0"/>
                      </a:moveTo>
                      <a:lnTo>
                        <a:pt x="0" y="1248"/>
                      </a:lnTo>
                      <a:lnTo>
                        <a:pt x="240" y="1488"/>
                      </a:lnTo>
                      <a:lnTo>
                        <a:pt x="24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8484480" y="182160"/>
                  <a:ext cx="582480" cy="1642320"/>
                </a:xfrm>
                <a:custGeom>
                  <a:avLst/>
                  <a:gdLst/>
                  <a:ahLst/>
                  <a:rect l="l" t="t" r="r" b="b"/>
                  <a:pathLst>
                    <a:path w="528" h="1488">
                      <a:moveTo>
                        <a:pt x="0" y="1488"/>
                      </a:moveTo>
                      <a:lnTo>
                        <a:pt x="0" y="144"/>
                      </a:lnTo>
                      <a:lnTo>
                        <a:pt x="528" y="0"/>
                      </a:lnTo>
                      <a:lnTo>
                        <a:pt x="528" y="1200"/>
                      </a:lnTo>
                      <a:lnTo>
                        <a:pt x="0" y="1488"/>
                      </a:lnTo>
                      <a:close/>
                    </a:path>
                  </a:pathLst>
                </a:custGeom>
                <a:solidFill>
                  <a:srgbClr val="6b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8219520" y="76320"/>
                  <a:ext cx="847800" cy="264960"/>
                </a:xfrm>
                <a:custGeom>
                  <a:avLst/>
                  <a:gdLst/>
                  <a:ahLst/>
                  <a:rect l="l" t="t" r="r" b="b"/>
                  <a:pathLst>
                    <a:path w="768" h="240">
                      <a:moveTo>
                        <a:pt x="240" y="240"/>
                      </a:moveTo>
                      <a:lnTo>
                        <a:pt x="0" y="96"/>
                      </a:lnTo>
                      <a:lnTo>
                        <a:pt x="528" y="0"/>
                      </a:lnTo>
                      <a:lnTo>
                        <a:pt x="768" y="96"/>
                      </a:lnTo>
                      <a:lnTo>
                        <a:pt x="240" y="24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6629400" y="288000"/>
                <a:ext cx="847800" cy="1748160"/>
                <a:chOff x="6629400" y="288000"/>
                <a:chExt cx="847800" cy="174816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6629400" y="393840"/>
                  <a:ext cx="264960" cy="1642320"/>
                </a:xfrm>
                <a:custGeom>
                  <a:avLst/>
                  <a:gdLst/>
                  <a:ahLst/>
                  <a:rect l="l" t="t" r="r" b="b"/>
                  <a:pathLst>
                    <a:path w="240" h="1488">
                      <a:moveTo>
                        <a:pt x="0" y="0"/>
                      </a:moveTo>
                      <a:lnTo>
                        <a:pt x="0" y="1248"/>
                      </a:lnTo>
                      <a:lnTo>
                        <a:pt x="240" y="1488"/>
                      </a:lnTo>
                      <a:lnTo>
                        <a:pt x="24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6894360" y="393840"/>
                  <a:ext cx="582480" cy="1642320"/>
                </a:xfrm>
                <a:custGeom>
                  <a:avLst/>
                  <a:gdLst/>
                  <a:ahLst/>
                  <a:rect l="l" t="t" r="r" b="b"/>
                  <a:pathLst>
                    <a:path w="528" h="1488">
                      <a:moveTo>
                        <a:pt x="0" y="1488"/>
                      </a:moveTo>
                      <a:lnTo>
                        <a:pt x="0" y="144"/>
                      </a:lnTo>
                      <a:lnTo>
                        <a:pt x="528" y="0"/>
                      </a:lnTo>
                      <a:lnTo>
                        <a:pt x="528" y="1200"/>
                      </a:lnTo>
                      <a:lnTo>
                        <a:pt x="0" y="1488"/>
                      </a:lnTo>
                      <a:close/>
                    </a:path>
                  </a:pathLst>
                </a:custGeom>
                <a:solidFill>
                  <a:srgbClr val="6b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629400" y="288000"/>
                  <a:ext cx="847800" cy="264960"/>
                </a:xfrm>
                <a:custGeom>
                  <a:avLst/>
                  <a:gdLst/>
                  <a:ahLst/>
                  <a:rect l="l" t="t" r="r" b="b"/>
                  <a:pathLst>
                    <a:path w="768" h="240">
                      <a:moveTo>
                        <a:pt x="240" y="240"/>
                      </a:moveTo>
                      <a:lnTo>
                        <a:pt x="0" y="96"/>
                      </a:lnTo>
                      <a:lnTo>
                        <a:pt x="528" y="0"/>
                      </a:lnTo>
                      <a:lnTo>
                        <a:pt x="768" y="96"/>
                      </a:lnTo>
                      <a:lnTo>
                        <a:pt x="240" y="24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"/>
            <p:cNvGrpSpPr/>
            <p:nvPr/>
          </p:nvGrpSpPr>
          <p:grpSpPr>
            <a:xfrm>
              <a:off x="6629040" y="228240"/>
              <a:ext cx="2438640" cy="1960200"/>
              <a:chOff x="6629040" y="228240"/>
              <a:chExt cx="2438640" cy="1960200"/>
            </a:xfrm>
          </p:grpSpPr>
          <p:sp>
            <p:nvSpPr>
              <p:cNvPr id="870" name=""/>
              <p:cNvSpPr/>
              <p:nvPr/>
            </p:nvSpPr>
            <p:spPr>
              <a:xfrm flipH="1">
                <a:off x="7477200" y="599400"/>
                <a:ext cx="742320" cy="0"/>
              </a:xfrm>
              <a:prstGeom prst="line">
                <a:avLst/>
              </a:prstGeom>
              <a:ln w="572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6629400" y="439920"/>
                <a:ext cx="0" cy="1695240"/>
              </a:xfrm>
              <a:prstGeom prst="line">
                <a:avLst/>
              </a:prstGeom>
              <a:ln w="572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6629040" y="440280"/>
                <a:ext cx="847800" cy="0"/>
              </a:xfrm>
              <a:prstGeom prst="line">
                <a:avLst/>
              </a:prstGeom>
              <a:ln w="572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V="1">
                <a:off x="7477200" y="439920"/>
                <a:ext cx="0" cy="158760"/>
              </a:xfrm>
              <a:prstGeom prst="line">
                <a:avLst/>
              </a:prstGeom>
              <a:ln w="572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V="1">
                <a:off x="8219520" y="228600"/>
                <a:ext cx="0" cy="370800"/>
              </a:xfrm>
              <a:prstGeom prst="line">
                <a:avLst/>
              </a:prstGeom>
              <a:ln w="572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8219160" y="228600"/>
                <a:ext cx="847800" cy="0"/>
              </a:xfrm>
              <a:prstGeom prst="line">
                <a:avLst/>
              </a:prstGeom>
              <a:ln w="572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9067680" y="228240"/>
                <a:ext cx="0" cy="1960200"/>
              </a:xfrm>
              <a:prstGeom prst="line">
                <a:avLst/>
              </a:prstGeom>
              <a:ln w="572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Occlusion testing with occlusion horizons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38080" y="14479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To process tetrahedron (which is behind grey objects)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find axis-aligned box of projection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compare against occlusion horizon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3753000" y="3733920"/>
            <a:ext cx="1523880" cy="1904400"/>
            <a:chOff x="3753000" y="3733920"/>
            <a:chExt cx="1523880" cy="1904400"/>
          </a:xfrm>
        </p:grpSpPr>
        <p:sp>
          <p:nvSpPr>
            <p:cNvPr id="880" name=""/>
            <p:cNvSpPr/>
            <p:nvPr/>
          </p:nvSpPr>
          <p:spPr>
            <a:xfrm>
              <a:off x="3753000" y="3962160"/>
              <a:ext cx="761760" cy="1676160"/>
            </a:xfrm>
            <a:custGeom>
              <a:avLst/>
              <a:gdLst/>
              <a:ahLst/>
              <a:rect l="l" t="t" r="r" b="b"/>
              <a:pathLst>
                <a:path w="480" h="1056">
                  <a:moveTo>
                    <a:pt x="0" y="0"/>
                  </a:moveTo>
                  <a:lnTo>
                    <a:pt x="0" y="768"/>
                  </a:lnTo>
                  <a:lnTo>
                    <a:pt x="480" y="1056"/>
                  </a:lnTo>
                  <a:lnTo>
                    <a:pt x="480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514760" y="3962160"/>
              <a:ext cx="762120" cy="1676160"/>
            </a:xfrm>
            <a:custGeom>
              <a:avLst/>
              <a:gdLst/>
              <a:ahLst/>
              <a:rect l="l" t="t" r="r" b="b"/>
              <a:pathLst>
                <a:path w="480" h="1056">
                  <a:moveTo>
                    <a:pt x="0" y="1056"/>
                  </a:moveTo>
                  <a:lnTo>
                    <a:pt x="0" y="192"/>
                  </a:lnTo>
                  <a:lnTo>
                    <a:pt x="480" y="0"/>
                  </a:lnTo>
                  <a:lnTo>
                    <a:pt x="480" y="672"/>
                  </a:lnTo>
                  <a:lnTo>
                    <a:pt x="0" y="1056"/>
                  </a:lnTo>
                  <a:close/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753000" y="3733920"/>
              <a:ext cx="1523880" cy="533160"/>
            </a:xfrm>
            <a:custGeom>
              <a:avLst/>
              <a:gdLst/>
              <a:ahLst/>
              <a:rect l="l" t="t" r="r" b="b"/>
              <a:pathLst>
                <a:path w="960" h="336">
                  <a:moveTo>
                    <a:pt x="0" y="144"/>
                  </a:moveTo>
                  <a:lnTo>
                    <a:pt x="480" y="336"/>
                  </a:lnTo>
                  <a:lnTo>
                    <a:pt x="960" y="144"/>
                  </a:lnTo>
                  <a:lnTo>
                    <a:pt x="48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4971960" y="3352680"/>
            <a:ext cx="1219320" cy="2514600"/>
            <a:chOff x="4971960" y="3352680"/>
            <a:chExt cx="1219320" cy="2514600"/>
          </a:xfrm>
        </p:grpSpPr>
        <p:sp>
          <p:nvSpPr>
            <p:cNvPr id="884" name=""/>
            <p:cNvSpPr/>
            <p:nvPr/>
          </p:nvSpPr>
          <p:spPr>
            <a:xfrm>
              <a:off x="4971960" y="3505320"/>
              <a:ext cx="381240" cy="2361960"/>
            </a:xfrm>
            <a:custGeom>
              <a:avLst/>
              <a:gdLst/>
              <a:ahLst/>
              <a:rect l="l" t="t" r="r" b="b"/>
              <a:pathLst>
                <a:path w="240" h="1488">
                  <a:moveTo>
                    <a:pt x="0" y="0"/>
                  </a:moveTo>
                  <a:lnTo>
                    <a:pt x="0" y="1248"/>
                  </a:lnTo>
                  <a:lnTo>
                    <a:pt x="240" y="1488"/>
                  </a:lnTo>
                  <a:lnTo>
                    <a:pt x="240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53200" y="3505320"/>
              <a:ext cx="838080" cy="2361960"/>
            </a:xfrm>
            <a:custGeom>
              <a:avLst/>
              <a:gdLst/>
              <a:ahLst/>
              <a:rect l="l" t="t" r="r" b="b"/>
              <a:pathLst>
                <a:path w="528" h="1488">
                  <a:moveTo>
                    <a:pt x="0" y="1488"/>
                  </a:moveTo>
                  <a:lnTo>
                    <a:pt x="0" y="144"/>
                  </a:lnTo>
                  <a:lnTo>
                    <a:pt x="528" y="0"/>
                  </a:lnTo>
                  <a:lnTo>
                    <a:pt x="528" y="1200"/>
                  </a:lnTo>
                  <a:lnTo>
                    <a:pt x="0" y="1488"/>
                  </a:lnTo>
                  <a:close/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971960" y="3352680"/>
              <a:ext cx="1219320" cy="38124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240" y="240"/>
                  </a:moveTo>
                  <a:lnTo>
                    <a:pt x="0" y="96"/>
                  </a:lnTo>
                  <a:lnTo>
                    <a:pt x="528" y="0"/>
                  </a:lnTo>
                  <a:lnTo>
                    <a:pt x="768" y="96"/>
                  </a:lnTo>
                  <a:lnTo>
                    <a:pt x="240" y="24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685960" y="3657600"/>
            <a:ext cx="1219320" cy="2514600"/>
            <a:chOff x="2685960" y="3657600"/>
            <a:chExt cx="1219320" cy="2514600"/>
          </a:xfrm>
        </p:grpSpPr>
        <p:sp>
          <p:nvSpPr>
            <p:cNvPr id="888" name=""/>
            <p:cNvSpPr/>
            <p:nvPr/>
          </p:nvSpPr>
          <p:spPr>
            <a:xfrm>
              <a:off x="2685960" y="3810240"/>
              <a:ext cx="381240" cy="2361960"/>
            </a:xfrm>
            <a:custGeom>
              <a:avLst/>
              <a:gdLst/>
              <a:ahLst/>
              <a:rect l="l" t="t" r="r" b="b"/>
              <a:pathLst>
                <a:path w="240" h="1488">
                  <a:moveTo>
                    <a:pt x="0" y="0"/>
                  </a:moveTo>
                  <a:lnTo>
                    <a:pt x="0" y="1248"/>
                  </a:lnTo>
                  <a:lnTo>
                    <a:pt x="240" y="1488"/>
                  </a:lnTo>
                  <a:lnTo>
                    <a:pt x="240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67200" y="3810240"/>
              <a:ext cx="838080" cy="2361960"/>
            </a:xfrm>
            <a:custGeom>
              <a:avLst/>
              <a:gdLst/>
              <a:ahLst/>
              <a:rect l="l" t="t" r="r" b="b"/>
              <a:pathLst>
                <a:path w="528" h="1488">
                  <a:moveTo>
                    <a:pt x="0" y="1488"/>
                  </a:moveTo>
                  <a:lnTo>
                    <a:pt x="0" y="144"/>
                  </a:lnTo>
                  <a:lnTo>
                    <a:pt x="528" y="0"/>
                  </a:lnTo>
                  <a:lnTo>
                    <a:pt x="528" y="1200"/>
                  </a:lnTo>
                  <a:lnTo>
                    <a:pt x="0" y="1488"/>
                  </a:lnTo>
                  <a:close/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685960" y="3657600"/>
              <a:ext cx="1219320" cy="38124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240" y="240"/>
                  </a:moveTo>
                  <a:lnTo>
                    <a:pt x="0" y="96"/>
                  </a:lnTo>
                  <a:lnTo>
                    <a:pt x="528" y="0"/>
                  </a:lnTo>
                  <a:lnTo>
                    <a:pt x="768" y="96"/>
                  </a:lnTo>
                  <a:lnTo>
                    <a:pt x="240" y="24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>
            <a:off x="3904920" y="4038480"/>
            <a:ext cx="1066680" cy="0"/>
          </a:xfrm>
          <a:prstGeom prst="line">
            <a:avLst/>
          </a:prstGeom>
          <a:ln w="5724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2685960" y="3809880"/>
            <a:ext cx="0" cy="2438640"/>
          </a:xfrm>
          <a:prstGeom prst="line">
            <a:avLst/>
          </a:prstGeom>
          <a:ln w="5724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2685600" y="3809880"/>
            <a:ext cx="1219320" cy="0"/>
          </a:xfrm>
          <a:prstGeom prst="line">
            <a:avLst/>
          </a:prstGeom>
          <a:ln w="5724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3905280" y="3809520"/>
            <a:ext cx="0" cy="228600"/>
          </a:xfrm>
          <a:prstGeom prst="line">
            <a:avLst/>
          </a:prstGeom>
          <a:ln w="5724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4971960" y="3504960"/>
            <a:ext cx="0" cy="533160"/>
          </a:xfrm>
          <a:prstGeom prst="line">
            <a:avLst/>
          </a:prstGeom>
          <a:ln w="5724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4971600" y="3505320"/>
            <a:ext cx="1219320" cy="0"/>
          </a:xfrm>
          <a:prstGeom prst="line">
            <a:avLst/>
          </a:prstGeom>
          <a:ln w="5724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6191280" y="3504960"/>
            <a:ext cx="0" cy="2819160"/>
          </a:xfrm>
          <a:prstGeom prst="line">
            <a:avLst/>
          </a:prstGeom>
          <a:ln w="5724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362480" y="4267080"/>
            <a:ext cx="1447920" cy="1752840"/>
          </a:xfrm>
          <a:prstGeom prst="rect">
            <a:avLst/>
          </a:prstGeom>
          <a:noFill/>
          <a:ln w="5724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4400640" y="4295880"/>
            <a:ext cx="1371240" cy="1676160"/>
            <a:chOff x="4400640" y="4295880"/>
            <a:chExt cx="1371240" cy="1676160"/>
          </a:xfrm>
        </p:grpSpPr>
        <p:sp>
          <p:nvSpPr>
            <p:cNvPr id="900" name=""/>
            <p:cNvSpPr/>
            <p:nvPr/>
          </p:nvSpPr>
          <p:spPr>
            <a:xfrm>
              <a:off x="4400640" y="4295880"/>
              <a:ext cx="891720" cy="1676160"/>
            </a:xfrm>
            <a:custGeom>
              <a:avLst/>
              <a:gdLst/>
              <a:ahLst/>
              <a:rect l="l" t="t" r="r" b="b"/>
              <a:pathLst>
                <a:path w="624" h="1296">
                  <a:moveTo>
                    <a:pt x="432" y="0"/>
                  </a:moveTo>
                  <a:lnTo>
                    <a:pt x="0" y="1008"/>
                  </a:lnTo>
                  <a:lnTo>
                    <a:pt x="624" y="1296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d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17680" y="4295880"/>
              <a:ext cx="754200" cy="1676160"/>
            </a:xfrm>
            <a:custGeom>
              <a:avLst/>
              <a:gdLst/>
              <a:ahLst/>
              <a:rect l="l" t="t" r="r" b="b"/>
              <a:pathLst>
                <a:path w="528" h="1296">
                  <a:moveTo>
                    <a:pt x="192" y="1296"/>
                  </a:moveTo>
                  <a:lnTo>
                    <a:pt x="0" y="0"/>
                  </a:lnTo>
                  <a:lnTo>
                    <a:pt x="528" y="768"/>
                  </a:lnTo>
                  <a:lnTo>
                    <a:pt x="192" y="1296"/>
                  </a:lnTo>
                  <a:close/>
                </a:path>
              </a:pathLst>
            </a:custGeom>
            <a:solidFill>
              <a:srgbClr val="9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6725160" y="4495680"/>
            <a:ext cx="10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culled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505120" y="4800600"/>
            <a:ext cx="1219320" cy="533520"/>
          </a:xfrm>
          <a:prstGeom prst="line">
            <a:avLst/>
          </a:prstGeom>
          <a:ln w="28440">
            <a:solidFill>
              <a:srgbClr val="ffff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Update horizon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914400" y="1447920"/>
            <a:ext cx="8001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When an object is considered visible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Add its “occluding power” to the occlusion representation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380520" y="3048120"/>
            <a:ext cx="3505680" cy="3276000"/>
            <a:chOff x="380520" y="3048120"/>
            <a:chExt cx="3505680" cy="3276000"/>
          </a:xfrm>
        </p:grpSpPr>
        <p:grpSp>
          <p:nvGrpSpPr>
            <p:cNvPr id="907" name=""/>
            <p:cNvGrpSpPr/>
            <p:nvPr/>
          </p:nvGrpSpPr>
          <p:grpSpPr>
            <a:xfrm>
              <a:off x="914400" y="3048120"/>
              <a:ext cx="1447920" cy="2057400"/>
              <a:chOff x="914400" y="3048120"/>
              <a:chExt cx="1447920" cy="2057400"/>
            </a:xfrm>
          </p:grpSpPr>
          <p:sp>
            <p:nvSpPr>
              <p:cNvPr id="908" name=""/>
              <p:cNvSpPr/>
              <p:nvPr/>
            </p:nvSpPr>
            <p:spPr>
              <a:xfrm>
                <a:off x="914400" y="3048120"/>
                <a:ext cx="1447920" cy="228600"/>
              </a:xfrm>
              <a:custGeom>
                <a:avLst/>
                <a:gdLst/>
                <a:ahLst/>
                <a:rect l="l" t="t" r="r" b="b"/>
                <a:pathLst>
                  <a:path w="912" h="144">
                    <a:moveTo>
                      <a:pt x="0" y="48"/>
                    </a:moveTo>
                    <a:lnTo>
                      <a:pt x="480" y="144"/>
                    </a:lnTo>
                    <a:lnTo>
                      <a:pt x="912" y="48"/>
                    </a:lnTo>
                    <a:lnTo>
                      <a:pt x="432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8d4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676520" y="3124440"/>
                <a:ext cx="685800" cy="1981080"/>
              </a:xfrm>
              <a:custGeom>
                <a:avLst/>
                <a:gdLst/>
                <a:ahLst/>
                <a:rect l="l" t="t" r="r" b="b"/>
                <a:pathLst>
                  <a:path w="432" h="1248">
                    <a:moveTo>
                      <a:pt x="0" y="96"/>
                    </a:moveTo>
                    <a:lnTo>
                      <a:pt x="432" y="0"/>
                    </a:lnTo>
                    <a:lnTo>
                      <a:pt x="432" y="1104"/>
                    </a:lnTo>
                    <a:lnTo>
                      <a:pt x="0" y="1248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3aa1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914400" y="3124440"/>
                <a:ext cx="762120" cy="1981080"/>
              </a:xfrm>
              <a:custGeom>
                <a:avLst/>
                <a:gdLst/>
                <a:ahLst/>
                <a:rect l="l" t="t" r="r" b="b"/>
                <a:pathLst>
                  <a:path w="480" h="1248">
                    <a:moveTo>
                      <a:pt x="480" y="1248"/>
                    </a:moveTo>
                    <a:lnTo>
                      <a:pt x="480" y="96"/>
                    </a:lnTo>
                    <a:lnTo>
                      <a:pt x="0" y="0"/>
                    </a:lnTo>
                    <a:lnTo>
                      <a:pt x="0" y="1104"/>
                    </a:lnTo>
                    <a:lnTo>
                      <a:pt x="480" y="1248"/>
                    </a:lnTo>
                    <a:close/>
                  </a:path>
                </a:pathLst>
              </a:custGeom>
              <a:solidFill>
                <a:srgbClr val="19f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1447920" y="3733920"/>
              <a:ext cx="1523880" cy="1904400"/>
              <a:chOff x="1447920" y="3733920"/>
              <a:chExt cx="1523880" cy="1904400"/>
            </a:xfrm>
          </p:grpSpPr>
          <p:sp>
            <p:nvSpPr>
              <p:cNvPr id="912" name=""/>
              <p:cNvSpPr/>
              <p:nvPr/>
            </p:nvSpPr>
            <p:spPr>
              <a:xfrm>
                <a:off x="1447920" y="3962160"/>
                <a:ext cx="761760" cy="1676160"/>
              </a:xfrm>
              <a:custGeom>
                <a:avLst/>
                <a:gdLst/>
                <a:ahLst/>
                <a:rect l="l" t="t" r="r" b="b"/>
                <a:pathLst>
                  <a:path w="480" h="1056">
                    <a:moveTo>
                      <a:pt x="0" y="0"/>
                    </a:moveTo>
                    <a:lnTo>
                      <a:pt x="0" y="768"/>
                    </a:lnTo>
                    <a:lnTo>
                      <a:pt x="480" y="1056"/>
                    </a:lnTo>
                    <a:lnTo>
                      <a:pt x="480" y="1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209680" y="3962160"/>
                <a:ext cx="762120" cy="1676160"/>
              </a:xfrm>
              <a:custGeom>
                <a:avLst/>
                <a:gdLst/>
                <a:ahLst/>
                <a:rect l="l" t="t" r="r" b="b"/>
                <a:pathLst>
                  <a:path w="480" h="1056">
                    <a:moveTo>
                      <a:pt x="0" y="1056"/>
                    </a:moveTo>
                    <a:lnTo>
                      <a:pt x="0" y="192"/>
                    </a:lnTo>
                    <a:lnTo>
                      <a:pt x="480" y="0"/>
                    </a:lnTo>
                    <a:lnTo>
                      <a:pt x="480" y="672"/>
                    </a:lnTo>
                    <a:lnTo>
                      <a:pt x="0" y="1056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447920" y="3733920"/>
                <a:ext cx="1523880" cy="533160"/>
              </a:xfrm>
              <a:custGeom>
                <a:avLst/>
                <a:gdLst/>
                <a:ahLst/>
                <a:rect l="l" t="t" r="r" b="b"/>
                <a:pathLst>
                  <a:path w="960" h="336">
                    <a:moveTo>
                      <a:pt x="0" y="144"/>
                    </a:moveTo>
                    <a:lnTo>
                      <a:pt x="480" y="336"/>
                    </a:lnTo>
                    <a:lnTo>
                      <a:pt x="960" y="144"/>
                    </a:lnTo>
                    <a:lnTo>
                      <a:pt x="48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2666880" y="3352680"/>
              <a:ext cx="1219320" cy="2514600"/>
              <a:chOff x="2666880" y="3352680"/>
              <a:chExt cx="1219320" cy="2514600"/>
            </a:xfrm>
          </p:grpSpPr>
          <p:sp>
            <p:nvSpPr>
              <p:cNvPr id="916" name=""/>
              <p:cNvSpPr/>
              <p:nvPr/>
            </p:nvSpPr>
            <p:spPr>
              <a:xfrm>
                <a:off x="2666880" y="3505320"/>
                <a:ext cx="381240" cy="2361960"/>
              </a:xfrm>
              <a:custGeom>
                <a:avLst/>
                <a:gdLst/>
                <a:ahLst/>
                <a:rect l="l" t="t" r="r" b="b"/>
                <a:pathLst>
                  <a:path w="240" h="1488">
                    <a:moveTo>
                      <a:pt x="0" y="0"/>
                    </a:moveTo>
                    <a:lnTo>
                      <a:pt x="0" y="1248"/>
                    </a:lnTo>
                    <a:lnTo>
                      <a:pt x="240" y="1488"/>
                    </a:lnTo>
                    <a:lnTo>
                      <a:pt x="24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048120" y="3505320"/>
                <a:ext cx="838080" cy="2361960"/>
              </a:xfrm>
              <a:custGeom>
                <a:avLst/>
                <a:gdLst/>
                <a:ahLst/>
                <a:rect l="l" t="t" r="r" b="b"/>
                <a:pathLst>
                  <a:path w="528" h="1488">
                    <a:moveTo>
                      <a:pt x="0" y="1488"/>
                    </a:moveTo>
                    <a:lnTo>
                      <a:pt x="0" y="144"/>
                    </a:lnTo>
                    <a:lnTo>
                      <a:pt x="528" y="0"/>
                    </a:lnTo>
                    <a:lnTo>
                      <a:pt x="528" y="1200"/>
                    </a:lnTo>
                    <a:lnTo>
                      <a:pt x="0" y="1488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666880" y="3352680"/>
                <a:ext cx="1219320" cy="38124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240" y="240"/>
                    </a:moveTo>
                    <a:lnTo>
                      <a:pt x="0" y="96"/>
                    </a:lnTo>
                    <a:lnTo>
                      <a:pt x="528" y="0"/>
                    </a:lnTo>
                    <a:lnTo>
                      <a:pt x="768" y="96"/>
                    </a:lnTo>
                    <a:lnTo>
                      <a:pt x="240" y="24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380880" y="3657600"/>
              <a:ext cx="1219320" cy="2514600"/>
              <a:chOff x="380880" y="3657600"/>
              <a:chExt cx="1219320" cy="2514600"/>
            </a:xfrm>
          </p:grpSpPr>
          <p:sp>
            <p:nvSpPr>
              <p:cNvPr id="920" name=""/>
              <p:cNvSpPr/>
              <p:nvPr/>
            </p:nvSpPr>
            <p:spPr>
              <a:xfrm>
                <a:off x="380880" y="3810240"/>
                <a:ext cx="381240" cy="2361960"/>
              </a:xfrm>
              <a:custGeom>
                <a:avLst/>
                <a:gdLst/>
                <a:ahLst/>
                <a:rect l="l" t="t" r="r" b="b"/>
                <a:pathLst>
                  <a:path w="240" h="1488">
                    <a:moveTo>
                      <a:pt x="0" y="0"/>
                    </a:moveTo>
                    <a:lnTo>
                      <a:pt x="0" y="1248"/>
                    </a:lnTo>
                    <a:lnTo>
                      <a:pt x="240" y="1488"/>
                    </a:lnTo>
                    <a:lnTo>
                      <a:pt x="24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62120" y="3810240"/>
                <a:ext cx="838080" cy="2361960"/>
              </a:xfrm>
              <a:custGeom>
                <a:avLst/>
                <a:gdLst/>
                <a:ahLst/>
                <a:rect l="l" t="t" r="r" b="b"/>
                <a:pathLst>
                  <a:path w="528" h="1488">
                    <a:moveTo>
                      <a:pt x="0" y="1488"/>
                    </a:moveTo>
                    <a:lnTo>
                      <a:pt x="0" y="144"/>
                    </a:lnTo>
                    <a:lnTo>
                      <a:pt x="528" y="0"/>
                    </a:lnTo>
                    <a:lnTo>
                      <a:pt x="528" y="1200"/>
                    </a:lnTo>
                    <a:lnTo>
                      <a:pt x="0" y="1488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0880" y="3657600"/>
                <a:ext cx="1219320" cy="38124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240" y="240"/>
                    </a:moveTo>
                    <a:lnTo>
                      <a:pt x="0" y="96"/>
                    </a:lnTo>
                    <a:lnTo>
                      <a:pt x="528" y="0"/>
                    </a:lnTo>
                    <a:lnTo>
                      <a:pt x="768" y="96"/>
                    </a:lnTo>
                    <a:lnTo>
                      <a:pt x="240" y="24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 flipH="1">
              <a:off x="1599840" y="4038480"/>
              <a:ext cx="1066680" cy="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80880" y="3809880"/>
              <a:ext cx="0" cy="243864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380520" y="3809880"/>
              <a:ext cx="1219320" cy="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1600200" y="3809520"/>
              <a:ext cx="0" cy="22860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2666880" y="3504960"/>
              <a:ext cx="0" cy="53316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2666520" y="3505320"/>
              <a:ext cx="1219320" cy="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3886200" y="3504960"/>
              <a:ext cx="0" cy="281916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914400" y="3123720"/>
              <a:ext cx="0" cy="6858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2362320" y="3124080"/>
              <a:ext cx="0" cy="9144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914400" y="3162240"/>
              <a:ext cx="14479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4267080" y="3124080"/>
            <a:ext cx="4724640" cy="3276720"/>
            <a:chOff x="4267080" y="3124080"/>
            <a:chExt cx="4724640" cy="3276720"/>
          </a:xfrm>
        </p:grpSpPr>
        <p:grpSp>
          <p:nvGrpSpPr>
            <p:cNvPr id="934" name=""/>
            <p:cNvGrpSpPr/>
            <p:nvPr/>
          </p:nvGrpSpPr>
          <p:grpSpPr>
            <a:xfrm>
              <a:off x="6019920" y="3124080"/>
              <a:ext cx="1447560" cy="2057400"/>
              <a:chOff x="6019920" y="3124080"/>
              <a:chExt cx="1447560" cy="2057400"/>
            </a:xfrm>
          </p:grpSpPr>
          <p:sp>
            <p:nvSpPr>
              <p:cNvPr id="935" name=""/>
              <p:cNvSpPr/>
              <p:nvPr/>
            </p:nvSpPr>
            <p:spPr>
              <a:xfrm>
                <a:off x="6019920" y="3124080"/>
                <a:ext cx="1447560" cy="228600"/>
              </a:xfrm>
              <a:custGeom>
                <a:avLst/>
                <a:gdLst/>
                <a:ahLst/>
                <a:rect l="l" t="t" r="r" b="b"/>
                <a:pathLst>
                  <a:path w="912" h="144">
                    <a:moveTo>
                      <a:pt x="0" y="48"/>
                    </a:moveTo>
                    <a:lnTo>
                      <a:pt x="480" y="144"/>
                    </a:lnTo>
                    <a:lnTo>
                      <a:pt x="912" y="48"/>
                    </a:lnTo>
                    <a:lnTo>
                      <a:pt x="432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8d4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781680" y="3200400"/>
                <a:ext cx="685440" cy="1981080"/>
              </a:xfrm>
              <a:custGeom>
                <a:avLst/>
                <a:gdLst/>
                <a:ahLst/>
                <a:rect l="l" t="t" r="r" b="b"/>
                <a:pathLst>
                  <a:path w="432" h="1248">
                    <a:moveTo>
                      <a:pt x="0" y="96"/>
                    </a:moveTo>
                    <a:lnTo>
                      <a:pt x="432" y="0"/>
                    </a:lnTo>
                    <a:lnTo>
                      <a:pt x="432" y="1104"/>
                    </a:lnTo>
                    <a:lnTo>
                      <a:pt x="0" y="1248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3aa1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019920" y="3200400"/>
                <a:ext cx="761760" cy="1981080"/>
              </a:xfrm>
              <a:custGeom>
                <a:avLst/>
                <a:gdLst/>
                <a:ahLst/>
                <a:rect l="l" t="t" r="r" b="b"/>
                <a:pathLst>
                  <a:path w="480" h="1248">
                    <a:moveTo>
                      <a:pt x="480" y="1248"/>
                    </a:moveTo>
                    <a:lnTo>
                      <a:pt x="480" y="96"/>
                    </a:lnTo>
                    <a:lnTo>
                      <a:pt x="0" y="0"/>
                    </a:lnTo>
                    <a:lnTo>
                      <a:pt x="0" y="1104"/>
                    </a:lnTo>
                    <a:lnTo>
                      <a:pt x="480" y="1248"/>
                    </a:lnTo>
                    <a:close/>
                  </a:path>
                </a:pathLst>
              </a:custGeom>
              <a:solidFill>
                <a:srgbClr val="19f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6553080" y="3809880"/>
              <a:ext cx="1523880" cy="1905120"/>
              <a:chOff x="6553080" y="3809880"/>
              <a:chExt cx="1523880" cy="1905120"/>
            </a:xfrm>
          </p:grpSpPr>
          <p:sp>
            <p:nvSpPr>
              <p:cNvPr id="939" name=""/>
              <p:cNvSpPr/>
              <p:nvPr/>
            </p:nvSpPr>
            <p:spPr>
              <a:xfrm>
                <a:off x="6553080" y="4038480"/>
                <a:ext cx="761760" cy="1676520"/>
              </a:xfrm>
              <a:custGeom>
                <a:avLst/>
                <a:gdLst/>
                <a:ahLst/>
                <a:rect l="l" t="t" r="r" b="b"/>
                <a:pathLst>
                  <a:path w="480" h="1056">
                    <a:moveTo>
                      <a:pt x="0" y="0"/>
                    </a:moveTo>
                    <a:lnTo>
                      <a:pt x="0" y="768"/>
                    </a:lnTo>
                    <a:lnTo>
                      <a:pt x="480" y="1056"/>
                    </a:lnTo>
                    <a:lnTo>
                      <a:pt x="480" y="1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314840" y="4038480"/>
                <a:ext cx="762120" cy="1676520"/>
              </a:xfrm>
              <a:custGeom>
                <a:avLst/>
                <a:gdLst/>
                <a:ahLst/>
                <a:rect l="l" t="t" r="r" b="b"/>
                <a:pathLst>
                  <a:path w="480" h="1056">
                    <a:moveTo>
                      <a:pt x="0" y="1056"/>
                    </a:moveTo>
                    <a:lnTo>
                      <a:pt x="0" y="192"/>
                    </a:lnTo>
                    <a:lnTo>
                      <a:pt x="480" y="0"/>
                    </a:lnTo>
                    <a:lnTo>
                      <a:pt x="480" y="672"/>
                    </a:lnTo>
                    <a:lnTo>
                      <a:pt x="0" y="1056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553080" y="3809880"/>
                <a:ext cx="1523880" cy="533520"/>
              </a:xfrm>
              <a:custGeom>
                <a:avLst/>
                <a:gdLst/>
                <a:ahLst/>
                <a:rect l="l" t="t" r="r" b="b"/>
                <a:pathLst>
                  <a:path w="960" h="336">
                    <a:moveTo>
                      <a:pt x="0" y="144"/>
                    </a:moveTo>
                    <a:lnTo>
                      <a:pt x="480" y="336"/>
                    </a:lnTo>
                    <a:lnTo>
                      <a:pt x="960" y="144"/>
                    </a:lnTo>
                    <a:lnTo>
                      <a:pt x="48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7772400" y="3429000"/>
              <a:ext cx="1219320" cy="2514600"/>
              <a:chOff x="7772400" y="3429000"/>
              <a:chExt cx="1219320" cy="2514600"/>
            </a:xfrm>
          </p:grpSpPr>
          <p:sp>
            <p:nvSpPr>
              <p:cNvPr id="943" name=""/>
              <p:cNvSpPr/>
              <p:nvPr/>
            </p:nvSpPr>
            <p:spPr>
              <a:xfrm>
                <a:off x="7772400" y="3581640"/>
                <a:ext cx="381240" cy="2361960"/>
              </a:xfrm>
              <a:custGeom>
                <a:avLst/>
                <a:gdLst/>
                <a:ahLst/>
                <a:rect l="l" t="t" r="r" b="b"/>
                <a:pathLst>
                  <a:path w="240" h="1488">
                    <a:moveTo>
                      <a:pt x="0" y="0"/>
                    </a:moveTo>
                    <a:lnTo>
                      <a:pt x="0" y="1248"/>
                    </a:lnTo>
                    <a:lnTo>
                      <a:pt x="240" y="1488"/>
                    </a:lnTo>
                    <a:lnTo>
                      <a:pt x="24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153640" y="3581640"/>
                <a:ext cx="838080" cy="2361960"/>
              </a:xfrm>
              <a:custGeom>
                <a:avLst/>
                <a:gdLst/>
                <a:ahLst/>
                <a:rect l="l" t="t" r="r" b="b"/>
                <a:pathLst>
                  <a:path w="528" h="1488">
                    <a:moveTo>
                      <a:pt x="0" y="1488"/>
                    </a:moveTo>
                    <a:lnTo>
                      <a:pt x="0" y="144"/>
                    </a:lnTo>
                    <a:lnTo>
                      <a:pt x="528" y="0"/>
                    </a:lnTo>
                    <a:lnTo>
                      <a:pt x="528" y="1200"/>
                    </a:lnTo>
                    <a:lnTo>
                      <a:pt x="0" y="1488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772400" y="3429000"/>
                <a:ext cx="1219320" cy="38124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240" y="240"/>
                    </a:moveTo>
                    <a:lnTo>
                      <a:pt x="0" y="96"/>
                    </a:lnTo>
                    <a:lnTo>
                      <a:pt x="528" y="0"/>
                    </a:lnTo>
                    <a:lnTo>
                      <a:pt x="768" y="96"/>
                    </a:lnTo>
                    <a:lnTo>
                      <a:pt x="240" y="24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5486400" y="3733920"/>
              <a:ext cx="1219320" cy="2514600"/>
              <a:chOff x="5486400" y="3733920"/>
              <a:chExt cx="1219320" cy="2514600"/>
            </a:xfrm>
          </p:grpSpPr>
          <p:sp>
            <p:nvSpPr>
              <p:cNvPr id="947" name=""/>
              <p:cNvSpPr/>
              <p:nvPr/>
            </p:nvSpPr>
            <p:spPr>
              <a:xfrm>
                <a:off x="5486400" y="3886560"/>
                <a:ext cx="381240" cy="2361960"/>
              </a:xfrm>
              <a:custGeom>
                <a:avLst/>
                <a:gdLst/>
                <a:ahLst/>
                <a:rect l="l" t="t" r="r" b="b"/>
                <a:pathLst>
                  <a:path w="240" h="1488">
                    <a:moveTo>
                      <a:pt x="0" y="0"/>
                    </a:moveTo>
                    <a:lnTo>
                      <a:pt x="0" y="1248"/>
                    </a:lnTo>
                    <a:lnTo>
                      <a:pt x="240" y="1488"/>
                    </a:lnTo>
                    <a:lnTo>
                      <a:pt x="24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67640" y="3886560"/>
                <a:ext cx="838080" cy="2361960"/>
              </a:xfrm>
              <a:custGeom>
                <a:avLst/>
                <a:gdLst/>
                <a:ahLst/>
                <a:rect l="l" t="t" r="r" b="b"/>
                <a:pathLst>
                  <a:path w="528" h="1488">
                    <a:moveTo>
                      <a:pt x="0" y="1488"/>
                    </a:moveTo>
                    <a:lnTo>
                      <a:pt x="0" y="144"/>
                    </a:lnTo>
                    <a:lnTo>
                      <a:pt x="528" y="0"/>
                    </a:lnTo>
                    <a:lnTo>
                      <a:pt x="528" y="1200"/>
                    </a:lnTo>
                    <a:lnTo>
                      <a:pt x="0" y="1488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486400" y="3733920"/>
                <a:ext cx="1219320" cy="38124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240" y="240"/>
                    </a:moveTo>
                    <a:lnTo>
                      <a:pt x="0" y="96"/>
                    </a:lnTo>
                    <a:lnTo>
                      <a:pt x="528" y="0"/>
                    </a:lnTo>
                    <a:lnTo>
                      <a:pt x="768" y="96"/>
                    </a:lnTo>
                    <a:lnTo>
                      <a:pt x="240" y="24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 flipH="1">
              <a:off x="7467120" y="4114800"/>
              <a:ext cx="304920" cy="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486400" y="3885840"/>
              <a:ext cx="0" cy="243828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486400" y="3886200"/>
              <a:ext cx="533520" cy="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772400" y="3581280"/>
              <a:ext cx="0" cy="53352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7772040" y="3581280"/>
              <a:ext cx="1219320" cy="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8991720" y="3581280"/>
              <a:ext cx="0" cy="281952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6019920" y="3200040"/>
              <a:ext cx="0" cy="68580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7467480" y="3200400"/>
              <a:ext cx="0" cy="91440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6019560" y="3228840"/>
              <a:ext cx="1447560" cy="0"/>
            </a:xfrm>
            <a:prstGeom prst="line">
              <a:avLst/>
            </a:prstGeom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267080" y="4495680"/>
              <a:ext cx="838440" cy="0"/>
            </a:xfrm>
            <a:prstGeom prst="line">
              <a:avLst/>
            </a:prstGeom>
            <a:ln w="7632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cull_shot%20copy" descr=""/>
          <p:cNvPicPr/>
          <p:nvPr/>
        </p:nvPicPr>
        <p:blipFill>
          <a:blip r:embed="rId1"/>
          <a:stretch/>
        </p:blipFill>
        <p:spPr>
          <a:xfrm>
            <a:off x="76320" y="1897200"/>
            <a:ext cx="8991360" cy="290340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Example: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914400" y="5181480"/>
            <a:ext cx="800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Read about the details in paper on website (compulsory material!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Level-of-Detail Rendering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137160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Use different levels of detail at different distances from the viewer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More triangles closer to the viewer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965" name="glod0big" descr=""/>
          <p:cNvPicPr/>
          <p:nvPr/>
        </p:nvPicPr>
        <p:blipFill>
          <a:blip r:embed="rId1"/>
          <a:stretch/>
        </p:blipFill>
        <p:spPr>
          <a:xfrm>
            <a:off x="934920" y="2743200"/>
            <a:ext cx="2595600" cy="3657600"/>
          </a:xfrm>
          <a:prstGeom prst="rect">
            <a:avLst/>
          </a:prstGeom>
          <a:ln w="0">
            <a:noFill/>
          </a:ln>
        </p:spPr>
      </p:pic>
      <p:pic>
        <p:nvPicPr>
          <p:cNvPr id="966" name="glod1big" descr=""/>
          <p:cNvPicPr/>
          <p:nvPr/>
        </p:nvPicPr>
        <p:blipFill>
          <a:blip r:embed="rId2"/>
          <a:stretch/>
        </p:blipFill>
        <p:spPr>
          <a:xfrm>
            <a:off x="3581280" y="2743200"/>
            <a:ext cx="2597400" cy="3657600"/>
          </a:xfrm>
          <a:prstGeom prst="rect">
            <a:avLst/>
          </a:prstGeom>
          <a:ln w="0">
            <a:noFill/>
          </a:ln>
        </p:spPr>
      </p:pic>
      <p:pic>
        <p:nvPicPr>
          <p:cNvPr id="967" name="glod2big" descr=""/>
          <p:cNvPicPr/>
          <p:nvPr/>
        </p:nvPicPr>
        <p:blipFill>
          <a:blip r:embed="rId3"/>
          <a:stretch/>
        </p:blipFill>
        <p:spPr>
          <a:xfrm>
            <a:off x="6242040" y="2743200"/>
            <a:ext cx="2597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LOD rendering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914400" y="14479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Not much visual difference, but a lot faster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970" name="glod0big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2595600" cy="3657600"/>
          </a:xfrm>
          <a:prstGeom prst="rect">
            <a:avLst/>
          </a:prstGeom>
          <a:ln w="0">
            <a:noFill/>
          </a:ln>
        </p:spPr>
      </p:pic>
      <p:pic>
        <p:nvPicPr>
          <p:cNvPr id="971" name="glod1small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2595600" cy="3657600"/>
          </a:xfrm>
          <a:prstGeom prst="rect">
            <a:avLst/>
          </a:prstGeom>
          <a:ln w="0">
            <a:noFill/>
          </a:ln>
        </p:spPr>
      </p:pic>
      <p:pic>
        <p:nvPicPr>
          <p:cNvPr id="972" name="glod2small" descr=""/>
          <p:cNvPicPr/>
          <p:nvPr/>
        </p:nvPicPr>
        <p:blipFill>
          <a:blip r:embed="rId3"/>
          <a:stretch/>
        </p:blipFill>
        <p:spPr>
          <a:xfrm>
            <a:off x="6324480" y="1981080"/>
            <a:ext cx="2597400" cy="365760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914400" y="5715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Use area of projection of BV to select appropriate LOD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4" name=""/>
          <p:cNvGrpSpPr/>
          <p:nvPr/>
        </p:nvGrpSpPr>
        <p:grpSpPr>
          <a:xfrm>
            <a:off x="1166760" y="3657600"/>
            <a:ext cx="1804320" cy="2514240"/>
            <a:chOff x="1166760" y="3657600"/>
            <a:chExt cx="1804320" cy="2514240"/>
          </a:xfrm>
        </p:grpSpPr>
        <p:pic>
          <p:nvPicPr>
            <p:cNvPr id="975" name="glod0big" descr=""/>
            <p:cNvPicPr/>
            <p:nvPr/>
          </p:nvPicPr>
          <p:blipFill>
            <a:blip r:embed="rId1"/>
            <a:stretch/>
          </p:blipFill>
          <p:spPr>
            <a:xfrm>
              <a:off x="1166760" y="3657600"/>
              <a:ext cx="1782360" cy="25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175760" y="3657600"/>
              <a:ext cx="1795320" cy="2514240"/>
            </a:xfrm>
            <a:prstGeom prst="rect">
              <a:avLst/>
            </a:prstGeom>
            <a:noFill/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3778200" y="3657600"/>
            <a:ext cx="1820520" cy="2514240"/>
            <a:chOff x="3778200" y="3657600"/>
            <a:chExt cx="1820520" cy="2514240"/>
          </a:xfrm>
        </p:grpSpPr>
        <p:pic>
          <p:nvPicPr>
            <p:cNvPr id="978" name="glod1big" descr=""/>
            <p:cNvPicPr/>
            <p:nvPr/>
          </p:nvPicPr>
          <p:blipFill>
            <a:blip r:embed="rId2"/>
            <a:stretch/>
          </p:blipFill>
          <p:spPr>
            <a:xfrm>
              <a:off x="3813840" y="3657600"/>
              <a:ext cx="1784880" cy="25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"/>
            <p:cNvSpPr/>
            <p:nvPr/>
          </p:nvSpPr>
          <p:spPr>
            <a:xfrm>
              <a:off x="3778200" y="3657600"/>
              <a:ext cx="1796400" cy="2514240"/>
            </a:xfrm>
            <a:prstGeom prst="rect">
              <a:avLst/>
            </a:prstGeom>
            <a:noFill/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6470640" y="3657600"/>
            <a:ext cx="1811160" cy="2514240"/>
            <a:chOff x="6470640" y="3657600"/>
            <a:chExt cx="1811160" cy="2514240"/>
          </a:xfrm>
        </p:grpSpPr>
        <p:pic>
          <p:nvPicPr>
            <p:cNvPr id="981" name="glod2big" descr=""/>
            <p:cNvPicPr/>
            <p:nvPr/>
          </p:nvPicPr>
          <p:blipFill>
            <a:blip r:embed="rId3"/>
            <a:stretch/>
          </p:blipFill>
          <p:spPr>
            <a:xfrm>
              <a:off x="6470640" y="3657600"/>
              <a:ext cx="1784880" cy="25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"/>
            <p:cNvSpPr/>
            <p:nvPr/>
          </p:nvSpPr>
          <p:spPr>
            <a:xfrm>
              <a:off x="6485400" y="3657600"/>
              <a:ext cx="1796400" cy="2514240"/>
            </a:xfrm>
            <a:prstGeom prst="rect">
              <a:avLst/>
            </a:prstGeom>
            <a:noFill/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4648320" y="2362320"/>
            <a:ext cx="0" cy="1295280"/>
          </a:xfrm>
          <a:prstGeom prst="line">
            <a:avLst/>
          </a:prstGeom>
          <a:ln w="57240">
            <a:solidFill>
              <a:srgbClr val="ffff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1980720" y="2362320"/>
            <a:ext cx="2133720" cy="1295280"/>
          </a:xfrm>
          <a:prstGeom prst="line">
            <a:avLst/>
          </a:prstGeom>
          <a:ln w="57240">
            <a:solidFill>
              <a:srgbClr val="ffff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81480" y="2362320"/>
            <a:ext cx="2286000" cy="1295280"/>
          </a:xfrm>
          <a:prstGeom prst="line">
            <a:avLst/>
          </a:prstGeom>
          <a:ln w="57240">
            <a:solidFill>
              <a:srgbClr val="ffff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860640" y="1600200"/>
            <a:ext cx="1625400" cy="855000"/>
            <a:chOff x="3860640" y="1600200"/>
            <a:chExt cx="1625400" cy="855000"/>
          </a:xfrm>
        </p:grpSpPr>
        <p:sp>
          <p:nvSpPr>
            <p:cNvPr id="987" name=""/>
            <p:cNvSpPr/>
            <p:nvPr/>
          </p:nvSpPr>
          <p:spPr>
            <a:xfrm>
              <a:off x="3860640" y="1600200"/>
              <a:ext cx="1625400" cy="762120"/>
            </a:xfrm>
            <a:prstGeom prst="rect">
              <a:avLst/>
            </a:prstGeom>
            <a:solidFill>
              <a:srgbClr val="615d5d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932640" y="1629720"/>
              <a:ext cx="141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eb"/>
                  </a:solidFill>
                  <a:latin typeface="Arial"/>
                </a:rPr>
                <a:t>Car chair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eb"/>
                  </a:solidFill>
                  <a:latin typeface="Arial"/>
                </a:rPr>
                <a:t>Area?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4648320" y="1219320"/>
            <a:ext cx="0" cy="380880"/>
          </a:xfrm>
          <a:prstGeom prst="line">
            <a:avLst/>
          </a:prstGeom>
          <a:ln w="57240">
            <a:solidFill>
              <a:srgbClr val="ffff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Scene graph with LODs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374480" y="251460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Large area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431880" y="27432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387840" y="2362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at’s the point?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n exampl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ssume we click on screen, and want to find which object we clicked 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2286000"/>
            <a:ext cx="4419360" cy="2743200"/>
            <a:chOff x="304920" y="2286000"/>
            <a:chExt cx="4419360" cy="2743200"/>
          </a:xfrm>
        </p:grpSpPr>
        <p:grpSp>
          <p:nvGrpSpPr>
            <p:cNvPr id="148" name=""/>
            <p:cNvGrpSpPr/>
            <p:nvPr/>
          </p:nvGrpSpPr>
          <p:grpSpPr>
            <a:xfrm>
              <a:off x="304920" y="2286000"/>
              <a:ext cx="4419360" cy="2743200"/>
              <a:chOff x="304920" y="2286000"/>
              <a:chExt cx="4419360" cy="2743200"/>
            </a:xfrm>
          </p:grpSpPr>
          <p:sp>
            <p:nvSpPr>
              <p:cNvPr id="149" name=""/>
              <p:cNvSpPr/>
              <p:nvPr/>
            </p:nvSpPr>
            <p:spPr>
              <a:xfrm>
                <a:off x="304920" y="2286000"/>
                <a:ext cx="4419360" cy="274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pic>
            <p:nvPicPr>
              <p:cNvPr id="150" name="cube" descr=""/>
              <p:cNvPicPr/>
              <p:nvPr/>
            </p:nvPicPr>
            <p:blipFill>
              <a:blip r:embed="rId1"/>
              <a:stretch/>
            </p:blipFill>
            <p:spPr>
              <a:xfrm>
                <a:off x="761760" y="2514600"/>
                <a:ext cx="990360" cy="9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star" descr=""/>
              <p:cNvPicPr/>
              <p:nvPr/>
            </p:nvPicPr>
            <p:blipFill>
              <a:blip r:embed="rId2"/>
              <a:stretch/>
            </p:blipFill>
            <p:spPr>
              <a:xfrm>
                <a:off x="1066680" y="3733560"/>
                <a:ext cx="96804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torus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2680" y="3581280"/>
                <a:ext cx="1134720" cy="86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tetra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560" y="2743200"/>
                <a:ext cx="969480" cy="1066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"/>
            <p:cNvGrpSpPr/>
            <p:nvPr/>
          </p:nvGrpSpPr>
          <p:grpSpPr>
            <a:xfrm>
              <a:off x="762120" y="2514600"/>
              <a:ext cx="3733560" cy="2209680"/>
              <a:chOff x="762120" y="2514600"/>
              <a:chExt cx="3733560" cy="2209680"/>
            </a:xfrm>
          </p:grpSpPr>
          <p:sp>
            <p:nvSpPr>
              <p:cNvPr id="155" name=""/>
              <p:cNvSpPr/>
              <p:nvPr/>
            </p:nvSpPr>
            <p:spPr>
              <a:xfrm>
                <a:off x="762120" y="2514600"/>
                <a:ext cx="990360" cy="9907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66680" y="3733920"/>
                <a:ext cx="990720" cy="99036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52680" y="3581280"/>
                <a:ext cx="1143000" cy="9144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14600" y="2743200"/>
                <a:ext cx="990720" cy="106668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609480" y="2438280"/>
              <a:ext cx="1524240" cy="2362320"/>
            </a:xfrm>
            <a:prstGeom prst="rect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38280" y="2438280"/>
              <a:ext cx="2133720" cy="2133720"/>
            </a:xfrm>
            <a:prstGeom prst="rect">
              <a:avLst/>
            </a:prstGeom>
            <a:noFill/>
            <a:ln w="5724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286000"/>
              <a:ext cx="4419360" cy="2743200"/>
            </a:xfrm>
            <a:prstGeom prst="rect">
              <a:avLst/>
            </a:prstGeom>
            <a:noFill/>
            <a:ln w="7632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867280" y="2362320"/>
            <a:ext cx="2438640" cy="1904040"/>
            <a:chOff x="5867280" y="2362320"/>
            <a:chExt cx="2438640" cy="1904040"/>
          </a:xfrm>
        </p:grpSpPr>
        <p:sp>
          <p:nvSpPr>
            <p:cNvPr id="163" name=""/>
            <p:cNvSpPr/>
            <p:nvPr/>
          </p:nvSpPr>
          <p:spPr>
            <a:xfrm>
              <a:off x="6934320" y="2362320"/>
              <a:ext cx="304560" cy="304560"/>
            </a:xfrm>
            <a:prstGeom prst="rect">
              <a:avLst/>
            </a:prstGeom>
            <a:noFill/>
            <a:ln w="7632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6400800" y="2666520"/>
              <a:ext cx="533520" cy="761400"/>
              <a:chOff x="6400800" y="2666520"/>
              <a:chExt cx="533520" cy="761400"/>
            </a:xfrm>
          </p:grpSpPr>
          <p:sp>
            <p:nvSpPr>
              <p:cNvPr id="165" name=""/>
              <p:cNvSpPr/>
              <p:nvPr/>
            </p:nvSpPr>
            <p:spPr>
              <a:xfrm>
                <a:off x="6400800" y="3123720"/>
                <a:ext cx="304920" cy="304200"/>
              </a:xfrm>
              <a:prstGeom prst="rect">
                <a:avLst/>
              </a:pr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6705720" y="2666520"/>
                <a:ext cx="228600" cy="456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5867280" y="3428280"/>
              <a:ext cx="533160" cy="838080"/>
              <a:chOff x="5867280" y="3428280"/>
              <a:chExt cx="533160" cy="83808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5867280" y="3885480"/>
                <a:ext cx="380880" cy="380880"/>
                <a:chOff x="5867280" y="3885480"/>
                <a:chExt cx="380880" cy="380880"/>
              </a:xfrm>
            </p:grpSpPr>
            <p:pic>
              <p:nvPicPr>
                <p:cNvPr id="169" name="cube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867280" y="3888360"/>
                  <a:ext cx="38088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867280" y="3885480"/>
                  <a:ext cx="380880" cy="38088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 flipV="1">
                <a:off x="6171840" y="3428280"/>
                <a:ext cx="228600" cy="456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629400" y="3428280"/>
              <a:ext cx="380880" cy="838080"/>
              <a:chOff x="6629400" y="3428280"/>
              <a:chExt cx="380880" cy="83808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6629400" y="3885480"/>
                <a:ext cx="380880" cy="380880"/>
                <a:chOff x="6629400" y="3885480"/>
                <a:chExt cx="380880" cy="380880"/>
              </a:xfrm>
            </p:grpSpPr>
            <p:pic>
              <p:nvPicPr>
                <p:cNvPr id="174" name="star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30840" y="3885480"/>
                  <a:ext cx="37332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" name=""/>
                <p:cNvSpPr/>
                <p:nvPr/>
              </p:nvSpPr>
              <p:spPr>
                <a:xfrm>
                  <a:off x="6629400" y="3885480"/>
                  <a:ext cx="380880" cy="38088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 flipH="1" flipV="1">
                <a:off x="6705360" y="3428280"/>
                <a:ext cx="151920" cy="456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7238520" y="2666520"/>
              <a:ext cx="533520" cy="761400"/>
              <a:chOff x="7238520" y="2666520"/>
              <a:chExt cx="533520" cy="761400"/>
            </a:xfrm>
          </p:grpSpPr>
          <p:sp>
            <p:nvSpPr>
              <p:cNvPr id="178" name=""/>
              <p:cNvSpPr/>
              <p:nvPr/>
            </p:nvSpPr>
            <p:spPr>
              <a:xfrm>
                <a:off x="7467480" y="3123720"/>
                <a:ext cx="304560" cy="304200"/>
              </a:xfrm>
              <a:prstGeom prst="rect">
                <a:avLst/>
              </a:prstGeom>
              <a:noFill/>
              <a:ln w="57240">
                <a:solidFill>
                  <a:srgbClr val="c6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7238520" y="2666520"/>
                <a:ext cx="228600" cy="456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7772040" y="3428280"/>
              <a:ext cx="533880" cy="761760"/>
              <a:chOff x="7772040" y="3428280"/>
              <a:chExt cx="533880" cy="76176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7925040" y="3885480"/>
                <a:ext cx="380880" cy="304560"/>
                <a:chOff x="7925040" y="3885480"/>
                <a:chExt cx="380880" cy="304560"/>
              </a:xfrm>
            </p:grpSpPr>
            <p:pic>
              <p:nvPicPr>
                <p:cNvPr id="182" name="torus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5040" y="3885480"/>
                  <a:ext cx="38088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>
                  <a:off x="7925040" y="3885480"/>
                  <a:ext cx="380880" cy="30456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 flipH="1" flipV="1">
                <a:off x="7772040" y="3428280"/>
                <a:ext cx="228600" cy="456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7238880" y="3428280"/>
              <a:ext cx="380880" cy="838080"/>
              <a:chOff x="7238880" y="3428280"/>
              <a:chExt cx="380880" cy="83808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7238880" y="3885480"/>
                <a:ext cx="380880" cy="380880"/>
                <a:chOff x="7238880" y="3885480"/>
                <a:chExt cx="380880" cy="380880"/>
              </a:xfrm>
            </p:grpSpPr>
            <p:pic>
              <p:nvPicPr>
                <p:cNvPr id="187" name="tetra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238880" y="3885480"/>
                  <a:ext cx="34776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>
                  <a:off x="7238880" y="3885480"/>
                  <a:ext cx="380880" cy="38088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 flipV="1">
                <a:off x="7391160" y="3428280"/>
                <a:ext cx="76320" cy="456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1068840" y="5181480"/>
            <a:ext cx="857520" cy="688320"/>
            <a:chOff x="1068840" y="5181480"/>
            <a:chExt cx="857520" cy="688320"/>
          </a:xfrm>
        </p:grpSpPr>
        <p:sp>
          <p:nvSpPr>
            <p:cNvPr id="191" name=""/>
            <p:cNvSpPr/>
            <p:nvPr/>
          </p:nvSpPr>
          <p:spPr>
            <a:xfrm>
              <a:off x="1319040" y="5181480"/>
              <a:ext cx="228600" cy="22860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68840" y="54100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click!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663000" y="51055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eb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Test the root first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eb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Descend recursively as needed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eb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Terminate traversal when possible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248520"/>
            <a:ext cx="63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In general: get O(log n) instead of O(n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4724280"/>
            <a:ext cx="228600" cy="22860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4191120"/>
            <a:ext cx="228600" cy="22860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Far LOD render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When the object is far away, replace with a quad of some colo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When the object is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really far away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, do not render it (called: detail culling)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Use projected area of BV to determine when to skip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Bounding Volume Hierarchy (BVH) 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Most common bounding volumes (BVs)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pher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Boxes (AABB and OBB)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 BV does not contibute to the rendered image  -- rather, encloses an objec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315200" y="3336840"/>
            <a:ext cx="1675800" cy="1311120"/>
            <a:chOff x="7315200" y="3336840"/>
            <a:chExt cx="1675800" cy="1311120"/>
          </a:xfrm>
        </p:grpSpPr>
        <p:sp>
          <p:nvSpPr>
            <p:cNvPr id="200" name=""/>
            <p:cNvSpPr/>
            <p:nvPr/>
          </p:nvSpPr>
          <p:spPr>
            <a:xfrm>
              <a:off x="8048520" y="3336840"/>
              <a:ext cx="209160" cy="209880"/>
            </a:xfrm>
            <a:prstGeom prst="rect">
              <a:avLst/>
            </a:prstGeom>
            <a:noFill/>
            <a:ln w="7632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681680" y="3546720"/>
              <a:ext cx="366120" cy="524160"/>
              <a:chOff x="7681680" y="3546720"/>
              <a:chExt cx="366120" cy="524160"/>
            </a:xfrm>
          </p:grpSpPr>
          <p:sp>
            <p:nvSpPr>
              <p:cNvPr id="202" name=""/>
              <p:cNvSpPr/>
              <p:nvPr/>
            </p:nvSpPr>
            <p:spPr>
              <a:xfrm>
                <a:off x="7681680" y="3861360"/>
                <a:ext cx="209160" cy="209520"/>
              </a:xfrm>
              <a:prstGeom prst="rect">
                <a:avLst/>
              </a:pr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7890840" y="3546720"/>
                <a:ext cx="156960" cy="314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315200" y="4070880"/>
              <a:ext cx="366120" cy="577080"/>
              <a:chOff x="7315200" y="4070880"/>
              <a:chExt cx="366120" cy="57708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7315200" y="4385520"/>
                <a:ext cx="261720" cy="262440"/>
                <a:chOff x="7315200" y="4385520"/>
                <a:chExt cx="261720" cy="262440"/>
              </a:xfrm>
            </p:grpSpPr>
            <p:pic>
              <p:nvPicPr>
                <p:cNvPr id="206" name="cube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15200" y="4387680"/>
                  <a:ext cx="261720" cy="24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7315200" y="4385520"/>
                  <a:ext cx="261720" cy="26244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 flipV="1">
                <a:off x="7524360" y="4070880"/>
                <a:ext cx="156960" cy="314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7839000" y="4070880"/>
              <a:ext cx="261720" cy="577080"/>
              <a:chOff x="7839000" y="4070880"/>
              <a:chExt cx="261720" cy="5770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7839000" y="4385520"/>
                <a:ext cx="261720" cy="262440"/>
                <a:chOff x="7839000" y="4385520"/>
                <a:chExt cx="261720" cy="262440"/>
              </a:xfrm>
            </p:grpSpPr>
            <p:pic>
              <p:nvPicPr>
                <p:cNvPr id="211" name="star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39720" y="4385520"/>
                  <a:ext cx="256320" cy="26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"/>
                <p:cNvSpPr/>
                <p:nvPr/>
              </p:nvSpPr>
              <p:spPr>
                <a:xfrm>
                  <a:off x="7839000" y="4385520"/>
                  <a:ext cx="261720" cy="26244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 flipH="1" flipV="1">
                <a:off x="7891200" y="4070880"/>
                <a:ext cx="104400" cy="314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8258040" y="3546720"/>
              <a:ext cx="366120" cy="524160"/>
              <a:chOff x="8258040" y="3546720"/>
              <a:chExt cx="366120" cy="524160"/>
            </a:xfrm>
          </p:grpSpPr>
          <p:sp>
            <p:nvSpPr>
              <p:cNvPr id="215" name=""/>
              <p:cNvSpPr/>
              <p:nvPr/>
            </p:nvSpPr>
            <p:spPr>
              <a:xfrm>
                <a:off x="8415000" y="3861360"/>
                <a:ext cx="209160" cy="209520"/>
              </a:xfrm>
              <a:prstGeom prst="rect">
                <a:avLst/>
              </a:prstGeom>
              <a:noFill/>
              <a:ln w="57240">
                <a:solidFill>
                  <a:srgbClr val="c6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8258040" y="3546720"/>
                <a:ext cx="156960" cy="314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8624880" y="4070880"/>
              <a:ext cx="366120" cy="524520"/>
              <a:chOff x="8624880" y="4070880"/>
              <a:chExt cx="366120" cy="52452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8729640" y="4385520"/>
                <a:ext cx="261360" cy="209880"/>
                <a:chOff x="8729640" y="4385520"/>
                <a:chExt cx="261360" cy="209880"/>
              </a:xfrm>
            </p:grpSpPr>
            <p:pic>
              <p:nvPicPr>
                <p:cNvPr id="219" name="torus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729640" y="4385520"/>
                  <a:ext cx="261360" cy="201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0" name=""/>
                <p:cNvSpPr/>
                <p:nvPr/>
              </p:nvSpPr>
              <p:spPr>
                <a:xfrm>
                  <a:off x="8729640" y="4385520"/>
                  <a:ext cx="261360" cy="20988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 flipH="1" flipV="1">
                <a:off x="8624880" y="4070880"/>
                <a:ext cx="156960" cy="314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8258040" y="4070880"/>
              <a:ext cx="262080" cy="577080"/>
              <a:chOff x="8258040" y="4070880"/>
              <a:chExt cx="262080" cy="5770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8258040" y="4385520"/>
                <a:ext cx="262080" cy="262440"/>
                <a:chOff x="8258040" y="4385520"/>
                <a:chExt cx="262080" cy="262440"/>
              </a:xfrm>
            </p:grpSpPr>
            <p:pic>
              <p:nvPicPr>
                <p:cNvPr id="224" name="tetra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258040" y="4385520"/>
                  <a:ext cx="239040" cy="26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>
                  <a:off x="8258040" y="4385520"/>
                  <a:ext cx="262080" cy="26244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 flipV="1">
                <a:off x="8362800" y="4070880"/>
                <a:ext cx="52200" cy="314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6858000" y="4800600"/>
            <a:ext cx="2209680" cy="1371600"/>
            <a:chOff x="6858000" y="4800600"/>
            <a:chExt cx="2209680" cy="1371600"/>
          </a:xfrm>
        </p:grpSpPr>
        <p:grpSp>
          <p:nvGrpSpPr>
            <p:cNvPr id="228" name=""/>
            <p:cNvGrpSpPr/>
            <p:nvPr/>
          </p:nvGrpSpPr>
          <p:grpSpPr>
            <a:xfrm>
              <a:off x="6858000" y="4800600"/>
              <a:ext cx="2209680" cy="1371600"/>
              <a:chOff x="6858000" y="4800600"/>
              <a:chExt cx="2209680" cy="1371600"/>
            </a:xfrm>
          </p:grpSpPr>
          <p:sp>
            <p:nvSpPr>
              <p:cNvPr id="229" name=""/>
              <p:cNvSpPr/>
              <p:nvPr/>
            </p:nvSpPr>
            <p:spPr>
              <a:xfrm>
                <a:off x="6858000" y="4800600"/>
                <a:ext cx="2209680" cy="13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pic>
            <p:nvPicPr>
              <p:cNvPr id="230" name="cube" descr=""/>
              <p:cNvPicPr/>
              <p:nvPr/>
            </p:nvPicPr>
            <p:blipFill>
              <a:blip r:embed="rId5"/>
              <a:stretch/>
            </p:blipFill>
            <p:spPr>
              <a:xfrm>
                <a:off x="7086600" y="4914720"/>
                <a:ext cx="495360" cy="46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star" descr=""/>
              <p:cNvPicPr/>
              <p:nvPr/>
            </p:nvPicPr>
            <p:blipFill>
              <a:blip r:embed="rId6"/>
              <a:stretch/>
            </p:blipFill>
            <p:spPr>
              <a:xfrm>
                <a:off x="7238880" y="5524200"/>
                <a:ext cx="4842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torus" descr=""/>
              <p:cNvPicPr/>
              <p:nvPr/>
            </p:nvPicPr>
            <p:blipFill>
              <a:blip r:embed="rId7"/>
              <a:stretch/>
            </p:blipFill>
            <p:spPr>
              <a:xfrm>
                <a:off x="8381880" y="5448240"/>
                <a:ext cx="567360" cy="4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tetra" descr=""/>
              <p:cNvPicPr/>
              <p:nvPr/>
            </p:nvPicPr>
            <p:blipFill>
              <a:blip r:embed="rId8"/>
              <a:stretch/>
            </p:blipFill>
            <p:spPr>
              <a:xfrm>
                <a:off x="8001000" y="5029200"/>
                <a:ext cx="48492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" name=""/>
            <p:cNvGrpSpPr/>
            <p:nvPr/>
          </p:nvGrpSpPr>
          <p:grpSpPr>
            <a:xfrm>
              <a:off x="7086600" y="4914720"/>
              <a:ext cx="1866600" cy="1104480"/>
              <a:chOff x="7086600" y="4914720"/>
              <a:chExt cx="1866600" cy="1104480"/>
            </a:xfrm>
          </p:grpSpPr>
          <p:sp>
            <p:nvSpPr>
              <p:cNvPr id="235" name=""/>
              <p:cNvSpPr/>
              <p:nvPr/>
            </p:nvSpPr>
            <p:spPr>
              <a:xfrm>
                <a:off x="7086600" y="4914720"/>
                <a:ext cx="495000" cy="49536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238880" y="5524200"/>
                <a:ext cx="495360" cy="4950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381880" y="5447880"/>
                <a:ext cx="571320" cy="4572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962840" y="5028840"/>
                <a:ext cx="495360" cy="53316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10280" y="4876560"/>
              <a:ext cx="762120" cy="1181160"/>
            </a:xfrm>
            <a:prstGeom prst="rect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24680" y="4876560"/>
              <a:ext cx="1066680" cy="1066680"/>
            </a:xfrm>
            <a:prstGeom prst="rect">
              <a:avLst/>
            </a:prstGeom>
            <a:noFill/>
            <a:ln w="5724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8000" y="4800600"/>
              <a:ext cx="2209680" cy="1371600"/>
            </a:xfrm>
            <a:prstGeom prst="rect">
              <a:avLst/>
            </a:prstGeom>
            <a:noFill/>
            <a:ln w="7632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6320" y="2362320"/>
            <a:ext cx="990360" cy="990360"/>
            <a:chOff x="76320" y="2362320"/>
            <a:chExt cx="990360" cy="990360"/>
          </a:xfrm>
        </p:grpSpPr>
        <p:sp>
          <p:nvSpPr>
            <p:cNvPr id="243" name=""/>
            <p:cNvSpPr/>
            <p:nvPr/>
          </p:nvSpPr>
          <p:spPr>
            <a:xfrm>
              <a:off x="76320" y="2362320"/>
              <a:ext cx="990360" cy="9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pic>
          <p:nvPicPr>
            <p:cNvPr id="244" name="star" descr=""/>
            <p:cNvPicPr/>
            <p:nvPr/>
          </p:nvPicPr>
          <p:blipFill>
            <a:blip r:embed="rId9"/>
            <a:stretch/>
          </p:blipFill>
          <p:spPr>
            <a:xfrm>
              <a:off x="228600" y="2514600"/>
              <a:ext cx="6714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/>
          <p:cNvSpPr/>
          <p:nvPr/>
        </p:nvSpPr>
        <p:spPr>
          <a:xfrm>
            <a:off x="990720" y="3962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 data structure is a </a:t>
            </a:r>
            <a:r>
              <a:rPr b="0" i="1" lang="sv-SE" sz="2800" spc="-1" strike="noStrike">
                <a:solidFill>
                  <a:srgbClr val="ffffeb"/>
                </a:solidFill>
                <a:latin typeface="Arial"/>
              </a:rPr>
              <a:t>k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-ary tree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Leaves hold geometry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nternal nodes have at most                                             </a:t>
            </a:r>
            <a:r>
              <a:rPr b="0" i="1" lang="sv-SE" sz="2200" spc="-1" strike="noStrike">
                <a:solidFill>
                  <a:srgbClr val="ffffeb"/>
                </a:solidFill>
                <a:latin typeface="Arial"/>
              </a:rPr>
              <a:t>k</a:t>
            </a: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 children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nternal nodes hold BVs that                                   enclose all geometry in its subtree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ome facts about tre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eb"/>
                </a:solidFill>
                <a:latin typeface="Arial"/>
              </a:rPr>
              <a:t>Height of tree,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h</a:t>
            </a:r>
            <a:r>
              <a:rPr b="0" i="1" lang="sv-SE" sz="3200" spc="-1" strike="noStrike">
                <a:solidFill>
                  <a:srgbClr val="ffffeb"/>
                </a:solidFill>
                <a:latin typeface="Arial"/>
              </a:rPr>
              <a:t>,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is longest path from root to leaf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eb"/>
                </a:solidFill>
                <a:latin typeface="Arial"/>
              </a:rPr>
              <a:t>A balanced tree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has all leaves at height  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h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or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h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+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Height of balanced tree with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nodes: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floor(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log</a:t>
            </a:r>
            <a:r>
              <a:rPr b="0" lang="sv-SE" sz="3200" spc="-1" strike="noStrike" baseline="-25000">
                <a:solidFill>
                  <a:srgbClr val="ffffeb"/>
                </a:solidFill>
                <a:latin typeface="Times New Roman"/>
              </a:rPr>
              <a:t>k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 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inary tree 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k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=2) is the simples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k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=4 and 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k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=8 is quite common for computer graphics as well 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How to create a BVH?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Example: BV=AABB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Find minimal box, then split along longest axi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90720" y="1973160"/>
            <a:ext cx="2361960" cy="1436760"/>
            <a:chOff x="990720" y="1973160"/>
            <a:chExt cx="2361960" cy="1436760"/>
          </a:xfrm>
        </p:grpSpPr>
        <p:grpSp>
          <p:nvGrpSpPr>
            <p:cNvPr id="251" name=""/>
            <p:cNvGrpSpPr/>
            <p:nvPr/>
          </p:nvGrpSpPr>
          <p:grpSpPr>
            <a:xfrm>
              <a:off x="990720" y="1973160"/>
              <a:ext cx="2361960" cy="1436760"/>
              <a:chOff x="990720" y="1973160"/>
              <a:chExt cx="2361960" cy="1436760"/>
            </a:xfrm>
          </p:grpSpPr>
          <p:sp>
            <p:nvSpPr>
              <p:cNvPr id="252" name=""/>
              <p:cNvSpPr/>
              <p:nvPr/>
            </p:nvSpPr>
            <p:spPr>
              <a:xfrm>
                <a:off x="990720" y="1973160"/>
                <a:ext cx="2361960" cy="143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pic>
            <p:nvPicPr>
              <p:cNvPr id="253" name="cube" descr=""/>
              <p:cNvPicPr/>
              <p:nvPr/>
            </p:nvPicPr>
            <p:blipFill>
              <a:blip r:embed="rId1"/>
              <a:stretch/>
            </p:blipFill>
            <p:spPr>
              <a:xfrm>
                <a:off x="1036800" y="2019240"/>
                <a:ext cx="60192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star" descr=""/>
              <p:cNvPicPr/>
              <p:nvPr/>
            </p:nvPicPr>
            <p:blipFill>
              <a:blip r:embed="rId2"/>
              <a:stretch/>
            </p:blipFill>
            <p:spPr>
              <a:xfrm>
                <a:off x="1222200" y="2760840"/>
                <a:ext cx="588600" cy="60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torus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1440" y="2668320"/>
                <a:ext cx="689760" cy="52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tetra" descr=""/>
              <p:cNvPicPr/>
              <p:nvPr/>
            </p:nvPicPr>
            <p:blipFill>
              <a:blip r:embed="rId4"/>
              <a:stretch/>
            </p:blipFill>
            <p:spPr>
              <a:xfrm>
                <a:off x="2148120" y="2158200"/>
                <a:ext cx="589680" cy="649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7" name=""/>
            <p:cNvSpPr/>
            <p:nvPr/>
          </p:nvSpPr>
          <p:spPr>
            <a:xfrm>
              <a:off x="990720" y="1979280"/>
              <a:ext cx="2361960" cy="1430280"/>
            </a:xfrm>
            <a:prstGeom prst="rect">
              <a:avLst/>
            </a:prstGeom>
            <a:noFill/>
            <a:ln w="572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581280" y="2224080"/>
            <a:ext cx="1371600" cy="442800"/>
            <a:chOff x="3581280" y="2224080"/>
            <a:chExt cx="1371600" cy="442800"/>
          </a:xfrm>
        </p:grpSpPr>
        <p:sp>
          <p:nvSpPr>
            <p:cNvPr id="259" name=""/>
            <p:cNvSpPr/>
            <p:nvPr/>
          </p:nvSpPr>
          <p:spPr>
            <a:xfrm>
              <a:off x="3583800" y="222408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eb"/>
                  </a:solidFill>
                  <a:latin typeface="Arial"/>
                </a:rPr>
                <a:t>x is longest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81280" y="2666880"/>
              <a:ext cx="1371600" cy="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334120" y="1828800"/>
            <a:ext cx="2361960" cy="1828800"/>
            <a:chOff x="5334120" y="1828800"/>
            <a:chExt cx="2361960" cy="1828800"/>
          </a:xfrm>
        </p:grpSpPr>
        <p:grpSp>
          <p:nvGrpSpPr>
            <p:cNvPr id="262" name=""/>
            <p:cNvGrpSpPr/>
            <p:nvPr/>
          </p:nvGrpSpPr>
          <p:grpSpPr>
            <a:xfrm>
              <a:off x="5334120" y="1981080"/>
              <a:ext cx="2361960" cy="1436760"/>
              <a:chOff x="5334120" y="1981080"/>
              <a:chExt cx="2361960" cy="143676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5334120" y="1981080"/>
                <a:ext cx="2361960" cy="1436760"/>
                <a:chOff x="5334120" y="1981080"/>
                <a:chExt cx="2361960" cy="14367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334120" y="1981080"/>
                  <a:ext cx="2361960" cy="1436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pic>
              <p:nvPicPr>
                <p:cNvPr id="265" name="cube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380200" y="2027160"/>
                  <a:ext cx="60192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star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565600" y="2768760"/>
                  <a:ext cx="588600" cy="602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torus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54840" y="2676240"/>
                  <a:ext cx="68976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tetra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491520" y="2166120"/>
                  <a:ext cx="589680" cy="64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69" name=""/>
              <p:cNvSpPr/>
              <p:nvPr/>
            </p:nvSpPr>
            <p:spPr>
              <a:xfrm>
                <a:off x="5334120" y="1987200"/>
                <a:ext cx="2361960" cy="1430280"/>
              </a:xfrm>
              <a:prstGeom prst="rect">
                <a:avLst/>
              </a:prstGeom>
              <a:noFill/>
              <a:ln w="572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V="1">
              <a:off x="6477120" y="1828800"/>
              <a:ext cx="0" cy="182880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990720" y="3657600"/>
            <a:ext cx="838080" cy="1436400"/>
            <a:chOff x="990720" y="3657600"/>
            <a:chExt cx="838080" cy="1436400"/>
          </a:xfrm>
        </p:grpSpPr>
        <p:sp>
          <p:nvSpPr>
            <p:cNvPr id="272" name=""/>
            <p:cNvSpPr/>
            <p:nvPr/>
          </p:nvSpPr>
          <p:spPr>
            <a:xfrm>
              <a:off x="990720" y="3657600"/>
              <a:ext cx="838080" cy="1436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pic>
          <p:nvPicPr>
            <p:cNvPr id="273" name="cube" descr=""/>
            <p:cNvPicPr/>
            <p:nvPr/>
          </p:nvPicPr>
          <p:blipFill>
            <a:blip r:embed="rId9"/>
            <a:stretch/>
          </p:blipFill>
          <p:spPr>
            <a:xfrm>
              <a:off x="1036800" y="3703680"/>
              <a:ext cx="6015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star" descr=""/>
            <p:cNvPicPr/>
            <p:nvPr/>
          </p:nvPicPr>
          <p:blipFill>
            <a:blip r:embed="rId10"/>
            <a:stretch/>
          </p:blipFill>
          <p:spPr>
            <a:xfrm>
              <a:off x="1222200" y="4444920"/>
              <a:ext cx="588960" cy="60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2133720" y="3809880"/>
            <a:ext cx="1218960" cy="1143000"/>
            <a:chOff x="2133720" y="3809880"/>
            <a:chExt cx="1218960" cy="1143000"/>
          </a:xfrm>
        </p:grpSpPr>
        <p:sp>
          <p:nvSpPr>
            <p:cNvPr id="276" name=""/>
            <p:cNvSpPr/>
            <p:nvPr/>
          </p:nvSpPr>
          <p:spPr>
            <a:xfrm>
              <a:off x="2133720" y="3809880"/>
              <a:ext cx="1218960" cy="1143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pic>
          <p:nvPicPr>
            <p:cNvPr id="277" name="torus" descr=""/>
            <p:cNvPicPr/>
            <p:nvPr/>
          </p:nvPicPr>
          <p:blipFill>
            <a:blip r:embed="rId11"/>
            <a:stretch/>
          </p:blipFill>
          <p:spPr>
            <a:xfrm>
              <a:off x="2611440" y="4352760"/>
              <a:ext cx="69048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tetra" descr=""/>
            <p:cNvPicPr/>
            <p:nvPr/>
          </p:nvPicPr>
          <p:blipFill>
            <a:blip r:embed="rId12"/>
            <a:stretch/>
          </p:blipFill>
          <p:spPr>
            <a:xfrm>
              <a:off x="2147760" y="3843360"/>
              <a:ext cx="59076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"/>
          <p:cNvGrpSpPr/>
          <p:nvPr/>
        </p:nvGrpSpPr>
        <p:grpSpPr>
          <a:xfrm>
            <a:off x="7699320" y="2101680"/>
            <a:ext cx="1473120" cy="642600"/>
            <a:chOff x="7699320" y="2101680"/>
            <a:chExt cx="1473120" cy="642600"/>
          </a:xfrm>
        </p:grpSpPr>
        <p:sp>
          <p:nvSpPr>
            <p:cNvPr id="280" name=""/>
            <p:cNvSpPr/>
            <p:nvPr/>
          </p:nvSpPr>
          <p:spPr>
            <a:xfrm>
              <a:off x="7699320" y="2101680"/>
              <a:ext cx="147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eb"/>
                  </a:solidFill>
                  <a:latin typeface="Arial"/>
                </a:rPr>
                <a:t>Find minimal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eb"/>
                  </a:solidFill>
                  <a:latin typeface="Arial"/>
                </a:rPr>
                <a:t>boxes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72400" y="2728800"/>
              <a:ext cx="1371600" cy="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628800" y="3733920"/>
            <a:ext cx="1400400" cy="685800"/>
            <a:chOff x="3628800" y="3733920"/>
            <a:chExt cx="1400400" cy="685800"/>
          </a:xfrm>
        </p:grpSpPr>
        <p:sp>
          <p:nvSpPr>
            <p:cNvPr id="283" name=""/>
            <p:cNvSpPr/>
            <p:nvPr/>
          </p:nvSpPr>
          <p:spPr>
            <a:xfrm>
              <a:off x="3628800" y="3733920"/>
              <a:ext cx="138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eb"/>
                  </a:solidFill>
                  <a:latin typeface="Arial"/>
                </a:rPr>
                <a:t>Split along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eb"/>
                  </a:solidFill>
                  <a:latin typeface="Arial"/>
                </a:rPr>
                <a:t>longest axis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7600" y="4419720"/>
              <a:ext cx="1371600" cy="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181480" y="3745080"/>
            <a:ext cx="1295640" cy="1436400"/>
            <a:chOff x="5181480" y="3745080"/>
            <a:chExt cx="1295640" cy="1436400"/>
          </a:xfrm>
        </p:grpSpPr>
        <p:grpSp>
          <p:nvGrpSpPr>
            <p:cNvPr id="286" name=""/>
            <p:cNvGrpSpPr/>
            <p:nvPr/>
          </p:nvGrpSpPr>
          <p:grpSpPr>
            <a:xfrm>
              <a:off x="5410080" y="3745080"/>
              <a:ext cx="838080" cy="1436400"/>
              <a:chOff x="5410080" y="3745080"/>
              <a:chExt cx="838080" cy="1436400"/>
            </a:xfrm>
          </p:grpSpPr>
          <p:sp>
            <p:nvSpPr>
              <p:cNvPr id="287" name=""/>
              <p:cNvSpPr/>
              <p:nvPr/>
            </p:nvSpPr>
            <p:spPr>
              <a:xfrm>
                <a:off x="5410080" y="3745080"/>
                <a:ext cx="838080" cy="1436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pic>
            <p:nvPicPr>
              <p:cNvPr id="288" name="cube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56160" y="3791160"/>
                <a:ext cx="601560" cy="57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star" descr=""/>
              <p:cNvPicPr/>
              <p:nvPr/>
            </p:nvPicPr>
            <p:blipFill>
              <a:blip r:embed="rId14"/>
              <a:stretch/>
            </p:blipFill>
            <p:spPr>
              <a:xfrm>
                <a:off x="5641560" y="4532400"/>
                <a:ext cx="588960" cy="603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0" name=""/>
            <p:cNvSpPr/>
            <p:nvPr/>
          </p:nvSpPr>
          <p:spPr>
            <a:xfrm>
              <a:off x="5181480" y="4495680"/>
              <a:ext cx="129564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934320" y="3657600"/>
            <a:ext cx="1218960" cy="1600200"/>
            <a:chOff x="6934320" y="3657600"/>
            <a:chExt cx="1218960" cy="1600200"/>
          </a:xfrm>
        </p:grpSpPr>
        <p:grpSp>
          <p:nvGrpSpPr>
            <p:cNvPr id="292" name=""/>
            <p:cNvGrpSpPr/>
            <p:nvPr/>
          </p:nvGrpSpPr>
          <p:grpSpPr>
            <a:xfrm>
              <a:off x="6934320" y="3886200"/>
              <a:ext cx="1218960" cy="1143000"/>
              <a:chOff x="6934320" y="3886200"/>
              <a:chExt cx="1218960" cy="1143000"/>
            </a:xfrm>
          </p:grpSpPr>
          <p:sp>
            <p:nvSpPr>
              <p:cNvPr id="293" name=""/>
              <p:cNvSpPr/>
              <p:nvPr/>
            </p:nvSpPr>
            <p:spPr>
              <a:xfrm>
                <a:off x="6934320" y="3886200"/>
                <a:ext cx="1218960" cy="1143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c6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pic>
            <p:nvPicPr>
              <p:cNvPr id="294" name="torus" descr=""/>
              <p:cNvPicPr/>
              <p:nvPr/>
            </p:nvPicPr>
            <p:blipFill>
              <a:blip r:embed="rId15"/>
              <a:stretch/>
            </p:blipFill>
            <p:spPr>
              <a:xfrm>
                <a:off x="7412040" y="4429080"/>
                <a:ext cx="690480" cy="52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tetra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360" y="3919680"/>
                <a:ext cx="590760" cy="64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6" name=""/>
            <p:cNvSpPr/>
            <p:nvPr/>
          </p:nvSpPr>
          <p:spPr>
            <a:xfrm>
              <a:off x="7543800" y="3657600"/>
              <a:ext cx="0" cy="160020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9560" y="5530680"/>
            <a:ext cx="1473120" cy="642600"/>
            <a:chOff x="79560" y="5530680"/>
            <a:chExt cx="1473120" cy="642600"/>
          </a:xfrm>
        </p:grpSpPr>
        <p:sp>
          <p:nvSpPr>
            <p:cNvPr id="298" name=""/>
            <p:cNvSpPr/>
            <p:nvPr/>
          </p:nvSpPr>
          <p:spPr>
            <a:xfrm>
              <a:off x="79560" y="5530680"/>
              <a:ext cx="147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eb"/>
                  </a:solidFill>
                  <a:latin typeface="Arial"/>
                </a:rPr>
                <a:t>Find minimal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eb"/>
                  </a:solidFill>
                  <a:latin typeface="Arial"/>
                </a:rPr>
                <a:t>boxes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2640" y="6157800"/>
              <a:ext cx="1371600" cy="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5268960"/>
            <a:ext cx="685800" cy="674640"/>
            <a:chOff x="2057400" y="5268960"/>
            <a:chExt cx="685800" cy="674640"/>
          </a:xfrm>
        </p:grpSpPr>
        <p:sp>
          <p:nvSpPr>
            <p:cNvPr id="301" name=""/>
            <p:cNvSpPr/>
            <p:nvPr/>
          </p:nvSpPr>
          <p:spPr>
            <a:xfrm>
              <a:off x="2057400" y="5268960"/>
              <a:ext cx="685800" cy="67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pic>
          <p:nvPicPr>
            <p:cNvPr id="302" name="cube" descr=""/>
            <p:cNvPicPr/>
            <p:nvPr/>
          </p:nvPicPr>
          <p:blipFill>
            <a:blip r:embed="rId17"/>
            <a:stretch/>
          </p:blipFill>
          <p:spPr>
            <a:xfrm>
              <a:off x="2103480" y="5314680"/>
              <a:ext cx="60156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"/>
          <p:cNvGrpSpPr/>
          <p:nvPr/>
        </p:nvGrpSpPr>
        <p:grpSpPr>
          <a:xfrm>
            <a:off x="2209680" y="6031080"/>
            <a:ext cx="685800" cy="674640"/>
            <a:chOff x="2209680" y="6031080"/>
            <a:chExt cx="685800" cy="674640"/>
          </a:xfrm>
        </p:grpSpPr>
        <p:sp>
          <p:nvSpPr>
            <p:cNvPr id="304" name=""/>
            <p:cNvSpPr/>
            <p:nvPr/>
          </p:nvSpPr>
          <p:spPr>
            <a:xfrm>
              <a:off x="2209680" y="6031080"/>
              <a:ext cx="685800" cy="67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pic>
          <p:nvPicPr>
            <p:cNvPr id="305" name="star" descr=""/>
            <p:cNvPicPr/>
            <p:nvPr/>
          </p:nvPicPr>
          <p:blipFill>
            <a:blip r:embed="rId18"/>
            <a:stretch/>
          </p:blipFill>
          <p:spPr>
            <a:xfrm>
              <a:off x="2289240" y="6056640"/>
              <a:ext cx="588960" cy="60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3657600" y="5943600"/>
            <a:ext cx="711360" cy="536400"/>
            <a:chOff x="3657600" y="5943600"/>
            <a:chExt cx="711360" cy="536400"/>
          </a:xfrm>
        </p:grpSpPr>
        <p:pic>
          <p:nvPicPr>
            <p:cNvPr id="307" name="torus" descr=""/>
            <p:cNvPicPr/>
            <p:nvPr/>
          </p:nvPicPr>
          <p:blipFill>
            <a:blip r:embed="rId19"/>
            <a:stretch/>
          </p:blipFill>
          <p:spPr>
            <a:xfrm>
              <a:off x="3678120" y="5952960"/>
              <a:ext cx="69084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3657600" y="5943600"/>
              <a:ext cx="685800" cy="533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880160" y="545796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Called TOP-DOWN method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7640" y="586728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More complex for other BV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200400" y="5410080"/>
            <a:ext cx="609480" cy="685800"/>
            <a:chOff x="3200400" y="5410080"/>
            <a:chExt cx="609480" cy="685800"/>
          </a:xfrm>
        </p:grpSpPr>
        <p:pic>
          <p:nvPicPr>
            <p:cNvPr id="312" name="tetra" descr=""/>
            <p:cNvPicPr/>
            <p:nvPr/>
          </p:nvPicPr>
          <p:blipFill>
            <a:blip r:embed="rId20"/>
            <a:stretch/>
          </p:blipFill>
          <p:spPr>
            <a:xfrm>
              <a:off x="3214800" y="5443560"/>
              <a:ext cx="590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200400" y="5410080"/>
              <a:ext cx="60948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topping criteria for Top-Down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re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eed to stop recursion some time…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Either when BV is empty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Or when only one primitive (e.g. triangle) is inside BV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Or when </a:t>
            </a:r>
            <a:r>
              <a:rPr b="0" lang="sv-SE" sz="2600" spc="-1" strike="noStrike">
                <a:solidFill>
                  <a:srgbClr val="ffffeb"/>
                </a:solidFill>
                <a:latin typeface="Times New Roman"/>
              </a:rPr>
              <a:t>&lt;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 primitives is inside BV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Or when recursion level 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l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 has been reached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imilar critera for BSP trees and octre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Binary Space Partitioning (BSP) Tre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wo different types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xis-aligned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Polygon-aligned </a:t>
            </a: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(treated in other graphics course, and in handout text)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General idea: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ffffeb"/>
                </a:solidFill>
                <a:latin typeface="Arial"/>
              </a:rPr>
              <a:t>Divide space with a plane</a:t>
            </a:r>
            <a:endParaRPr b="0" lang="en-US" sz="21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ffffeb"/>
                </a:solidFill>
                <a:latin typeface="Arial"/>
              </a:rPr>
              <a:t>Sort geometry into the space it belongs</a:t>
            </a:r>
            <a:endParaRPr b="0" lang="en-US" sz="21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ffffeb"/>
                </a:solidFill>
                <a:latin typeface="Arial"/>
              </a:rPr>
              <a:t>Done recursively</a:t>
            </a:r>
            <a:endParaRPr b="0" lang="en-US" sz="21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If traversed in a certain way, we can get the geometry sorted along an axis 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ffffeb"/>
                </a:solidFill>
                <a:latin typeface="Arial"/>
              </a:rPr>
              <a:t>Exact for polygon-aligned</a:t>
            </a:r>
            <a:endParaRPr b="0" lang="en-US" sz="21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ffffeb"/>
                </a:solidFill>
                <a:latin typeface="Arial"/>
              </a:rPr>
              <a:t>Approximately for axis-aligned</a:t>
            </a:r>
            <a:endParaRPr b="0" lang="en-US" sz="21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07:00:51Z</dcterms:created>
  <dc:creator>Tomas Moller</dc:creator>
  <dc:description/>
  <dc:language>en-US</dc:language>
  <cp:lastModifiedBy>Datorteknik</cp:lastModifiedBy>
  <cp:lastPrinted>2000-03-14T19:25:07Z</cp:lastPrinted>
  <dcterms:modified xsi:type="dcterms:W3CDTF">2002-04-11T10:32:45Z</dcterms:modified>
  <cp:revision>189</cp:revision>
  <dc:subject/>
  <dc:title>CS248</dc:title>
</cp:coreProperties>
</file>