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8ED1-4A4E-49A5-9F36-977BDB146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6C4F-1715-4AF0-AB35-950E13BB9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6C50-7A38-4AFF-92FC-019CB9B71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2613-8DB0-47F2-8867-F97791324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07499-36CF-4B15-AA0C-4C94EAC3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6E16-E248-4A70-A48B-93D13022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B19F8-D3D1-4271-90B7-30DBA815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4E47-7996-46B0-A1F3-7863F70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020B-09CE-416A-82D5-0CDC5CE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BD26-23C3-486C-84AF-A99E687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17B52-0841-47CF-A7B8-B3A4AAB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4C51-CC55-431D-99E1-CB2B33D2B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9D79-533A-4A03-B140-F82423E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EF0B2-F0B9-455F-A1E7-D29CEA3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865A6-17FB-48EB-8FDA-BD1A5AD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9C5F-2DC5-4F90-B919-F0395CE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58BB-D623-480A-815C-422725EC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172E-FFAE-4A76-8D29-D25E4447D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48C8-0898-4D3A-898B-E6CB4467E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80D4-8E3E-407A-9949-04BDE20AA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3011-30A0-4CAA-9CC2-CC7CA86BD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4721-4C4F-446A-A4CD-80B78B758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D30A-72C1-4063-AF0A-5A2CF3EA3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AC5C-548C-4688-BC45-09332C2C1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4B0-01A1-43F3-93C6-E0BFC9FC1646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3BF-1C6F-4B44-A4EC-269B71F0AC6B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hyperlink" Target="file:///C:/Documents%20and%20Settings/tomasm.CE/Desktop/ATI-9700-rnl-Movie-v1%5B1%5D.0.mpg" TargetMode="External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demo1/demo1.exe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../demo1/demo1.exe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hyperlink" Target="file:///../demo1/demo1.exe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demo1/demo1.ex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tompa@ce.chalmers.s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Advanced Computer Graphics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EDA 425, lp 4 2003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tate-of-the-Art                              Real-Time Render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2001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2011320"/>
            <a:ext cx="8991360" cy="484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7335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tate-of-the-Art                              Real-Time Render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2001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9067680" cy="4903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816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ich one is a real photo,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d which one is CG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80" y="1682640"/>
            <a:ext cx="9048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lexity: 8 million triangles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81240" y="609480"/>
            <a:ext cx="5957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hoto-realistic Rendering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me other real-time exampl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24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og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atural ligh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104760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104760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724360" y="1484280"/>
            <a:ext cx="1047960" cy="85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48360" y="1484280"/>
            <a:ext cx="1047960" cy="857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32120" y="3735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AVI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uter Graphics Research at Dept. of Computer Engine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5457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enchmark for Animated Ray Trac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ilm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ft shadow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ilm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daptive Geometrical Data structur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raphics hardware for mobile platform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ntialiasing schem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27960" y="1484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4600" y="2292480"/>
            <a:ext cx="18414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New Master’s thesis projects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a few good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mplementation and optimization of high-level API for graphics on mobile phon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ardware rasterization (VHDL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nteger ray trac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ont rende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REAK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Lecture 1: Real-time Rendering</a:t>
            </a: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      The Graphics Rendering Pipeline</a:t>
            </a:r>
            <a:endParaRPr b="1" lang="en-US" sz="32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hapter 2 in the book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pipeline is the ”engine” that creates images from 3D scen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ree conceptual stages of the pipelin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pplication (executed on the CPU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90720" y="5029200"/>
            <a:ext cx="2438280" cy="685800"/>
            <a:chOff x="990720" y="5029200"/>
            <a:chExt cx="2438280" cy="685800"/>
          </a:xfrm>
        </p:grpSpPr>
        <p:sp>
          <p:nvSpPr>
            <p:cNvPr id="141" name=""/>
            <p:cNvSpPr/>
            <p:nvPr/>
          </p:nvSpPr>
          <p:spPr>
            <a:xfrm>
              <a:off x="990720" y="5029200"/>
              <a:ext cx="1752480" cy="6858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5334120"/>
              <a:ext cx="68580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429000" y="5029200"/>
            <a:ext cx="2438280" cy="685800"/>
            <a:chOff x="3429000" y="5029200"/>
            <a:chExt cx="2438280" cy="685800"/>
          </a:xfrm>
        </p:grpSpPr>
        <p:sp>
          <p:nvSpPr>
            <p:cNvPr id="144" name=""/>
            <p:cNvSpPr/>
            <p:nvPr/>
          </p:nvSpPr>
          <p:spPr>
            <a:xfrm>
              <a:off x="3429000" y="5029200"/>
              <a:ext cx="1752480" cy="6858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5334120"/>
              <a:ext cx="68580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67280" y="5029200"/>
            <a:ext cx="2438640" cy="685800"/>
            <a:chOff x="5867280" y="5029200"/>
            <a:chExt cx="2438640" cy="685800"/>
          </a:xfrm>
        </p:grpSpPr>
        <p:sp>
          <p:nvSpPr>
            <p:cNvPr id="147" name=""/>
            <p:cNvSpPr/>
            <p:nvPr/>
          </p:nvSpPr>
          <p:spPr>
            <a:xfrm>
              <a:off x="5867280" y="5029200"/>
              <a:ext cx="1752840" cy="6858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0120" y="5334120"/>
              <a:ext cx="68580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07440" y="5714640"/>
            <a:ext cx="1749960" cy="1051200"/>
            <a:chOff x="307440" y="5714640"/>
            <a:chExt cx="1749960" cy="1051200"/>
          </a:xfrm>
        </p:grpSpPr>
        <p:sp>
          <p:nvSpPr>
            <p:cNvPr id="150" name=""/>
            <p:cNvSpPr/>
            <p:nvPr/>
          </p:nvSpPr>
          <p:spPr>
            <a:xfrm>
              <a:off x="1143000" y="5943600"/>
              <a:ext cx="914400" cy="822240"/>
            </a:xfrm>
            <a:prstGeom prst="ellipse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3D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scene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600200" y="5714640"/>
              <a:ext cx="0" cy="2286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7440" y="61722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02800" y="5029200"/>
            <a:ext cx="1064880" cy="1221840"/>
            <a:chOff x="8002800" y="5029200"/>
            <a:chExt cx="1064880" cy="1221840"/>
          </a:xfrm>
        </p:grpSpPr>
        <p:sp>
          <p:nvSpPr>
            <p:cNvPr id="154" name=""/>
            <p:cNvSpPr/>
            <p:nvPr/>
          </p:nvSpPr>
          <p:spPr>
            <a:xfrm>
              <a:off x="8305920" y="5029200"/>
              <a:ext cx="761760" cy="685800"/>
            </a:xfrm>
            <a:prstGeom prst="ellipse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eb"/>
                  </a:solidFill>
                  <a:latin typeface="Arial"/>
                </a:rPr>
                <a:t>Image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02800" y="57913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ndering Primitiv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graphics hardware for real time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se can render points, lines, triangles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surface is thus an approximation by a number of such primitives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3384720"/>
            <a:ext cx="3657600" cy="314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05520" y="3384720"/>
            <a:ext cx="3657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o am I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istant professor in Computer Graphic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uilding a new research group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ost Doc at CG group at University of Berkeley, CA, 20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hD in CG from Chalmers, 199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Sc in Computer Science and Engineering, LTH 199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You say that you render a            </a:t>
            </a:r>
            <a:r>
              <a:rPr b="1" i="1" lang="sv-SE" sz="3600" spc="-1" strike="noStrike">
                <a:solidFill>
                  <a:srgbClr val="ffff9b"/>
                </a:solidFill>
                <a:latin typeface="Arial"/>
              </a:rPr>
              <a:t>”3D scene”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, but what is it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rst, of all to take a picture, it takes a camera – a virtual one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Decides what should end up in the final imag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3D scene i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Geometry (triangles, lines, points, and more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ight sourc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aterial properties of geometr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extures (images to glue onto the geometry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triangle consists of 3 vertic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 vertex is 3D position, and may                              include normals and more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29040" y="4930920"/>
            <a:ext cx="2438640" cy="1644480"/>
            <a:chOff x="6629040" y="4930920"/>
            <a:chExt cx="2438640" cy="1644480"/>
          </a:xfrm>
        </p:grpSpPr>
        <p:sp>
          <p:nvSpPr>
            <p:cNvPr id="163" name=""/>
            <p:cNvSpPr/>
            <p:nvPr/>
          </p:nvSpPr>
          <p:spPr>
            <a:xfrm rot="1707000">
              <a:off x="7009920" y="5333760"/>
              <a:ext cx="1905120" cy="83808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629040" y="5181480"/>
              <a:ext cx="304920" cy="457200"/>
            </a:xfrm>
            <a:prstGeom prst="line">
              <a:avLst/>
            </a:prstGeom>
            <a:ln w="1260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153280" y="4952880"/>
              <a:ext cx="15264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610480" y="6172200"/>
              <a:ext cx="457200" cy="3808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Virtual Camera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fined by position, direction vector, up vector, field of view, near and far plane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865160" y="2270160"/>
            <a:ext cx="4459320" cy="3294720"/>
            <a:chOff x="1865160" y="2270160"/>
            <a:chExt cx="4459320" cy="3294720"/>
          </a:xfrm>
        </p:grpSpPr>
        <p:sp>
          <p:nvSpPr>
            <p:cNvPr id="170" name=""/>
            <p:cNvSpPr/>
            <p:nvPr/>
          </p:nvSpPr>
          <p:spPr>
            <a:xfrm>
              <a:off x="2514600" y="5394240"/>
              <a:ext cx="3809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2514600" y="2270160"/>
              <a:ext cx="3776760" cy="31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865160" y="470844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447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1640" y="493704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680" y="461628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47084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45558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0880" y="486108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fov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(angle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56386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reate image of geometry inside gray region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d by OpenGL, DirectX, ray tracing, etc.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ack to the pipeline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APPLICATION stage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ecuted on the CPU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eans that the programmer decides what happens her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llision detec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peed-up techniqu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ost important task: send rendering primitives (e.g. triangles) to the graphics hardw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GEOMETRY stag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ask: ”geometrical” operations on the input data (e.g. triangles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low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ove objects (matrix multiplication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ove the camera (matrix multiplication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mpute lighting at vertices of triang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roject onto screen (3D to 2D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lipping (avoid triangles outside screen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ap to window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imate objects and camera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animate in many different ways with 4x4 matrices (topic of next lectur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efore displaying a torus on screen, a matrix that represents a rotation can be applied. The result is that the torus is rotated.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ame thing with camera (this is possible since motion is relativ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stag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ain task: take output from GEOMETRY and turn into visible pixels on scree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66680" y="2514600"/>
            <a:ext cx="6705720" cy="2133720"/>
            <a:chOff x="1066680" y="2514600"/>
            <a:chExt cx="6705720" cy="2133720"/>
          </a:xfrm>
        </p:grpSpPr>
        <p:sp>
          <p:nvSpPr>
            <p:cNvPr id="209" name=""/>
            <p:cNvSpPr/>
            <p:nvPr/>
          </p:nvSpPr>
          <p:spPr>
            <a:xfrm flipV="1">
              <a:off x="1143000" y="2742840"/>
              <a:ext cx="533520" cy="15238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2743200"/>
              <a:ext cx="1523880" cy="10666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143000" y="3809880"/>
              <a:ext cx="2057400" cy="4572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6680" y="4191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029200" y="2742840"/>
              <a:ext cx="533520" cy="15238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2743200"/>
              <a:ext cx="1523880" cy="10666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029200" y="3809880"/>
              <a:ext cx="2057400" cy="45720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26668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8954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1240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3526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812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7080" y="38098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40384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67080" y="42670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4495680"/>
              <a:ext cx="35053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92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50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22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66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52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43800" y="2514600"/>
              <a:ext cx="0" cy="2133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40384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6400" y="31240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0" y="28954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0" y="2666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15000" y="28954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5000" y="31240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3600" y="31240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94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08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436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50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7800" y="40384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8098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64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64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150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33526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722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00800" y="3581280"/>
              <a:ext cx="2286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3505320"/>
              <a:ext cx="60984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14400" y="480060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lso, add textures and various other per-pixel operation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nd visibility is resolved here: sorts the primitives in the z-direction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wind!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Let’s take a closer look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programmer ”sends” down primtives to be rendered through the pipeline (using API calls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geometry stage does per-vertex oper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rasterizer stage does per-pixel oper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xt, scrutinize geometry and rasteriz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GEOMETRY                                 stage in more detail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9b"/>
                </a:solidFill>
                <a:latin typeface="Arial"/>
              </a:rPr>
              <a:t>The model transfor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riginally, an object is in ”model space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ove, orient, and transform geometrical objects into ”world space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, a sphere is defined with origin at (0,0,0) with radius 1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ranslate, rotate, scale to make it appear elsewhe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one per vertex with a 4x4 matrix multiplication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user can apply different matrices over time to animate objec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88000" y="6237360"/>
            <a:ext cx="1296720" cy="504720"/>
          </a:xfrm>
          <a:prstGeom prst="rect">
            <a:avLst/>
          </a:prstGeom>
          <a:solidFill>
            <a:srgbClr val="25357e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   The view transfor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You can move the camera in the same mann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ut apply inverse transform to objects, so that camera looks down negative z-axi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57160" y="3581280"/>
            <a:ext cx="3257640" cy="28386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343400" y="3581280"/>
            <a:ext cx="4686480" cy="3066120"/>
            <a:chOff x="4343400" y="3581280"/>
            <a:chExt cx="4686480" cy="306612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6095880" y="3581280"/>
              <a:ext cx="29340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43400" y="4952880"/>
              <a:ext cx="144792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800" y="5867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0840" y="6248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6248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30480" y="61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6237360"/>
            <a:ext cx="1296720" cy="504720"/>
          </a:xfrm>
          <a:prstGeom prst="rect">
            <a:avLst/>
          </a:prstGeom>
          <a:solidFill>
            <a:srgbClr val="25357e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             Light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pute ”lighting” at verti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38080" y="1981080"/>
            <a:ext cx="2971800" cy="2590920"/>
            <a:chOff x="838080" y="1981080"/>
            <a:chExt cx="2971800" cy="2590920"/>
          </a:xfrm>
        </p:grpSpPr>
        <p:sp>
          <p:nvSpPr>
            <p:cNvPr id="311" name=""/>
            <p:cNvSpPr/>
            <p:nvPr/>
          </p:nvSpPr>
          <p:spPr>
            <a:xfrm>
              <a:off x="990720" y="2819520"/>
              <a:ext cx="1143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6680" y="3962520"/>
              <a:ext cx="10670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90720" y="2819520"/>
              <a:ext cx="7596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990720" y="2362320"/>
              <a:ext cx="152280" cy="4572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066680" y="3580920"/>
              <a:ext cx="304920" cy="3812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33720" y="3885840"/>
              <a:ext cx="533160" cy="228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38280" y="22860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720" y="21337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1981080"/>
              <a:ext cx="2590920" cy="25909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9000" y="3200400"/>
              <a:ext cx="3808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809880" y="1981080"/>
            <a:ext cx="3504960" cy="2590920"/>
            <a:chOff x="3809880" y="1981080"/>
            <a:chExt cx="3504960" cy="2590920"/>
          </a:xfrm>
        </p:grpSpPr>
        <p:sp>
          <p:nvSpPr>
            <p:cNvPr id="322" name=""/>
            <p:cNvSpPr/>
            <p:nvPr/>
          </p:nvSpPr>
          <p:spPr>
            <a:xfrm>
              <a:off x="3809880" y="297180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24280" y="3200400"/>
              <a:ext cx="381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7400" y="2819520"/>
              <a:ext cx="1143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43720" y="3962520"/>
              <a:ext cx="10666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67400" y="2819520"/>
              <a:ext cx="763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1981080"/>
              <a:ext cx="2133360" cy="25909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63920" y="243828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blu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69600" y="39625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red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81800" y="403848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238880" y="2057400"/>
            <a:ext cx="1752840" cy="1905120"/>
            <a:chOff x="7238880" y="2057400"/>
            <a:chExt cx="1752840" cy="19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7620120" y="2590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238880" y="3200400"/>
              <a:ext cx="381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48720" y="205740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914400" y="48006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ry to mimic how light in nature behave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Hard to uses empirical models, hacks, and some real theory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Much more about this in later lectur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ory of Computer Graphic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You cannot do anything without i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course focuses much on the theo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 won’t tell you what the calls are in OpenGL, that’s the easy part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t also on the practical aspe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nce it is an ”advanced course”, you have to dive into the theory and practic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Look it up on the internet if you cannot understand some thing, or come ask me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ad and reread the book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            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major ways to do 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thogonal (useful in few applications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erspective (most often used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Mimics how humans perceive the world, i.e., objects’ apparent size decreases with distanc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295280" y="3622680"/>
            <a:ext cx="3571920" cy="32353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952880" y="3618000"/>
            <a:ext cx="3581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             Proje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so done with a matrix multiplication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inhole camera (left), analog used in CG (right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28600" y="3786120"/>
            <a:ext cx="4876920" cy="2171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257800" y="2833560"/>
            <a:ext cx="38862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             Clipping and Screen Mapp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quare (cube) after proj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lip primitives to squ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4400" y="2666880"/>
            <a:ext cx="2895480" cy="2057400"/>
            <a:chOff x="914400" y="2666880"/>
            <a:chExt cx="2895480" cy="2057400"/>
          </a:xfrm>
        </p:grpSpPr>
        <p:sp>
          <p:nvSpPr>
            <p:cNvPr id="362" name=""/>
            <p:cNvSpPr/>
            <p:nvPr/>
          </p:nvSpPr>
          <p:spPr>
            <a:xfrm>
              <a:off x="1295280" y="2666880"/>
              <a:ext cx="205740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914400" y="3382920"/>
              <a:ext cx="83808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8800" y="411480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95480" y="2971440"/>
              <a:ext cx="914400" cy="60948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95480" y="3581280"/>
              <a:ext cx="685800" cy="2286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581280" y="2971800"/>
              <a:ext cx="228600" cy="83808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191120" y="2666880"/>
            <a:ext cx="3504960" cy="2057400"/>
            <a:chOff x="4191120" y="2666880"/>
            <a:chExt cx="3504960" cy="2057400"/>
          </a:xfrm>
        </p:grpSpPr>
        <p:sp>
          <p:nvSpPr>
            <p:cNvPr id="369" name=""/>
            <p:cNvSpPr/>
            <p:nvPr/>
          </p:nvSpPr>
          <p:spPr>
            <a:xfrm>
              <a:off x="4191120" y="3657600"/>
              <a:ext cx="76176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38680" y="2666880"/>
              <a:ext cx="205740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638680" y="3382920"/>
              <a:ext cx="457200" cy="27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2200" y="411480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238880" y="3276720"/>
              <a:ext cx="457200" cy="30456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38880" y="3581280"/>
              <a:ext cx="457200" cy="15264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696080" y="3276720"/>
              <a:ext cx="0" cy="457200"/>
            </a:xfrm>
            <a:prstGeom prst="line">
              <a:avLst/>
            </a:prstGeom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1440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creen mapping, scales and translates square so that it ends up in a rendering window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se ”screen space coordinates” together with Z (depth) are sent to the rasterizer stag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EOMETRY                                Summar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304920"/>
            <a:ext cx="30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76320"/>
            <a:ext cx="914400" cy="457200"/>
          </a:xfrm>
          <a:prstGeom prst="rect">
            <a:avLst/>
          </a:prstGeom>
          <a:solidFill>
            <a:srgbClr val="00808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53280" y="76320"/>
            <a:ext cx="914400" cy="457200"/>
          </a:xfrm>
          <a:prstGeom prst="rect">
            <a:avLst/>
          </a:prstGeom>
          <a:solidFill>
            <a:srgbClr val="25357e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Rasterizer</a:t>
            </a:r>
            <a:endParaRPr b="0" lang="en-US" sz="1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304920"/>
            <a:ext cx="30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3680" y="1523880"/>
            <a:ext cx="1625400" cy="1934280"/>
            <a:chOff x="913680" y="1523880"/>
            <a:chExt cx="1625400" cy="1934280"/>
          </a:xfrm>
        </p:grpSpPr>
        <p:sp>
          <p:nvSpPr>
            <p:cNvPr id="384" name=""/>
            <p:cNvSpPr/>
            <p:nvPr/>
          </p:nvSpPr>
          <p:spPr>
            <a:xfrm>
              <a:off x="990720" y="1523880"/>
              <a:ext cx="1523880" cy="152424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15238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752480" y="1523880"/>
              <a:ext cx="0" cy="15242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00200" y="2133720"/>
              <a:ext cx="304920" cy="304560"/>
            </a:xfrm>
            <a:prstGeom prst="ellips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280" y="2209680"/>
              <a:ext cx="228600" cy="15264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1080" y="2057400"/>
              <a:ext cx="152640" cy="45720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13680" y="30592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model spac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590920" y="1523880"/>
            <a:ext cx="1936800" cy="1934280"/>
            <a:chOff x="2590920" y="1523880"/>
            <a:chExt cx="1936800" cy="1934280"/>
          </a:xfrm>
        </p:grpSpPr>
        <p:sp>
          <p:nvSpPr>
            <p:cNvPr id="392" name=""/>
            <p:cNvSpPr/>
            <p:nvPr/>
          </p:nvSpPr>
          <p:spPr>
            <a:xfrm>
              <a:off x="2590920" y="2286000"/>
              <a:ext cx="38088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03480" y="1523880"/>
              <a:ext cx="1524240" cy="152424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03480" y="2286000"/>
              <a:ext cx="1524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765600" y="1523880"/>
              <a:ext cx="0" cy="15242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32080" y="2590920"/>
              <a:ext cx="304920" cy="304560"/>
            </a:xfrm>
            <a:prstGeom prst="ellips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89280" y="1676520"/>
              <a:ext cx="228600" cy="15228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46480" y="2514600"/>
              <a:ext cx="152640" cy="45720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1080" y="3059280"/>
              <a:ext cx="15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world spac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4200" y="1828800"/>
              <a:ext cx="228600" cy="228600"/>
            </a:xfrm>
            <a:prstGeom prst="ellips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572000" y="1447920"/>
            <a:ext cx="2406600" cy="2010240"/>
            <a:chOff x="4572000" y="1447920"/>
            <a:chExt cx="2406600" cy="2010240"/>
          </a:xfrm>
        </p:grpSpPr>
        <p:sp>
          <p:nvSpPr>
            <p:cNvPr id="402" name=""/>
            <p:cNvSpPr/>
            <p:nvPr/>
          </p:nvSpPr>
          <p:spPr>
            <a:xfrm>
              <a:off x="6597720" y="2286000"/>
              <a:ext cx="38088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72000" y="1447920"/>
              <a:ext cx="2330280" cy="2010240"/>
              <a:chOff x="4572000" y="1447920"/>
              <a:chExt cx="2330280" cy="2010240"/>
            </a:xfrm>
          </p:grpSpPr>
          <p:sp>
            <p:nvSpPr>
              <p:cNvPr id="404" name=""/>
              <p:cNvSpPr/>
              <p:nvPr/>
            </p:nvSpPr>
            <p:spPr>
              <a:xfrm>
                <a:off x="4572000" y="2286000"/>
                <a:ext cx="380880" cy="0"/>
              </a:xfrm>
              <a:prstGeom prst="line">
                <a:avLst/>
              </a:prstGeom>
              <a:ln w="57240">
                <a:solidFill>
                  <a:srgbClr val="ffffe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29200" y="1523880"/>
                <a:ext cx="1523880" cy="152424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29200" y="2286000"/>
                <a:ext cx="1523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791320" y="1523880"/>
                <a:ext cx="0" cy="152424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257800" y="2590920"/>
                <a:ext cx="304920" cy="304560"/>
              </a:xfrm>
              <a:prstGeom prst="ellipse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15000" y="1676520"/>
                <a:ext cx="228600" cy="152280"/>
              </a:xfrm>
              <a:prstGeom prst="rect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514600"/>
                <a:ext cx="152280" cy="457200"/>
              </a:xfrm>
              <a:prstGeom prst="rect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96800" y="3059280"/>
                <a:ext cx="15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world spac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19920" y="1828800"/>
                <a:ext cx="228600" cy="228600"/>
              </a:xfrm>
              <a:prstGeom prst="ellipse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4876920" y="1523520"/>
                <a:ext cx="457200" cy="160020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76920" y="1523880"/>
                <a:ext cx="2025360" cy="1140120"/>
              </a:xfrm>
              <a:prstGeom prst="line">
                <a:avLst/>
              </a:prstGeom>
              <a:ln w="28440">
                <a:solidFill>
                  <a:srgbClr val="ffff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00600" y="1447920"/>
                <a:ext cx="152280" cy="152280"/>
              </a:xfrm>
              <a:prstGeom prst="ellipse">
                <a:avLst/>
              </a:prstGeom>
              <a:solidFill>
                <a:srgbClr val="ffff0b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76920" y="1523880"/>
                <a:ext cx="228600" cy="304920"/>
              </a:xfrm>
              <a:prstGeom prst="line">
                <a:avLst/>
              </a:prstGeom>
              <a:ln w="9360">
                <a:solidFill>
                  <a:srgbClr val="ffff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04920" y="3657600"/>
            <a:ext cx="2406960" cy="2304000"/>
            <a:chOff x="304920" y="3657600"/>
            <a:chExt cx="2406960" cy="2304000"/>
          </a:xfrm>
        </p:grpSpPr>
        <p:sp>
          <p:nvSpPr>
            <p:cNvPr id="418" name=""/>
            <p:cNvSpPr/>
            <p:nvPr/>
          </p:nvSpPr>
          <p:spPr>
            <a:xfrm>
              <a:off x="304920" y="4648320"/>
              <a:ext cx="45720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23880" y="52578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600200" y="4952520"/>
              <a:ext cx="0" cy="38124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914040" y="3733560"/>
              <a:ext cx="685800" cy="16002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1600200" y="3733560"/>
              <a:ext cx="762120" cy="16002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4114800"/>
              <a:ext cx="304920" cy="304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09800">
              <a:off x="1294920" y="380988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ffff0b"/>
                </a:gs>
                <a:gs pos="100000">
                  <a:srgbClr val="25357e"/>
                </a:gs>
              </a:gsLst>
              <a:lin ang="8100000"/>
            </a:gra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3657600"/>
              <a:ext cx="1600200" cy="182880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7880" y="556272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compute lighting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12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2901800">
              <a:off x="914040" y="4571640"/>
              <a:ext cx="228600" cy="152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024680" y="1203480"/>
            <a:ext cx="1816560" cy="2303640"/>
            <a:chOff x="7024680" y="1203480"/>
            <a:chExt cx="1816560" cy="2303640"/>
          </a:xfrm>
        </p:grpSpPr>
        <p:sp>
          <p:nvSpPr>
            <p:cNvPr id="430" name=""/>
            <p:cNvSpPr/>
            <p:nvPr/>
          </p:nvSpPr>
          <p:spPr>
            <a:xfrm>
              <a:off x="7786800" y="2803680"/>
              <a:ext cx="15228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862760" y="2498760"/>
              <a:ext cx="0" cy="380880"/>
            </a:xfrm>
            <a:prstGeom prst="line">
              <a:avLst/>
            </a:prstGeom>
            <a:ln w="9360">
              <a:solidFill>
                <a:srgbClr val="ffff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7176600" y="1279080"/>
              <a:ext cx="685800" cy="16002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862760" y="1279080"/>
              <a:ext cx="762120" cy="1600200"/>
            </a:xfrm>
            <a:prstGeom prst="line">
              <a:avLst/>
            </a:prstGeom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15400" y="1660680"/>
              <a:ext cx="304560" cy="304560"/>
            </a:xfrm>
            <a:prstGeom prst="ellips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09800">
              <a:off x="7557840" y="1355760"/>
              <a:ext cx="152280" cy="45720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1000" y="1203480"/>
              <a:ext cx="1600200" cy="182880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58880" y="3108240"/>
              <a:ext cx="178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camera spac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24680" y="1736640"/>
              <a:ext cx="228600" cy="228600"/>
            </a:xfrm>
            <a:prstGeom prst="ellips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2901800">
              <a:off x="7176600" y="2117520"/>
              <a:ext cx="228600" cy="15228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14600" y="3809880"/>
            <a:ext cx="2308320" cy="2304000"/>
            <a:chOff x="2514600" y="3809880"/>
            <a:chExt cx="2308320" cy="2304000"/>
          </a:xfrm>
        </p:grpSpPr>
        <p:sp>
          <p:nvSpPr>
            <p:cNvPr id="441" name=""/>
            <p:cNvSpPr/>
            <p:nvPr/>
          </p:nvSpPr>
          <p:spPr>
            <a:xfrm>
              <a:off x="2514600" y="4648320"/>
              <a:ext cx="38088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22720" y="3809880"/>
              <a:ext cx="1600200" cy="160020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52160" y="5410080"/>
              <a:ext cx="162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projectio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image spac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906800">
              <a:off x="4365720" y="4571640"/>
              <a:ext cx="228600" cy="2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75000" y="4267080"/>
              <a:ext cx="122400" cy="304920"/>
            </a:xfrm>
            <a:prstGeom prst="rect">
              <a:avLst/>
            </a:prstGeom>
            <a:gradFill rotWithShape="0">
              <a:gsLst>
                <a:gs pos="0">
                  <a:srgbClr val="ffff0b"/>
                </a:gs>
                <a:gs pos="100000">
                  <a:srgbClr val="25357e"/>
                </a:gs>
              </a:gsLst>
              <a:lin ang="8100000"/>
            </a:gra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17800" y="42670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2901800">
              <a:off x="2895120" y="4739760"/>
              <a:ext cx="304920" cy="2034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876920" y="3794040"/>
            <a:ext cx="2057400" cy="1999080"/>
            <a:chOff x="4876920" y="3794040"/>
            <a:chExt cx="2057400" cy="1999080"/>
          </a:xfrm>
        </p:grpSpPr>
        <p:sp>
          <p:nvSpPr>
            <p:cNvPr id="449" name=""/>
            <p:cNvSpPr/>
            <p:nvPr/>
          </p:nvSpPr>
          <p:spPr>
            <a:xfrm>
              <a:off x="5334120" y="3794040"/>
              <a:ext cx="1600200" cy="160020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89520" y="53942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clip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906800">
              <a:off x="6477120" y="4555800"/>
              <a:ext cx="228600" cy="2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86400" y="4251240"/>
              <a:ext cx="122400" cy="304920"/>
            </a:xfrm>
            <a:prstGeom prst="rect">
              <a:avLst/>
            </a:prstGeom>
            <a:gradFill rotWithShape="0">
              <a:gsLst>
                <a:gs pos="0">
                  <a:srgbClr val="ffff0b"/>
                </a:gs>
                <a:gs pos="100000">
                  <a:srgbClr val="25357e"/>
                </a:gs>
              </a:gsLst>
              <a:lin ang="8100000"/>
            </a:gra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76920" y="4648320"/>
              <a:ext cx="38088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010280" y="4038480"/>
            <a:ext cx="2100960" cy="1618200"/>
            <a:chOff x="7010280" y="4038480"/>
            <a:chExt cx="2100960" cy="1618200"/>
          </a:xfrm>
        </p:grpSpPr>
        <p:sp>
          <p:nvSpPr>
            <p:cNvPr id="455" name=""/>
            <p:cNvSpPr/>
            <p:nvPr/>
          </p:nvSpPr>
          <p:spPr>
            <a:xfrm>
              <a:off x="7391520" y="4038480"/>
              <a:ext cx="1676160" cy="1067040"/>
            </a:xfrm>
            <a:prstGeom prst="rect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7480" y="4098960"/>
              <a:ext cx="1524240" cy="9302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906800">
              <a:off x="8650080" y="4826880"/>
              <a:ext cx="136440" cy="1969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0120" y="4556160"/>
              <a:ext cx="115920" cy="177840"/>
            </a:xfrm>
            <a:prstGeom prst="rect">
              <a:avLst/>
            </a:prstGeom>
            <a:gradFill rotWithShape="0">
              <a:gsLst>
                <a:gs pos="0">
                  <a:srgbClr val="ffff0b"/>
                </a:gs>
                <a:gs pos="100000">
                  <a:srgbClr val="25357e"/>
                </a:gs>
              </a:gsLst>
              <a:lin ang="8100000"/>
            </a:gra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4572000"/>
              <a:ext cx="38124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16640" y="525780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map to scree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in more detail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can-convers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Find out which pixels are inside the primitiv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xtu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ut images on triangl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polation over triang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Z-buffe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Make sure that what is visible from the camera really is display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uble buffe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464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Scan convers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iangle vertices from GEOMETRY is inpu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Find pixels inside the triang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r on a line, or on a poin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 per-pixel operations on these pixel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nterpol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Z-buffe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d more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472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Interpol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terpolate colors over the triang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alled Gouraud interpol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480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969200" y="2422440"/>
            <a:ext cx="4736520" cy="1999080"/>
            <a:chOff x="1969200" y="2422440"/>
            <a:chExt cx="4736520" cy="1999080"/>
          </a:xfrm>
        </p:grpSpPr>
        <p:sp>
          <p:nvSpPr>
            <p:cNvPr id="486" name=""/>
            <p:cNvSpPr/>
            <p:nvPr/>
          </p:nvSpPr>
          <p:spPr>
            <a:xfrm>
              <a:off x="2367000" y="2803320"/>
              <a:ext cx="114300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43320" y="3946320"/>
              <a:ext cx="10666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7000" y="2803320"/>
              <a:ext cx="763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63520" y="242244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blu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69200" y="3946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red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81400" y="402264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5334120" y="272736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114800" y="3260520"/>
              <a:ext cx="3808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Textu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040" y="4038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s and other application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ore realism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ump mapp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seudo reflection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tore light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lmost infinitely many us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497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523880" y="2819520"/>
            <a:ext cx="1143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840040" y="2684880"/>
            <a:ext cx="1714320" cy="1183680"/>
            <a:chOff x="2840040" y="2684880"/>
            <a:chExt cx="1714320" cy="1183680"/>
          </a:xfrm>
        </p:grpSpPr>
        <p:sp>
          <p:nvSpPr>
            <p:cNvPr id="504" name=""/>
            <p:cNvSpPr/>
            <p:nvPr/>
          </p:nvSpPr>
          <p:spPr>
            <a:xfrm rot="20323800">
              <a:off x="3505320" y="2819160"/>
              <a:ext cx="914400" cy="914400"/>
            </a:xfrm>
            <a:prstGeom prst="rtTriangl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40040" y="3200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897440" y="2684880"/>
            <a:ext cx="1714320" cy="1183680"/>
            <a:chOff x="4897440" y="2684880"/>
            <a:chExt cx="1714320" cy="1183680"/>
          </a:xfrm>
        </p:grpSpPr>
        <p:sp>
          <p:nvSpPr>
            <p:cNvPr id="507" name=""/>
            <p:cNvSpPr/>
            <p:nvPr/>
          </p:nvSpPr>
          <p:spPr>
            <a:xfrm>
              <a:off x="4897440" y="3200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323800">
              <a:off x="5562720" y="2819160"/>
              <a:ext cx="914400" cy="91440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914400" y="1371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application of texturing is to ”glue” images onto geometrical object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88000" y="5589720"/>
            <a:ext cx="1297080" cy="504720"/>
          </a:xfrm>
          <a:prstGeom prst="rect">
            <a:avLst/>
          </a:prstGeom>
          <a:solidFill>
            <a:srgbClr val="25357e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Z-buff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graphics hardware is pretty stupi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t ”just” draws triangl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ever, a triangle that is covered by a more closely located triangle should not be visib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two equally large tris at different depth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514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14400" y="4876920"/>
            <a:ext cx="1447920" cy="1830960"/>
            <a:chOff x="914400" y="4876920"/>
            <a:chExt cx="1447920" cy="1830960"/>
          </a:xfrm>
        </p:grpSpPr>
        <p:sp>
          <p:nvSpPr>
            <p:cNvPr id="520" name=""/>
            <p:cNvSpPr/>
            <p:nvPr/>
          </p:nvSpPr>
          <p:spPr>
            <a:xfrm rot="20883600">
              <a:off x="1143000" y="5105160"/>
              <a:ext cx="914400" cy="914400"/>
            </a:xfrm>
            <a:prstGeom prst="rtTriangle">
              <a:avLst/>
            </a:prstGeom>
            <a:solidFill>
              <a:srgbClr val="25357e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4876920"/>
              <a:ext cx="1447920" cy="144792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1440" y="63090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Triangle 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14600" y="4876920"/>
            <a:ext cx="1447920" cy="1830600"/>
            <a:chOff x="2514600" y="4876920"/>
            <a:chExt cx="1447920" cy="1830600"/>
          </a:xfrm>
        </p:grpSpPr>
        <p:grpSp>
          <p:nvGrpSpPr>
            <p:cNvPr id="524" name=""/>
            <p:cNvGrpSpPr/>
            <p:nvPr/>
          </p:nvGrpSpPr>
          <p:grpSpPr>
            <a:xfrm>
              <a:off x="2514600" y="4876920"/>
              <a:ext cx="1447920" cy="1447560"/>
              <a:chOff x="2514600" y="4876920"/>
              <a:chExt cx="1447920" cy="1447560"/>
            </a:xfrm>
          </p:grpSpPr>
          <p:sp>
            <p:nvSpPr>
              <p:cNvPr id="525" name=""/>
              <p:cNvSpPr/>
              <p:nvPr/>
            </p:nvSpPr>
            <p:spPr>
              <a:xfrm>
                <a:off x="2514600" y="4876920"/>
                <a:ext cx="1447920" cy="144756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6813200">
                <a:off x="2867040" y="5138280"/>
                <a:ext cx="609120" cy="609480"/>
              </a:xfrm>
              <a:prstGeom prst="rtTriangle">
                <a:avLst/>
              </a:prstGeom>
              <a:solidFill>
                <a:srgbClr val="00cc66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2572560" y="630864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Triangle 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788360" y="4543560"/>
            <a:ext cx="1765800" cy="2163960"/>
            <a:chOff x="4788360" y="4543560"/>
            <a:chExt cx="1765800" cy="2163960"/>
          </a:xfrm>
        </p:grpSpPr>
        <p:grpSp>
          <p:nvGrpSpPr>
            <p:cNvPr id="529" name=""/>
            <p:cNvGrpSpPr/>
            <p:nvPr/>
          </p:nvGrpSpPr>
          <p:grpSpPr>
            <a:xfrm>
              <a:off x="4788360" y="4876920"/>
              <a:ext cx="1765800" cy="1830600"/>
              <a:chOff x="4788360" y="4876920"/>
              <a:chExt cx="1765800" cy="1830600"/>
            </a:xfrm>
          </p:grpSpPr>
          <p:sp>
            <p:nvSpPr>
              <p:cNvPr id="530" name=""/>
              <p:cNvSpPr/>
              <p:nvPr/>
            </p:nvSpPr>
            <p:spPr>
              <a:xfrm rot="20883600">
                <a:off x="5105520" y="5105160"/>
                <a:ext cx="914400" cy="914400"/>
              </a:xfrm>
              <a:prstGeom prst="rtTriangle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76920" y="4876920"/>
                <a:ext cx="1447560" cy="144756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76920" y="4876920"/>
                <a:ext cx="1447560" cy="144756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6813200">
                <a:off x="5229000" y="5138640"/>
                <a:ext cx="609840" cy="609480"/>
              </a:xfrm>
              <a:prstGeom prst="rtTriangle">
                <a:avLst/>
              </a:prstGeom>
              <a:solidFill>
                <a:srgbClr val="00cc66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88360" y="6308640"/>
                <a:ext cx="176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Draw 1 then 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974480" y="454356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incorrec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922080" y="4556160"/>
            <a:ext cx="1765800" cy="2151360"/>
            <a:chOff x="6922080" y="4556160"/>
            <a:chExt cx="1765800" cy="2151360"/>
          </a:xfrm>
        </p:grpSpPr>
        <p:grpSp>
          <p:nvGrpSpPr>
            <p:cNvPr id="537" name=""/>
            <p:cNvGrpSpPr/>
            <p:nvPr/>
          </p:nvGrpSpPr>
          <p:grpSpPr>
            <a:xfrm>
              <a:off x="6922080" y="4876920"/>
              <a:ext cx="1765800" cy="1830600"/>
              <a:chOff x="6922080" y="4876920"/>
              <a:chExt cx="1765800" cy="1830600"/>
            </a:xfrm>
          </p:grpSpPr>
          <p:sp>
            <p:nvSpPr>
              <p:cNvPr id="538" name=""/>
              <p:cNvSpPr/>
              <p:nvPr/>
            </p:nvSpPr>
            <p:spPr>
              <a:xfrm>
                <a:off x="7010280" y="4876920"/>
                <a:ext cx="1447920" cy="144756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10280" y="4876920"/>
                <a:ext cx="1447920" cy="144756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813200">
                <a:off x="7362360" y="5138280"/>
                <a:ext cx="609840" cy="609840"/>
              </a:xfrm>
              <a:prstGeom prst="rtTriangle">
                <a:avLst/>
              </a:prstGeom>
              <a:solidFill>
                <a:srgbClr val="00cc66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22080" y="6308640"/>
                <a:ext cx="176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000" spc="-1" strike="noStrike">
                    <a:solidFill>
                      <a:srgbClr val="ffffeb"/>
                    </a:solidFill>
                    <a:latin typeface="Arial"/>
                  </a:rPr>
                  <a:t>Draw 2 then 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883600">
                <a:off x="7238880" y="5105160"/>
                <a:ext cx="914400" cy="914400"/>
              </a:xfrm>
              <a:prstGeom prst="rtTriangle">
                <a:avLst/>
              </a:prstGeom>
              <a:solidFill>
                <a:srgbClr val="25357e"/>
              </a:solidFill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238160" y="455616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eb"/>
                  </a:solidFill>
                  <a:latin typeface="Arial"/>
                </a:rPr>
                <a:t>correct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ould be nice to avoid sorting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Z-buffer (aka depth buffer) solves thi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tore z (depth) at each pix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When scan-converting a triangle, compute z at each pixel on triang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mpare triangle’s z to Z-buffer z-valu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f triangle’s z is smaller, then replace Z-buffer and color buff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lse do noth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render in any ord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Z-buff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547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588000" y="5589720"/>
            <a:ext cx="1297080" cy="504720"/>
          </a:xfrm>
          <a:prstGeom prst="rect">
            <a:avLst/>
          </a:prstGeom>
          <a:solidFill>
            <a:srgbClr val="25357e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ree major parts of this course: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al-Time Render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erformance is extremely important.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eal-time is sof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ry to increase the level of realism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y Tracing and Global Illumina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igher level of realism: shadows and recursive reflection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T is the base for even more realistic algorithms (global illumination, e.g. photon mapping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roject: next slid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Double buff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monitor displays one image at a tim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 if we render the next image to screen, then rendered primitives pop u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d even worse, we often clear the screen before generating a new imag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better solution is ”double buffering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556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two buffers: one front and one back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front buffer is displaye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back buffer is rendered to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new image has been created in back buffer, swap front and back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RASTERIZER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	</a:t>
            </a: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        Double buffe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715000" y="76320"/>
            <a:ext cx="3352680" cy="457200"/>
            <a:chOff x="5715000" y="76320"/>
            <a:chExt cx="3352680" cy="457200"/>
          </a:xfrm>
        </p:grpSpPr>
        <p:sp>
          <p:nvSpPr>
            <p:cNvPr id="564" name=""/>
            <p:cNvSpPr/>
            <p:nvPr/>
          </p:nvSpPr>
          <p:spPr>
            <a:xfrm>
              <a:off x="571500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8720" y="304920"/>
              <a:ext cx="304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34320" y="76320"/>
              <a:ext cx="914400" cy="45720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53280" y="76320"/>
              <a:ext cx="914400" cy="457200"/>
            </a:xfrm>
            <a:prstGeom prst="rect">
              <a:avLst/>
            </a:prstGeom>
            <a:solidFill>
              <a:srgbClr val="008080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04920"/>
              <a:ext cx="3049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d, lately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rogrammable shading has become a hot topi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Vertex shader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ixel shader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dds more control and much more possibilities for the programm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187280" y="4437000"/>
            <a:ext cx="6480360" cy="2421000"/>
            <a:chOff x="1187280" y="4437000"/>
            <a:chExt cx="6480360" cy="2421000"/>
          </a:xfrm>
        </p:grpSpPr>
        <p:sp>
          <p:nvSpPr>
            <p:cNvPr id="572" name=""/>
            <p:cNvSpPr/>
            <p:nvPr/>
          </p:nvSpPr>
          <p:spPr>
            <a:xfrm>
              <a:off x="3132000" y="4437000"/>
              <a:ext cx="4535640" cy="2421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4869000"/>
              <a:ext cx="1700280" cy="84924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53040" y="5294160"/>
              <a:ext cx="56664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54560" y="4869000"/>
              <a:ext cx="1698480" cy="84924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Geometry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9680" y="4869000"/>
              <a:ext cx="1700280" cy="849240"/>
            </a:xfrm>
            <a:prstGeom prst="rect">
              <a:avLst/>
            </a:prstGeom>
            <a:solidFill>
              <a:srgbClr val="25357e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ffffeb"/>
                  </a:solidFill>
                  <a:latin typeface="Arial"/>
                </a:rPr>
                <a:t>Rasteriz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87560" y="5294160"/>
              <a:ext cx="5670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89040" y="4437000"/>
              <a:ext cx="195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276720" y="5734080"/>
            <a:ext cx="2016000" cy="1079640"/>
            <a:chOff x="3276720" y="5734080"/>
            <a:chExt cx="2016000" cy="1079640"/>
          </a:xfrm>
        </p:grpSpPr>
        <p:sp>
          <p:nvSpPr>
            <p:cNvPr id="580" name=""/>
            <p:cNvSpPr/>
            <p:nvPr/>
          </p:nvSpPr>
          <p:spPr>
            <a:xfrm>
              <a:off x="3276720" y="6048360"/>
              <a:ext cx="2016000" cy="765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Vertex shade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56000" y="5734080"/>
              <a:ext cx="0" cy="2872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508720" y="5734080"/>
            <a:ext cx="2016000" cy="1079640"/>
            <a:chOff x="5508720" y="5734080"/>
            <a:chExt cx="2016000" cy="1079640"/>
          </a:xfrm>
        </p:grpSpPr>
        <p:sp>
          <p:nvSpPr>
            <p:cNvPr id="583" name=""/>
            <p:cNvSpPr/>
            <p:nvPr/>
          </p:nvSpPr>
          <p:spPr>
            <a:xfrm>
              <a:off x="5508720" y="6048360"/>
              <a:ext cx="2016000" cy="765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Pixel shader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516720" y="5734080"/>
              <a:ext cx="0" cy="28728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Next lecture (tomorrow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nsforms (chapter 3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Details of how part of the geometry stage works and how it can be utliz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Visual appearance (chapter 4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ghting computation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ractical part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rojec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be anyth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3D gam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nder the most realistic image you ca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r come up with your own project – but you need to clear first with me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tart to think about this now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ill be grade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Your final grade: 0.5*project+0.5*exa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eed to pass both though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lectures are just a way to prepare you for the project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ractical Exercise (övn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on OpenG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othing advanc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Just so that everyone has a basic knowledg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ay trac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 that everyone can write a simple ray tracer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urpose: give everyone a base that they can build on for their projec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at’s where you learn stuff anyway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you need to know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near algebra and trigonometr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hort course – see Appendix A &amp; B in book.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Definitely read until next lecture, if you’re not confident with that material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-programm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ot hard to learn if you have not used it yet.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’m only here to help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you encounter a problem, or want to ask about something, or need a paper or book, or whatever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Go to my room 3464 in ”ED-huset”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Email me: </a:t>
            </a:r>
            <a:r>
              <a:rPr b="0" lang="sv-SE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ompa@ce.chalmers.s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all me: 031-772 5219 (office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ry Ulf Assarsson, room: ?? He’s on the floor above my room, uffe@ce.chalmers.s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are the results that are </a:t>
            </a:r>
            <a:br>
              <a:rPr sz="3600"/>
            </a:b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chievable with </a:t>
            </a:r>
            <a:br>
              <a:rPr sz="3600"/>
            </a:b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uter Graphics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5-12-14T07:27:55Z</dcterms:modified>
  <cp:revision>181</cp:revision>
  <dc:subject/>
  <dc:title>CS248</dc:title>
</cp:coreProperties>
</file>