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B70D-47ED-4F6A-94F2-99D7A831A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5949-C3C4-4A21-AC4D-2262BCFC7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2D18-897C-4208-8EEA-DA013DE75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E0F7-D1C9-4658-98DB-8F64E54FD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DEEB-EC4E-4453-8B78-6A378D73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3D660-F8F5-4105-B006-86AC2B87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81DBE-1CDC-43A4-B89B-5F82E9C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D660-3C20-4229-9F5E-FB94D84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665FE-75CE-472B-BAF1-4B03B059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CC64-D36F-4D06-A22B-1A2A62C7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448C1-5341-43D7-9A2E-259743F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AA11-00EE-4597-A611-0B2A49190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5BDFE-0695-4B5F-BF45-BB4A370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58F5-50AC-46EA-9543-38D6396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2459-96BD-4CA9-9068-C58DDBE5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59279-B122-47F9-903E-7E225FE7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5D64-7D54-467D-A2C6-63E568EC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E5FC-D66A-4E01-B621-8AC268C9B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EB98-40FE-44ED-B002-B6191FF8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3FA5-70CF-461B-9C01-C73679E76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BE00-B629-41DF-9BEC-CB3343CE5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AAC2-6660-420A-97B4-5487BA156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2616-E183-4167-84F3-B11ABE4ED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66B4-9405-4588-AF1B-AEECC15FE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58CD-7570-4420-9ACB-DC047C89E3E4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991D-C19A-424E-B801-9D299F130998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Graphics Hardwar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axanomy of hardwa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eed to sort from model space to screen spa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ives four major architectur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rt-firs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rt-middl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rt-Last Fragment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ort-Last Imag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ill describe these briefly, and then focus on sort-middle and sort-last fragment (used in commercial hardwar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rt-Firs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2499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rts primitives before geometry stag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creen in divided into large region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 separate pipeline is responsible for each region (or many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48600" y="-27000"/>
            <a:ext cx="189540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3535200"/>
            <a:ext cx="824400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 is geometry, FG &amp; FM is part of rasterizer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 fragment is all the generated information for a pixel on a triangle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G is Fragment Generation (finds which pixels are inside triangle)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M is Fragment Merge (merges the created fragments with various buffers (Z, color))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 explored much at all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rt-Midd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64659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orts betwen G and R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retty natural, since after G, we know the screen-space positions of the triangl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21400" y="0"/>
            <a:ext cx="1722600" cy="357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637000"/>
            <a:ext cx="80647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Most hardware uses this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Examples include InfiniteReality (from SGI)                            and the KYRO architecture (from Imagination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pread work arbitrarily among G’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n depending on screen-space position, sort to different R’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Screen can be split into ”tiles”. For example: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Rectangular blocks (8x8 pixels)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eb"/>
                </a:solidFill>
                <a:latin typeface="Arial"/>
              </a:rPr>
              <a:t>Every n scanlines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 R is responsible for rendering inside til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A triangle can be sent to many FG’s depending on overlap (over tiles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rt-Last Fragmen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23200" y="0"/>
            <a:ext cx="1720800" cy="357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1447920"/>
            <a:ext cx="6465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rts betwen FG and FM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XBOX uses this!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2455920"/>
            <a:ext cx="80647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gain spread work among G’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generated work is sent to FG’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n sort fragments to FM’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 FM is responsible for a tile of pixels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triangle is only sent to one FG, so this avoids doing the same work twic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ort-Middle: If a triangle overlaps several tiles, then the triangle is sent to all FG’s responsible for these tiles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sults in extra work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ort-Last Imag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6480" y="0"/>
            <a:ext cx="1757520" cy="364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1447920"/>
            <a:ext cx="6465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rts after entire pipelin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 each FG &amp; FM has a separate frame buffer for entire screen (Z and color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3174840"/>
            <a:ext cx="81360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fter all primitives have been sent to        pipeline, the z-buffers and color buffers are merged into one color buffer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be seen as a set of independent pipeline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uge memory requirements!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d in research, but probably not commerically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emory bandwidth usage is huge!!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 is read, W is write, T is texture, Z is Z-buffer, C is color buffer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ing 2 textures per pixel, and TR costs 24 bytes (triline MIP-mapping), the rest costs 32 bits (4 bytes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”normal” pixel cost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ZR+ZW+CW+2*TR=60 bytes per pixe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t 60 fps, 1280x1024: 4.5 Gb/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t a pixel is overwritten many times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verdraw=4 gives: 18 Gb/s 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n assume DDRAM at 300 MHz, 256 bits per access: 9.6 Gb/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18&gt;9.6 !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emory bandwidth, cont’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18&gt;9.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 top of that bandwith usage is never 100%, and we can also use more textures, anti-aliasing, to use up even more bandwidth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wever, there are many techniques to reduce bandwith usag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e caching with prefetch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e compress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Z-compress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Z-occlusion testing (HyperZ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Z-occlusion testing and Z-compress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way of reducing bandwidth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TI Inc., pioneered with their HyperZ technolog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Very simple, and very effectiv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ivide screen into tiles of 8x8 pixe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Keep a status memory on-chi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Very fast acces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Stores additional information that this algorithm us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nables occlusion culling on triangle basis, z-compression, and fast Z-clear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360" y="-100080"/>
            <a:ext cx="28800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9b"/>
                </a:solidFill>
                <a:latin typeface="Arial"/>
              </a:rPr>
              <a:t>Architecture of Z-cull and Z-compress</a:t>
            </a:r>
            <a:endParaRPr b="1" lang="en-US" sz="28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16360" y="-27000"/>
            <a:ext cx="6192720" cy="268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6920" y="2577960"/>
            <a:ext cx="831708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tore zmax per tile, and a flag (whether cleared, compressed/uncompressed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Rasterize one tile at a tim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est if zmin on triangle is farther away than tile’s zmax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f so, don’t do any work for that tile!!!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Saves texturing and z-read for entire tile – huge savings!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Otherwize read compressed Z-buffer, &amp; unpack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Write to unpacked Z-buffer, and when finished compress and send back to memory, and also: update zmax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For fast Z-clears: just set a flag to ”clear” for each til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Then we don’t need to read from Z-buffer, just send cleared Z for that til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Xbox game conso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24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ilt by Microsoft and NVIDIA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s almost a PC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entium III, 733 MHz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 extended GeForce3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y a console then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t stays constant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You don’t have to care about 20 different graphics cards, and CPUs from 100 MHz to 2GHz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95880" y="1447920"/>
            <a:ext cx="3513240" cy="23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62520" y="3962520"/>
            <a:ext cx="2379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raphics hardware – why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bout 100x faster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nother reason: about 100x faster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ple to pipeline and paralleliz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re is currently only hardware for triangle rasterization with texturing (e.g., OpenGL acceleration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ay tracing: there are research architetures, and one commercial produ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ore to come!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is a UMA machin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050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MA = unified memory architectu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Every component in the system accesses the same memor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5545080" cy="39272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5292720" y="2565360"/>
            <a:ext cx="3849840" cy="1944720"/>
            <a:chOff x="5292720" y="2565360"/>
            <a:chExt cx="3849840" cy="1944720"/>
          </a:xfrm>
        </p:grpSpPr>
        <p:sp>
          <p:nvSpPr>
            <p:cNvPr id="150" name=""/>
            <p:cNvSpPr/>
            <p:nvPr/>
          </p:nvSpPr>
          <p:spPr>
            <a:xfrm>
              <a:off x="5292720" y="3933720"/>
              <a:ext cx="1224000" cy="576360"/>
            </a:xfrm>
            <a:prstGeom prst="ellipse">
              <a:avLst/>
            </a:prstGeom>
            <a:noFill/>
            <a:ln w="5724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516360" y="3357720"/>
              <a:ext cx="1368360" cy="792000"/>
            </a:xfrm>
            <a:prstGeom prst="line">
              <a:avLst/>
            </a:prstGeom>
            <a:ln w="38160">
              <a:solidFill>
                <a:srgbClr val="ff0b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6080" y="2565360"/>
              <a:ext cx="225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We focus on th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GPU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Graphics Processing Unit (GPU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521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upports programmable vertex shader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 fixed-function geometry stag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s sort-last fragment architectu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asterizer: handles four pixels per clock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uns at 250 MHz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48240" y="836640"/>
            <a:ext cx="36957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geometry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tag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3006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1341360"/>
            <a:ext cx="38019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ual vertex shader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ame vertex program is executed on two vertices in parallell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924280"/>
            <a:ext cx="82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Vertex shader unit is a SIMD machine that operates on 4 components at a tim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e point is that instead of a fixed function geometry stage, we have now full control over animation of vertices and lighting etc.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s DMA (direct memory access), so that the GPU fetches vertices directly from memory by itself!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ree different caches – for better performance!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geometry stage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ach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2146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1268280"/>
            <a:ext cx="8121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re T&amp;L (transform &amp; lighting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Stores vertices fetched from mem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The idea is the avoid redundant memory fetche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A vertex is, on average, shared by 6 triangle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Has 4 kbytes of storag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ost T&amp;L cache: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Avoid running vertex shader more than once for same vertex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So it has storage for 16 transformed vertice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rimitive Assembly cache: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A transformed vertex requires a lot of memory, and so it takes a while to fetch a vertex from the Post T&amp;L cach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Can store 3 fully shaded vertice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s there to avoid fetches from Post T&amp;L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ffffeb"/>
                </a:solidFill>
                <a:latin typeface="Arial"/>
              </a:rPr>
              <a:t>Task of PA cache is to feed rasterizer with triangles</a:t>
            </a:r>
            <a:endParaRPr b="0" lang="en-US" sz="25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rasteriz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2436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First block: triangle setup (TS) and F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S computes various deltas (see slide 6) and other startup info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513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3463920"/>
            <a:ext cx="80647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his block also does Z-occlusion testing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FG generates fragments inside triangl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Tests 2x2 pixels at a time, and forwards these to the four pipelines that follow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Note: near edges, not all pixels are inside triangles, and therefore 0-3 pipelines may be idl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There are many strategies on how to find which fragments are inside triangle, but exactly how this is done on the XBOX is not known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rasteriz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09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14400" y="1447920"/>
            <a:ext cx="452124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rting is done after FG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ort-last fragment arch.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rst: 2 texture units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an be run twice </a:t>
            </a:r>
            <a:r>
              <a:rPr b="0" lang="sv-SE" sz="22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 4 texture lookups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535200"/>
            <a:ext cx="80647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C (register combiners) operate on the filtered texel values from TC and from interpolated shading over triangle (programmable too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an be used for bump mapping, for example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inally, result from TXs, RCs, shading interpolation, fog interpolation is merged into a final color for that pixel 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1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1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rasterizer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ragment merg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combiner produced a final color for the pixel on a triangl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G merges this with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olor in color buffer (alpha blending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spect to Z-buffe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tencil test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lpha test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Z-compression and decompression is handled here as wel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rites final color over the system memory bu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texture swizzl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 technique to improve usage of locality in textur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ot likely that we will access texels in a linear fashion (i.e., one scanline at a time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Use swizzling instea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,v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n-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…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n-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…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i 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d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 v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i  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re bits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of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and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inear (normal): 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(width*v+u)*bytes_per_color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stead: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n-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n-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…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1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0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* 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ytes_per_color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textur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izzl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51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access technique gives the following pattern (4 bytes/color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is a space-filling curve, and those are often designed so that coherency usage is improve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: bilinear filter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211640" y="0"/>
            <a:ext cx="4932360" cy="5565240"/>
            <a:chOff x="4211640" y="0"/>
            <a:chExt cx="4932360" cy="55652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4211640" y="0"/>
              <a:ext cx="4932360" cy="49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724280" y="5105520"/>
              <a:ext cx="31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Almost a Hilbert curv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Xbox conclus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(Almost) a PC with great graphics hardw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rt-last fragment architect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2 vertex shader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4 pixel pipelines @ 250 MHz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rogrammable per pixel as wel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ne of the best consoles right now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ot for long though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oday’s topic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basics of ”perspective correct texturing”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ackground on graphics hardw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architecture of the XBOX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architecture of the KYRO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re is very little documentation on graphics architectures…</a:t>
            </a:r>
            <a:r>
              <a:rPr b="0" lang="sv-SE" sz="3200" spc="-1" strike="noStrike">
                <a:solidFill>
                  <a:srgbClr val="ffffeb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KYRO – a different architectu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ased on cost-effective PowerVR architectur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ile-base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or KYRO II: 32x16 pixel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undamental differenc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or entire scene, do this: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ind all triangles inside each ti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nder all triangle inside ti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dvantage: can implement temporary color, stencil, and Z-buffer in fast on-chip memo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aves memory and memory bandwidth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laims to save 2/3 of bandwidth compared to traditional architecture (without Z-occlusion testing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KYRO architecture overview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057800" cy="185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4400" y="3284640"/>
            <a:ext cx="800100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PU sends triangle data to KYRO II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ile Accelerator (TA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eed an entire scene before ISP and TSP blocks can start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o TA works on the next image, while ISP and TSP works on the current image (i.e., they work in a pipelined fashion)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A sorts triangles, and creates a list of triangle pointers for each tile (for tris inside tile)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KYRO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0503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ile accelerator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When all triangle for entire scene are sorted into tiles, the TA can send tile data to next block ISP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d the TA then continues on the next frame’s sorting in parallel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mage synthesis processor (ISP)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mplements Z-buffer, color buffer, stencil buffer for ti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d occlusion culling (similar to Z-occlusion testing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Test 32 pixels at a time against Z-buffer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Records which pixels are visibl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Groups pixels with same texture and sends to TSP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These are guaranteed to be visible, so we only texture each pixel onc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KYRO: TSP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54400" y="0"/>
            <a:ext cx="4989600" cy="130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4400" y="1447920"/>
            <a:ext cx="80503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xture and Shading Processor (TSP):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Handles texturing and shading interpolation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Has two pipelines that run in parallell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2 pixels per clock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use 8 textures at most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s implemented by ”looping” in TSP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.e., not full speed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xture data is fetched from local memory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upersampling: 2x1, 1x2, and 2x2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nders a larger image and filters and scales down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or 2x2: Need only 4x the size of tile (or rather, render 4x as many tiles, i.e., need not 4x memory)</a:t>
            </a:r>
            <a:endParaRPr b="0" lang="en-US" sz="2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KYRO: pros  and con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Uses a small amount of very fast memo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duces bandwidth greatl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duces frame buffer memory greatl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ut more local memory is needed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For tile sort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mount of local memory places a limit on how many triangles can be rendered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3 MB can handle a little over 30,000 triangl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esign is parall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dd more pipelines that can handle the rest of the architecture that follows the Tile Accelerato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ut bottleneck will (likely) move, and so not sure how much can be gained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hallenges for the futu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ntinue to push the frontier of ”normal” graphics hardwa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How long can the ”2x performance per 6 months” keep up?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Keep adding new features…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Next generation is expected to be massively programmable, both at vertices and at pixel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other goal is to make rendering more realistic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Do this by developing new algorithms for the programmable hardwar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hallenges for the futu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8001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Design a new architecture targeted for global illumin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Very few have focused on ”ray tracing”- based algorithms so far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t is time now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ould be nice with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apid intersection testing of curved surfaces in hardwa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apid traversal of spatial data struc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Handling of very large scene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Standard graphics hardware can handle quite good because a triangle can be discared once it has been rendered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Ray tracing-based algorithms cannot do this, because it renders shadows and reflections and therefore need to know of geometry nearb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Photon mapping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hallenges for the futur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sign really small architectures with really scarce resourc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ttle chip area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ttle memor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ttle bandwidth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 that it can be used in mobile devices, e.g., PalmPilot’s, phones, etc.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raphics hardware conclus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Possible to build great hardware for standard triangle render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asons: pixel independency, parallellism, pipelining, etc.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ay tracing-based hardware will com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t has been shown that commodity graphics hardware can be used for ray tracing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ee paper by Tim Purcell et al., SIGGRAPH 2002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 sure what will happen in the future, but it will happen pretty fas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”</a:t>
            </a: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it will be utterly fantastic”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erspective-correct textur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0503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How is texture coordinates interpolated over a triangle?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Linearly?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95280" y="2421000"/>
            <a:ext cx="4354560" cy="2710800"/>
            <a:chOff x="395280" y="2421000"/>
            <a:chExt cx="4354560" cy="27108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435456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042200" y="467208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Linear interpolatio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711680" y="2421000"/>
            <a:ext cx="4479840" cy="2710800"/>
            <a:chOff x="4711680" y="2421000"/>
            <a:chExt cx="4479840" cy="27108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788000" y="2421000"/>
              <a:ext cx="4356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11680" y="4672080"/>
              <a:ext cx="44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eb"/>
                  </a:solidFill>
                  <a:latin typeface="Times New Roman"/>
                </a:rPr>
                <a:t>Perspective-correct interpolation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00000" y="5157720"/>
            <a:ext cx="805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erspective-correct interpolation gives foreshortening effect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Hardware does this for you, but you need to understand this anyway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call the following, and then we change notation a bi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efore projection,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and after </a:t>
            </a: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p  (p=Mv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fter projection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not 1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omogenization: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x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/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w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y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/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w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z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/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w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write and change notation to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w=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nd instead use: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x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y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z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w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fter homogenization: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x 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y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2600" spc="-1" strike="noStrike" baseline="-25000">
                <a:solidFill>
                  <a:srgbClr val="ffffeb"/>
                </a:solidFill>
                <a:latin typeface="Times New Roman"/>
              </a:rPr>
              <a:t>z</a:t>
            </a: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, </a:t>
            </a:r>
            <a:r>
              <a:rPr b="0" lang="sv-SE" sz="2600" spc="-1" strike="noStrike">
                <a:solidFill>
                  <a:srgbClr val="ffffeb"/>
                </a:solidFill>
                <a:latin typeface="Times New Roman"/>
              </a:rPr>
              <a:t>1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so, remember that visible points,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x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y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p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z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, 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1),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re inside a unit-cube: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(-1,-1,-1) </a:t>
            </a:r>
            <a:r>
              <a:rPr b="0" lang="sv-SE" sz="26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 (1,1,1)  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exture coordinate interpol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Linear interpolation does not wor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Rational linear interpolation do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x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ax+b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 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/ 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cx+d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a,b,c,d</a:t>
            </a: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 are computed from triangle’s vertices (x,y,z,w,u,v)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Not really efficien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marter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Compute 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,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,1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 </a:t>
            </a: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per vertex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These quantities can be linearly interpolated!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Then at each pixel, compute 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1/(1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=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And obtain: 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w*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u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,w*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v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/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=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u,v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The 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1900" spc="-1" strike="noStrike">
                <a:solidFill>
                  <a:srgbClr val="ffffeb"/>
                </a:solidFill>
                <a:latin typeface="Times New Roman"/>
              </a:rPr>
              <a:t>u,v</a:t>
            </a:r>
            <a:r>
              <a:rPr b="0" lang="sv-SE" sz="19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 are perspectively-correct interpolated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Need to interpolate shading this way too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Though, not as annoying as textures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Since linear interpolation now is OK, compute, e.g., </a:t>
            </a:r>
            <a:r>
              <a:rPr b="0" lang="sv-SE" sz="2400" spc="-1" strike="noStrike">
                <a:solidFill>
                  <a:srgbClr val="ffffeb"/>
                </a:solidFill>
                <a:latin typeface="Symbol"/>
                <a:ea typeface="Symbol"/>
              </a:rPr>
              <a:t>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2400" spc="-1" strike="noStrike">
                <a:solidFill>
                  <a:srgbClr val="ffffeb"/>
                </a:solidFill>
                <a:latin typeface="Times New Roman"/>
              </a:rPr>
              <a:t>u/w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)/</a:t>
            </a:r>
            <a:r>
              <a:rPr b="0" lang="sv-SE" sz="2400" spc="-1" strike="noStrike">
                <a:solidFill>
                  <a:srgbClr val="ffffeb"/>
                </a:solidFill>
                <a:latin typeface="Symbol"/>
                <a:ea typeface="Symbol"/>
              </a:rPr>
              <a:t></a:t>
            </a:r>
            <a:r>
              <a:rPr b="0" i="1" lang="sv-SE" sz="2400" spc="-1" strike="noStrike">
                <a:solidFill>
                  <a:srgbClr val="ffffeb"/>
                </a:solidFill>
                <a:latin typeface="Times New Roman"/>
              </a:rPr>
              <a:t>x, </a:t>
            </a: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and use this to update u/w when stepping in the x-direction (similarly for other parameters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ackground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Graphics hardware architectur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volution of graphics hardware has started from the end of the pipe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Rasterizer was put into hardware first (most performance to gain from this)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en the geometry stag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pplication will not be put into hardware!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wo major ways of getting better performance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ipelin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Parallelliz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mbinations of these are often used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-27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riefly about pipelin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n GeForce3: 600-800 pipeline stages!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57 million transistor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Pentium IV: 20 stages, 42 million transistor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ewer cards: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Radeon 9700: 110M transistors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eb"/>
                </a:solidFill>
                <a:latin typeface="Arial"/>
              </a:rPr>
              <a:t>GeForce FX 5800: 125 M transistors, 500 MHz</a:t>
            </a:r>
            <a:endParaRPr b="0" lang="en-US" sz="1900" spc="-1" strike="noStrike">
              <a:solidFill>
                <a:srgbClr val="ffffeb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Ideally: n stages </a:t>
            </a:r>
            <a:r>
              <a:rPr b="0" lang="sv-SE" sz="20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 n times throughpu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But latency increases!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However, not a problem her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Chip runs at about 200 MHz (5ns per clock)</a:t>
            </a:r>
            <a:endParaRPr b="0" lang="en-US" sz="1400" spc="-1" strike="noStrike">
              <a:solidFill>
                <a:srgbClr val="ffffeb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5ns*700=3.5 </a:t>
            </a:r>
            <a:r>
              <a:rPr b="0" lang="sv-SE" sz="1400" spc="-1" strike="noStrike">
                <a:solidFill>
                  <a:srgbClr val="ffffeb"/>
                </a:solidFill>
                <a:latin typeface="Symbol"/>
                <a:ea typeface="Symbol"/>
              </a:rPr>
              <a:t></a:t>
            </a: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eb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eb"/>
                </a:solidFill>
                <a:latin typeface="Arial"/>
              </a:rPr>
              <a:t>We got about 20 ms per frame (50 frames per second)</a:t>
            </a:r>
            <a:endParaRPr b="0" lang="en-US" sz="1400" spc="-1" strike="noStrike">
              <a:solidFill>
                <a:srgbClr val="ffffeb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eb"/>
                </a:solidFill>
                <a:latin typeface="Arial"/>
              </a:rPr>
              <a:t>Graphics hardware is simpler to pipeline because: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Pixels are (most often) independent of each other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Few branches and much fixed functionalit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Don’t need high clock freq: bandwidth to memory is bottleneck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74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ffffeb"/>
                </a:solidFill>
                <a:latin typeface="Arial"/>
              </a:rPr>
              <a:t>This is changing with increased programmability</a:t>
            </a:r>
            <a:endParaRPr b="0" lang="en-US" sz="1500" spc="-1" strike="noStrike">
              <a:solidFill>
                <a:srgbClr val="ffffe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eb"/>
                </a:solidFill>
                <a:latin typeface="Arial"/>
              </a:rPr>
              <a:t>Simpler to predict memory access pattern (do prefecthing!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1556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9b"/>
                </a:solidFill>
                <a:latin typeface="Arial"/>
              </a:rPr>
              <a:t>Parallellism</a:t>
            </a:r>
            <a:endParaRPr b="1" lang="en-US" sz="32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475920"/>
            <a:ext cx="8121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”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ple” idea: compute n results in parallel, then combine resul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GeForce FX 5800: 8 pixels/clock, 16 textures/cloc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With a pipeline of several 100 stages, there are many pixels being processed simultaneously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 always simple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Try to parallelize a sorting algorithm…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But pixels are independent of each other, so simpler for graphics hardwa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n parallellize both geometry and rasterizer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4727520"/>
            <a:ext cx="48960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3-05-13T13:00:25Z</dcterms:modified>
  <cp:revision>270</cp:revision>
  <dc:subject/>
  <dc:title>CS248</dc:title>
</cp:coreProperties>
</file>